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C1B-31AB-4B7B-84CA-1680AE24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64C-0671-4033-BB42-14C6D34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719-5177-438F-B2DA-8E200224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4A6-68F4-49AD-BCAC-C9B358FF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6BA2-BB55-4CE7-A408-3179072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541F-ECB7-446A-9E31-EC785577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D00-FB36-4142-AEB2-B4D7C46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3913-AC2C-41A7-8630-601E3462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FB4E-6898-40BC-868B-123F7CE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4C60-D287-4498-B132-445915A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FD9-270A-438E-8ECF-898BC6B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352-B4A5-490B-9D40-C2C1806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BF16-0086-469C-A6AB-F9B0A04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FF29-DDF3-4289-A1C2-BBE3869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5CE-A062-4584-B615-7748C31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47E0-257E-475A-B763-0CD91701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DF42-6384-4439-A09A-1DFC5666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C6FF-564D-4C53-9768-2A684C01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3A99-43E9-48AA-BC9E-5074262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3463-83CD-44A0-AB57-8D8DE6B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C28E-F1CA-4A81-864E-24EB180A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E5A6-DE31-4830-B140-8914A52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536-C4E1-438B-86AB-22CF6A9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189D-3324-40D7-B560-1EE671A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EBB0-D798-47BC-83FB-31A3C65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152F-9013-4C5A-8F3E-65C96099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94D0-92B4-448F-ADFA-6B8A8EA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E85F-CD72-4364-A757-66BE0680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B4AF-4991-4979-8D7F-7BF7B215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2968-B7E6-42E8-8C3E-00790E28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4796-5286-4AB9-896F-A94DB8C1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F762-3ABF-4794-952A-67B8E0B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21C4-4DE2-4405-A7F3-ED0FF64C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76F-7311-4676-A475-D65921A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6A9C-A3C5-4059-B16B-1B7D8A0D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86B4-6222-4B22-8350-2F26F7A5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8522-1BDB-49AE-AE4E-F557153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0E1A-D6AA-46A7-A3B3-E6EB1AFA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BF0B-F3F2-4F5B-A31D-66D3CD2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20AD-5895-4ED1-9613-C2C12A6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D527-DDD7-44F6-B0A1-13AD420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7416-1967-4A7B-890F-6F8D3E80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A2E6-8954-49E5-8356-56ECE88A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FE2E-DB5F-413E-AEFC-F5D89875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4EA-DD5F-4E01-81CA-EFCB28DD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09E9-3FF2-474A-9F1D-5C1CCCF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344F-6712-45C4-BB83-DE20730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98A0-33DE-4444-BED3-780AC44E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57D6-3E27-486A-80E0-8BE7A70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6616-A2F2-4640-B91F-1ADC3BD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7004D-9D1A-4337-9FE1-485D2108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10D5-16BA-4439-971D-360C44AD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8BB8-D70B-44B5-901C-6EE5017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184D-1772-4691-AD76-C4506C2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E3A6-7871-4A68-867B-8B6CBA7D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7F7-4663-4351-85EF-A1854A1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D951-0321-4B0F-BFA6-FA293C4F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7186-FA5D-48EA-A9EB-0A588148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138D-1D95-486E-9E6C-836380E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BC941-12E9-483B-9BF5-D50D432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47BA-DA23-4A13-821E-4BC539C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010B-AAE9-4544-849E-36A0529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7A5F-7D70-465E-927C-D3FE43F4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23B06-A74D-48DB-B5E9-EFDA08D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190B-BE40-4CA5-841A-F229F20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F7483-362D-4165-9168-4C127ED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9A5-5670-4813-A7A3-AA61F33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BD3D-5424-46C7-850A-3C50371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8512-C6B5-4F65-900B-C38CC46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4294-8C43-456D-958C-1CEBC4C7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0DD-F254-44B2-87EE-6458C5B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593-DD4A-4D3A-B8E1-73A31EA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ADC-9F78-439A-95AB-83D19BF5E9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C68-A7D4-4D6F-BBEC-F360BBCA23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6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6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6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75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9480"/>
                    <a:gd name="textAreaBottom" fmla="*/ 1239840 h 12394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8680"/>
                    <a:gd name="textAreaBottom" fmla="*/ 509040 h 5086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7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8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96BE-D130-46F8-AB74-1CE756B5162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5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A64E-F593-4D6E-B96F-060ECF0A82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1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15C-1402-403F-AF36-36301BA065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385" name="Group 3"/>
            <p:cNvGrpSpPr/>
            <p:nvPr/>
          </p:nvGrpSpPr>
          <p:grpSpPr>
            <a:xfrm>
              <a:off x="5401800" y="61200"/>
              <a:ext cx="3628440" cy="6140880"/>
              <a:chOff x="5401800" y="61200"/>
              <a:chExt cx="3628440" cy="6140880"/>
            </a:xfrm>
          </p:grpSpPr>
          <p:sp>
            <p:nvSpPr>
              <p:cNvPr id="386" name="Freeform 4"/>
              <p:cNvSpPr/>
              <p:nvPr/>
            </p:nvSpPr>
            <p:spPr>
              <a:xfrm flipV="1" rot="11970000">
                <a:off x="6582240" y="34668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Freeform 5"/>
              <p:cNvSpPr/>
              <p:nvPr/>
            </p:nvSpPr>
            <p:spPr>
              <a:xfrm flipV="1" rot="11970000">
                <a:off x="7421760" y="196380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Freeform 6"/>
              <p:cNvSpPr/>
              <p:nvPr/>
            </p:nvSpPr>
            <p:spPr>
              <a:xfrm flipV="1" rot="11970000">
                <a:off x="68234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Freeform 7"/>
              <p:cNvSpPr/>
              <p:nvPr/>
            </p:nvSpPr>
            <p:spPr>
              <a:xfrm flipV="1" rot="11970000">
                <a:off x="7250400" y="672840"/>
                <a:ext cx="388800" cy="5515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1520"/>
                  <a:gd name="textAreaBottom" fmla="*/ 552240 h 5515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 flipV="1" rot="11970000">
                <a:off x="7146360" y="265464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1" name="Freeform 9"/>
              <p:cNvSpPr/>
              <p:nvPr/>
            </p:nvSpPr>
            <p:spPr>
              <a:xfrm flipV="1" rot="11970000">
                <a:off x="7131600" y="124488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 flipV="1" rot="11970000">
                <a:off x="5932440" y="294012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03" name="Group 21"/>
            <p:cNvGrpSpPr/>
            <p:nvPr/>
          </p:nvGrpSpPr>
          <p:grpSpPr>
            <a:xfrm>
              <a:off x="5642640" y="279360"/>
              <a:ext cx="892800" cy="825840"/>
              <a:chOff x="5642640" y="279360"/>
              <a:chExt cx="892800" cy="825840"/>
            </a:xfrm>
          </p:grpSpPr>
          <p:sp>
            <p:nvSpPr>
              <p:cNvPr id="404" name="Freeform 22"/>
              <p:cNvSpPr/>
              <p:nvPr/>
            </p:nvSpPr>
            <p:spPr>
              <a:xfrm rot="14908200">
                <a:off x="5754240" y="7743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" name="Freeform 23"/>
              <p:cNvSpPr/>
              <p:nvPr/>
            </p:nvSpPr>
            <p:spPr>
              <a:xfrm rot="14908200">
                <a:off x="5703480" y="45396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Freeform 24"/>
              <p:cNvSpPr/>
              <p:nvPr/>
            </p:nvSpPr>
            <p:spPr>
              <a:xfrm rot="14908200">
                <a:off x="6246000" y="3790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07" name="Group 25"/>
            <p:cNvGrpSpPr/>
            <p:nvPr/>
          </p:nvGrpSpPr>
          <p:grpSpPr>
            <a:xfrm>
              <a:off x="968400" y="5252040"/>
              <a:ext cx="1059480" cy="830880"/>
              <a:chOff x="968400" y="5252040"/>
              <a:chExt cx="1059480" cy="830880"/>
            </a:xfrm>
          </p:grpSpPr>
          <p:sp>
            <p:nvSpPr>
              <p:cNvPr id="408" name="Freeform 26"/>
              <p:cNvSpPr/>
              <p:nvPr/>
            </p:nvSpPr>
            <p:spPr>
              <a:xfrm rot="8524800">
                <a:off x="1711080" y="551700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8524800">
                <a:off x="1194120" y="572832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0" name="Freeform 28"/>
              <p:cNvSpPr/>
              <p:nvPr/>
            </p:nvSpPr>
            <p:spPr>
              <a:xfrm rot="8524800">
                <a:off x="960120" y="537624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1" name="Group 29"/>
            <p:cNvGrpSpPr/>
            <p:nvPr/>
          </p:nvGrpSpPr>
          <p:grpSpPr>
            <a:xfrm>
              <a:off x="375840" y="428760"/>
              <a:ext cx="1690200" cy="1146600"/>
              <a:chOff x="375840" y="428760"/>
              <a:chExt cx="1690200" cy="1146600"/>
            </a:xfrm>
          </p:grpSpPr>
          <p:sp>
            <p:nvSpPr>
              <p:cNvPr id="412" name="Freeform 30"/>
              <p:cNvSpPr/>
              <p:nvPr/>
            </p:nvSpPr>
            <p:spPr>
              <a:xfrm flipH="1" rot="4107000">
                <a:off x="1576080" y="10472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31"/>
              <p:cNvSpPr/>
              <p:nvPr/>
            </p:nvSpPr>
            <p:spPr>
              <a:xfrm flipH="1" rot="4107000">
                <a:off x="1022760" y="5724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32"/>
              <p:cNvSpPr/>
              <p:nvPr/>
            </p:nvSpPr>
            <p:spPr>
              <a:xfrm flipH="1" rot="4107000">
                <a:off x="278640" y="10861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5" name="Group 33"/>
            <p:cNvGrpSpPr/>
            <p:nvPr/>
          </p:nvGrpSpPr>
          <p:grpSpPr>
            <a:xfrm>
              <a:off x="7399800" y="3712320"/>
              <a:ext cx="1155600" cy="1607760"/>
              <a:chOff x="7399800" y="3712320"/>
              <a:chExt cx="1155600" cy="1607760"/>
            </a:xfrm>
          </p:grpSpPr>
          <p:sp>
            <p:nvSpPr>
              <p:cNvPr id="416" name="Freeform 34"/>
              <p:cNvSpPr/>
              <p:nvPr/>
            </p:nvSpPr>
            <p:spPr>
              <a:xfrm flipH="1" rot="10015800">
                <a:off x="74545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Freeform 35"/>
              <p:cNvSpPr/>
              <p:nvPr/>
            </p:nvSpPr>
            <p:spPr>
              <a:xfrm flipH="1" rot="10015800">
                <a:off x="79052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 flipH="1" rot="10015800">
                <a:off x="75978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8FEB-1B88-4D8D-86D7-2759AB80123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The Degrees of Comparison Adjectives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55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ктически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ктивизировать употребление прилагательных при описании лиц и предме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репить лексический материал по тем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ершенствовать навыки аудирования, диалогической и монологической ре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вать логическое мышле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ать интерес к изучению английского язы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творческих способностей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483552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800080"/>
                </a:solidFill>
                <a:latin typeface="Arial"/>
              </a:rPr>
              <a:t>Old – young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280" y="333000"/>
            <a:ext cx="396108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Big –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Nice – nau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4859280" y="558972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Bad -go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3851280" y="213372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eautiful – ugl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395280" y="1341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Fast – sl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4140360" y="414972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Cold - ho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900000" y="259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Степени сравнения прилагательны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324000" y="981000"/>
          <a:ext cx="8569080" cy="55324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лож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равн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евосх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he   +  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елё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ee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еле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green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амый зелё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l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еж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ежлив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poli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амый веж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s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щ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 easi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амый про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ра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ore beauti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расив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most beauti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амый кра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Rectangle 122"/>
          <p:cNvSpPr/>
          <p:nvPr/>
        </p:nvSpPr>
        <p:spPr>
          <a:xfrm>
            <a:off x="0" y="595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d8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an …   -  …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ем…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… as… as - …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акой же … как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… not so … as  - … 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не такой …ж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3840" y="1844640"/>
            <a:ext cx="442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Катя выше, чем Али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250920" y="3357720"/>
            <a:ext cx="50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Лиза такая же милая как Тон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250920" y="4869000"/>
            <a:ext cx="5821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Марго не такая сильная как Миша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857760" y="2421000"/>
            <a:ext cx="48909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Kate is taller than Alisa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492360" y="4005360"/>
            <a:ext cx="48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sa is as pretty as Tony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492360" y="5734080"/>
            <a:ext cx="532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Margo is not so strong as Misha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539640" y="25992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Исклю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50920" y="1125360"/>
          <a:ext cx="8496360" cy="53280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осх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луч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пло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 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е больш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лень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ьш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амое малень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Rectangle 122"/>
          <p:cNvSpPr/>
          <p:nvPr/>
        </p:nvSpPr>
        <p:spPr>
          <a:xfrm>
            <a:off x="0" y="595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49644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ю интересную истор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00320" y="999720"/>
            <a:ext cx="4429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1.I Know an interesting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179280" y="1643040"/>
            <a:ext cx="4038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песня хуже ,чем 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н принёс ей самый красивый цве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Она рассказала нам о счастливом человек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н самый лучший инжене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4000680" y="1643040"/>
            <a:ext cx="4859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 This song is worse than th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. He brought her the most beautiful flo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4. She told us about the happy ma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5. He is the best engine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3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3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3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9:06Z</dcterms:created>
  <dc:creator>Felix</dc:creator>
  <dc:description/>
  <dc:language>en-US</dc:language>
  <cp:lastModifiedBy>Айдаш</cp:lastModifiedBy>
  <dcterms:modified xsi:type="dcterms:W3CDTF">2013-03-15T07:02:40Z</dcterms:modified>
  <cp:revision>15</cp:revision>
  <dc:subject/>
  <dc:title>Урок английского языка  в 5 классе МОУ лицей  «Технико –экономический»</dc:title>
</cp:coreProperties>
</file>