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649-A7F0-474D-A1CE-BECA886C64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166-1822-4526-B238-4C70108B2D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F106-FD52-41B0-9906-20830D67F9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659-AE27-4770-B49C-E987C5AC4C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D2F5-ED7C-4E4D-8D6B-2416C1FB61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F8B3-A548-42C5-B56A-868929816B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9A7-23AD-4D03-8E56-8BBDA5CD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402-CFDB-4C27-B23B-8973DDB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329-491A-4A42-B187-775B185A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6C3-F191-48F1-9988-6D730996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F72A-C91E-45FF-AA5E-6F935E9B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CCE7-95D7-47C8-9EED-A058E4C7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3A65-6E23-44D2-B7BC-289ED90C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6584-7C97-4A75-B04F-ADB862EE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0DA-D53F-454E-9E13-79DEFBF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D74A-E3F2-4422-A680-98E59BB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E9FD-7D2D-4D0E-87F5-367A89A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1DA-096F-45D5-A767-D79D67F9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3668-892B-4826-A3A7-ABE3CC3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1273-03B5-4282-8F34-225EB81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61AC-A866-4ECB-9FAF-356D5950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0D8B-6969-4AF9-BE95-10B4DFC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90F-033F-4650-A637-80F333F4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17D-A003-41C3-8ADF-66CF2CC1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282-EE17-49EE-BA35-9373579D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920-7022-4326-9C15-1D84D834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C68-972C-4EA0-A61B-EE8D257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506-FCE1-4B5B-BFFE-7F564E81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9D9-8AF1-4183-A11B-F6A980E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39F-7FAB-4CDF-8398-0AB1CFA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AE67-403C-41C3-A3C2-BC7E2D304C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477-CE3F-4927-83FB-10AFD9142F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The United Kingdom of Great Britain and Northern Ireland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705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Соединенное королевство Великобритании и Северной Ирланд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Александра\Рабочий стол\для презентации\0_167cb_3ef7ebd8_XL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000080" y="214200"/>
            <a:ext cx="7858080" cy="6429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histle -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 Чертополо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9720" y="1356840"/>
            <a:ext cx="7520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древние времена викинги высадились на восточном побережье Шотландии с намерением захватить и ограбить страну.  Скотты собрали все свои боевые силы и заняли расположение за рекой Тэй, где имелся удобный брод. Они разбили лагерь и расположились на отдых, считая что враг не станет наступать до следующего дня. Однако викинги были рядом; не обнаружив охраны и часовых вокруг лагеря скоттов, они пересекли реку с намерением внезапно напасть. Они разулись, чтобы шуметь поменьше при передвижении к лагерю. Но вдруг один из викингов наступил на чертополох. От внезапной и острой боли он вскрикнул. Услышав крик, скотты подняли в лагере тревогу. Викинги вынуждены были отступить, а чертополох, в знак признательности за такую вот неожиданную помощь, шотландцы выбрали в качестве своей национальной эмблемы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dinburgh -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Эдинбург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57480" y="19288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лица Шотланд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E:\для презентации\эдинбург.jpg"/>
          <p:cNvPicPr/>
          <p:nvPr/>
        </p:nvPicPr>
        <p:blipFill>
          <a:blip r:embed="rId1"/>
          <a:stretch/>
        </p:blipFill>
        <p:spPr>
          <a:xfrm>
            <a:off x="4357800" y="4000680"/>
            <a:ext cx="4454280" cy="2690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E:\для презентации\шотландия.jpg"/>
          <p:cNvPicPr/>
          <p:nvPr/>
        </p:nvPicPr>
        <p:blipFill>
          <a:blip r:embed="rId2"/>
          <a:stretch/>
        </p:blipFill>
        <p:spPr>
          <a:xfrm>
            <a:off x="1000080" y="1571760"/>
            <a:ext cx="441972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E:\для презентации\275px-Yellow_daffodils_-_floriade_canberra.jpg"/>
          <p:cNvPicPr/>
          <p:nvPr/>
        </p:nvPicPr>
        <p:blipFill>
          <a:blip r:embed="rId1"/>
          <a:stretch/>
        </p:blipFill>
        <p:spPr>
          <a:xfrm>
            <a:off x="1071720" y="285840"/>
            <a:ext cx="7783200" cy="626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Александра\Рабочий стол\для презентации\image004_012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00920" y="3929040"/>
            <a:ext cx="1901880" cy="2709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ek and yellow daffodils – </a:t>
            </a: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Лук порей и желтые нарцисс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1071720" y="1785960"/>
            <a:ext cx="5929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эльс - это страна, в которой существуют две эмблемы. Легенда гласит, что св. Давид просил своих людей прикреплять лук-порей к шляпам и вставлять его в петлицы одежды, чтобы легко отличаться во время битвы от своих врагов – англосаксов. День святого Давида празднуется в начале весны, когда цветут нарциссы, символизирующие зарождение новой жизни. Этот цветок стал второй, более изящной эмблемой Уэльса, тогда как первой официальной эмблемой является лук-пор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ardiff -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ардифф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7480" y="19288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лица Уэ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E:\для презентации\cardiff_galery1_b.jpg"/>
          <p:cNvPicPr/>
          <p:nvPr/>
        </p:nvPicPr>
        <p:blipFill>
          <a:blip r:embed="rId1"/>
          <a:stretch/>
        </p:blipFill>
        <p:spPr>
          <a:xfrm>
            <a:off x="4786200" y="3571920"/>
            <a:ext cx="3976920" cy="298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E:\для презентации\800px-Cardiff_castle_autumn.jpg"/>
          <p:cNvPicPr/>
          <p:nvPr/>
        </p:nvPicPr>
        <p:blipFill>
          <a:blip r:embed="rId2"/>
          <a:stretch/>
        </p:blipFill>
        <p:spPr>
          <a:xfrm>
            <a:off x="1214280" y="171468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E:\для презентации\42079--5659454-m133x10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928800" y="357120"/>
            <a:ext cx="787536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Shamrock - 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Трилистни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928800" y="1357200"/>
            <a:ext cx="7572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кровитель Ирландии Святой Патрик знаменит тем, что принес в Ирландию христианскую веру. Пытаясь однажды втолковать вождю-язычнику понятие Святой Троицы, Св. Патрик сорвал лист клевера и пояснил, что существуют бог-отец, бог-сын и бог-святой дух, но они едины, как три листка на одном ростке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Такое наглядное объяснение достигло цели, и благодарный вождь проникся христианским духом, повелев своим подданным следовать его примеру. Так Св. Патрик убедил ирландцев в том, что триединый бог лучше, чем множество разрозненных языческих идолов. И с тех пор трилистник стал одним из любимых национальных символов ирландцев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lfast -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Белфаст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14960" y="19288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лица Северной Ирланд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E:\для презентации\белфаст.jpg"/>
          <p:cNvPicPr/>
          <p:nvPr/>
        </p:nvPicPr>
        <p:blipFill>
          <a:blip r:embed="rId1"/>
          <a:stretch/>
        </p:blipFill>
        <p:spPr>
          <a:xfrm>
            <a:off x="4000680" y="3714840"/>
            <a:ext cx="4929120" cy="289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E:\для презентации\сев ирл.jpg"/>
          <p:cNvPicPr/>
          <p:nvPr/>
        </p:nvPicPr>
        <p:blipFill>
          <a:blip r:embed="rId2"/>
          <a:stretch/>
        </p:blipFill>
        <p:spPr>
          <a:xfrm>
            <a:off x="1000080" y="1571760"/>
            <a:ext cx="4357800" cy="2867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ueen Elisabeth I -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оролева Елизавета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85520" y="1499760"/>
            <a:ext cx="437652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лизавет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7.09.1533 – 24.03.1603) – королева Англии и Ирландии с 1558г. Время ее правления – «Золотой век» в истории Англии. Развиваются все отрасли хозяйства, увеличивается армия, Англия становится колониальной империей. Это время расцвета культуры, и возрастающего значения Англии на мировой арене (разгром испанской Армады). В ее время творили: Уильям Шекспир, Марло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E:\для презентации\280px-Elizabeth1England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714680"/>
            <a:ext cx="3665520" cy="4755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ueen Anne - 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оролева Анн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857240"/>
            <a:ext cx="41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А́н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6.02.1665 – 1.08.1714) – первый   монарх юридически объединённой Великобритании. Правление Анны – период расцвета культуры и науки и становления британского Просвещения. В ее время творили: Даниэль Дефо, Джонатан Свифт, работал Исаак Ньюто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E:\для презентации\280px-Anne,_Queen_of_Great_Britain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143000" y="1357200"/>
            <a:ext cx="3311640" cy="5143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ueen Victoria -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оролева Виктор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5520" y="1499760"/>
            <a:ext cx="4376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иктори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24.05.1819 – 22.01.1901). Она пробыла на троне почти 64 года – больше, чем любой другой монарх Великобритании. Викторианская эпоха совпала с промышленной революцией, это период наибольшего расцвета  Британской 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E:\для презентации\виктория.jpg"/>
          <p:cNvPicPr/>
          <p:nvPr/>
        </p:nvPicPr>
        <p:blipFill>
          <a:blip r:embed="rId1"/>
          <a:stretch/>
        </p:blipFill>
        <p:spPr>
          <a:xfrm>
            <a:off x="5072040" y="1643040"/>
            <a:ext cx="3799080" cy="4979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ueen Elisabeth II - 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оролева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Елизавета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714680"/>
            <a:ext cx="41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Елизавета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родилась 21.04.1926) – ныне царствующая королева,  взошла на престол в 1952. королева Великобритании лишь царствует, но не правит.  Она осуществляет обширнейшие представительские функции, участвует в различных благотворительных мероприятиях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E:\для презентации\елизавета 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071720" y="1455840"/>
            <a:ext cx="3714480" cy="514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Great Brita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438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ликобритания состоит из четырех част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глия, Уэльс, Шотландия и Северная Ирланд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ая часть – это отдельная страна со своей столицей, флагом, национальной эмблемой, историей и культурой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Documents and Settings\Admin\Application Data\Microsoft\Media Catalog\country_map.gif"/>
          <p:cNvPicPr/>
          <p:nvPr/>
        </p:nvPicPr>
        <p:blipFill>
          <a:blip r:embed="rId1"/>
          <a:stretch/>
        </p:blipFill>
        <p:spPr>
          <a:xfrm>
            <a:off x="5076720" y="1773360"/>
            <a:ext cx="345924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E:\для презентации\100px-UK_Royal_Coat_of_Arms_svg.png"/>
          <p:cNvPicPr/>
          <p:nvPr/>
        </p:nvPicPr>
        <p:blipFill>
          <a:blip r:embed="rId2"/>
          <a:stretch/>
        </p:blipFill>
        <p:spPr>
          <a:xfrm>
            <a:off x="6858000" y="2858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5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50"/>
                            </p:stCondLst>
                            <p:childTnLst>
                              <p:par>
                                <p:cTn id="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61976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 Royal Family –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Королевская семь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0" name="Picture 2" descr="E:\для презентации\к.семья.jpg"/>
          <p:cNvPicPr/>
          <p:nvPr/>
        </p:nvPicPr>
        <p:blipFill>
          <a:blip r:embed="rId1"/>
          <a:stretch/>
        </p:blipFill>
        <p:spPr>
          <a:xfrm>
            <a:off x="900000" y="1700280"/>
            <a:ext cx="3456000" cy="2449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E:\для презентации\древо.jpg"/>
          <p:cNvPicPr/>
          <p:nvPr/>
        </p:nvPicPr>
        <p:blipFill>
          <a:blip r:embed="rId2"/>
          <a:stretch/>
        </p:blipFill>
        <p:spPr>
          <a:xfrm>
            <a:off x="3924360" y="907920"/>
            <a:ext cx="494820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he Union Jac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88000" y="17524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лаг Великобритании называется «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nion Jack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». Он состоит из трех крестов: крест святого Георгия, покровителя Англ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ест святого Андрея, покровителя Шотланд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крест святого Патрика, покровителя Ирланди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29" descr="C:\Documents and Settings\Admin\Application Data\Microsoft\Media Catalog\ukflagb.gif"/>
          <p:cNvPicPr/>
          <p:nvPr/>
        </p:nvPicPr>
        <p:blipFill>
          <a:blip r:embed="rId1"/>
          <a:stretch/>
        </p:blipFill>
        <p:spPr>
          <a:xfrm>
            <a:off x="1066680" y="2874960"/>
            <a:ext cx="3733920" cy="1870200"/>
          </a:xfrm>
          <a:prstGeom prst="rect">
            <a:avLst/>
          </a:prstGeom>
          <a:ln w="0">
            <a:noFill/>
          </a:ln>
        </p:spPr>
      </p:pic>
      <p:pic>
        <p:nvPicPr>
          <p:cNvPr id="106" name="Гимн.wav" descr=""/>
          <p:cNvPicPr/>
          <p:nvPr/>
        </p:nvPicPr>
        <p:blipFill>
          <a:blip r:embed="rId2"/>
          <a:stretch/>
        </p:blipFill>
        <p:spPr>
          <a:xfrm>
            <a:off x="7500960" y="928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565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ngland - 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Англ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олица – Лонд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красная ро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Documents and Settings\Admin\Application Data\Microsoft\Media Catalog\map_england.gif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4419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E:\для презентации\i.jpg"/>
          <p:cNvPicPr/>
          <p:nvPr/>
        </p:nvPicPr>
        <p:blipFill>
          <a:blip r:embed="rId2"/>
          <a:stretch/>
        </p:blipFill>
        <p:spPr>
          <a:xfrm>
            <a:off x="7215120" y="500040"/>
            <a:ext cx="1395360" cy="833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E:\для презентации\150px-England_COA_svg.png"/>
          <p:cNvPicPr/>
          <p:nvPr/>
        </p:nvPicPr>
        <p:blipFill>
          <a:blip r:embed="rId3"/>
          <a:stretch/>
        </p:blipFill>
        <p:spPr>
          <a:xfrm>
            <a:off x="1500120" y="4471920"/>
            <a:ext cx="1714680" cy="1886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400"/>
                            </p:stCondLst>
                            <p:childTnLst>
                              <p:par>
                                <p:cTn id="1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cotland -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Шотланд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7840" y="19288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орая по величине ча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ликобрита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олица – Эдинбур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ая эмблема – чертополо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E:\для презентации\36031529_flagscotland.gif"/>
          <p:cNvPicPr/>
          <p:nvPr/>
        </p:nvPicPr>
        <p:blipFill>
          <a:blip r:embed="rId1"/>
          <a:stretch/>
        </p:blipFill>
        <p:spPr>
          <a:xfrm>
            <a:off x="7143840" y="571680"/>
            <a:ext cx="1428840" cy="86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E:\для презентации\map_scotland.gif"/>
          <p:cNvPicPr/>
          <p:nvPr/>
        </p:nvPicPr>
        <p:blipFill>
          <a:blip r:embed="rId2"/>
          <a:srcRect l="24450" t="7430" r="4435" b="3457"/>
          <a:stretch/>
        </p:blipFill>
        <p:spPr>
          <a:xfrm>
            <a:off x="1214280" y="2071800"/>
            <a:ext cx="3556080" cy="4000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E:\для презентации\250px-Kingdom_of_scotland_royal_arms_svg.png"/>
          <p:cNvPicPr/>
          <p:nvPr/>
        </p:nvPicPr>
        <p:blipFill>
          <a:blip r:embed="rId3"/>
          <a:stretch/>
        </p:blipFill>
        <p:spPr>
          <a:xfrm>
            <a:off x="6643800" y="4286160"/>
            <a:ext cx="2171520" cy="22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ales - 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Уэль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15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лица – Кардифф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циональная эмблема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к-порей и желтый нарцис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E:\для презентации\flag.gif"/>
          <p:cNvPicPr/>
          <p:nvPr/>
        </p:nvPicPr>
        <p:blipFill>
          <a:blip r:embed="rId1"/>
          <a:stretch/>
        </p:blipFill>
        <p:spPr>
          <a:xfrm>
            <a:off x="6858000" y="40464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E:\для презентации\map_wales.gif"/>
          <p:cNvPicPr/>
          <p:nvPr/>
        </p:nvPicPr>
        <p:blipFill>
          <a:blip r:embed="rId2"/>
          <a:srcRect l="8566" t="4098" r="3704" b="3552"/>
          <a:stretch/>
        </p:blipFill>
        <p:spPr>
          <a:xfrm>
            <a:off x="4786200" y="200016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:\для презентации\250px-Royal_Badge_of_Wales_new_svg.png"/>
          <p:cNvPicPr/>
          <p:nvPr/>
        </p:nvPicPr>
        <p:blipFill>
          <a:blip r:embed="rId3"/>
          <a:stretch/>
        </p:blipFill>
        <p:spPr>
          <a:xfrm>
            <a:off x="1285920" y="285840"/>
            <a:ext cx="1374840" cy="1714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900"/>
                            </p:stCondLst>
                            <p:childTnLst>
                              <p:par>
                                <p:cTn id="2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orthern Ireland –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Северная Ирланд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лица – Белфас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циональная эмблема – трилистни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E:\для презентации\SUV01_FG.jpg"/>
          <p:cNvPicPr/>
          <p:nvPr/>
        </p:nvPicPr>
        <p:blipFill>
          <a:blip r:embed="rId1"/>
          <a:stretch/>
        </p:blipFill>
        <p:spPr>
          <a:xfrm>
            <a:off x="6858000" y="500040"/>
            <a:ext cx="1746360" cy="87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E:\для презентации\map_ireland.gif"/>
          <p:cNvPicPr/>
          <p:nvPr/>
        </p:nvPicPr>
        <p:blipFill>
          <a:blip r:embed="rId2"/>
          <a:srcRect l="0" t="3327" r="4657" b="3327"/>
          <a:stretch/>
        </p:blipFill>
        <p:spPr>
          <a:xfrm>
            <a:off x="1285920" y="1928880"/>
            <a:ext cx="3071880" cy="414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:\для презентации\300px-Northern_Ireland_coat_of_arms.png"/>
          <p:cNvPicPr/>
          <p:nvPr/>
        </p:nvPicPr>
        <p:blipFill>
          <a:blip r:embed="rId3"/>
          <a:stretch/>
        </p:blipFill>
        <p:spPr>
          <a:xfrm>
            <a:off x="6572160" y="4857840"/>
            <a:ext cx="2078280" cy="1647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E:\для презентации\роза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143000" y="357120"/>
            <a:ext cx="7358040" cy="6040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ed rose - 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Красная роз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43000" y="1266480"/>
            <a:ext cx="7215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оза с красными лепестками и белыми тычинками — традиционная эмблема Великобритании. Она представляет собой самый известный нагрудный знак английских королей. После войны Алой и Белой Розы, названной так по нагрудным знакам фамилий, боровшихся за корону, алая роза Ланкастеров и белая роза Йорков были объединены в форме, которая носит название "Розы Тюдоров". В недавние времена красная роза была одобрена европейскими политическими партиями в качестве эмблемы социализ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London -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Лондон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7480" y="19288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лица Англии и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E:\для презентации\англия.jpg"/>
          <p:cNvPicPr/>
          <p:nvPr/>
        </p:nvPicPr>
        <p:blipFill>
          <a:blip r:embed="rId1"/>
          <a:stretch/>
        </p:blipFill>
        <p:spPr>
          <a:xfrm>
            <a:off x="4043520" y="3571920"/>
            <a:ext cx="4814640" cy="300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E:\для презентации\cimg8486b.jpg"/>
          <p:cNvPicPr/>
          <p:nvPr/>
        </p:nvPicPr>
        <p:blipFill>
          <a:blip r:embed="rId2"/>
          <a:stretch/>
        </p:blipFill>
        <p:spPr>
          <a:xfrm>
            <a:off x="857160" y="1643040"/>
            <a:ext cx="4248360" cy="2786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1432080" y="43578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уэрский м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53:53Z</dcterms:created>
  <dc:creator>санёк</dc:creator>
  <dc:description/>
  <dc:language>en-US</dc:language>
  <cp:lastModifiedBy>user</cp:lastModifiedBy>
  <dcterms:modified xsi:type="dcterms:W3CDTF">2014-11-17T08:28:26Z</dcterms:modified>
  <cp:revision>66</cp:revision>
  <dc:subject/>
  <dc:title>The United Kingdom of Great Britain and Northern Ireland</dc:title>
</cp:coreProperties>
</file>