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7761B-053A-470B-9C1A-FBA4BFD7C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EBEFD-45C3-4F07-903B-BD50C79BC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CA027-69F1-48B9-A115-2B8678E8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E7542-CDD5-43F5-8C1D-FCAEDDD35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74CC1-D60F-466C-ABA7-F405EC18F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4C87A-9AAE-4D89-B07E-B3497E559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4677D-4B4D-4668-AC6C-329BF5BDA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2712C-DF16-4CCB-8F67-BD33D4601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704BE-6DB0-452B-94A5-900E5EB20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C0C3A-C24D-43D6-B463-F15D447AF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6A930-3E92-4ED3-825A-A4806CE02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B5730-4B44-478B-8EAE-133573522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5E987-9762-48F4-B846-E22820EBF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97074-92F6-4532-A388-9464DFFEF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A5213-C7D8-4B8B-B80D-9A88FECE8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3CE15-A125-4635-8CD8-905DB941A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31F79-A126-4962-ABE5-D2CE38C8B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6BFD2-F11A-4EFA-A3E9-BA9C8E57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4F2A-0957-40F9-BF49-E23889A0D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BC024-A23F-4B6B-AE95-3DF3E9A75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C5E13-89A3-4239-AFCD-E58C5DD34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1C15-5427-4980-B212-06665972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D120-E5B7-4676-B0F5-36B8A709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2F86-F653-44B3-B35E-78025593C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54B0-64F3-4369-9647-A1FBCA7C03F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47DF-E090-40F2-81FC-D5059CB56824}"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lgn="ctr">
              <a:spcBef>
                <a:spcPts val="11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            </a:t>
            </a:r>
            <a:r>
              <a:rPr b="0" lang="ru-RU" sz="4800" spc="-1" strike="noStrike">
                <a:solidFill>
                  <a:srgbClr val="cc00cc"/>
                </a:solidFill>
                <a:latin typeface="Arial"/>
              </a:rPr>
              <a:t>Ухалов Альбион        </a:t>
            </a:r>
            <a:r>
              <a:rPr b="0" lang="ru-RU" sz="4800" spc="-1" strike="noStrike">
                <a:solidFill>
                  <a:srgbClr val="cc00cc"/>
                </a:solidFill>
                <a:latin typeface="Arial"/>
              </a:rPr>
              <a:t>	</a:t>
            </a:r>
            <a:r>
              <a:rPr b="0" lang="ru-RU" sz="4800" spc="-1" strike="noStrike">
                <a:solidFill>
                  <a:srgbClr val="cc00cc"/>
                </a:solidFill>
                <a:latin typeface="Arial"/>
              </a:rPr>
              <a:t>	</a:t>
            </a:r>
            <a:r>
              <a:rPr b="0" lang="ru-RU" sz="4800" spc="-1" strike="noStrike">
                <a:solidFill>
                  <a:srgbClr val="cc00cc"/>
                </a:solidFill>
                <a:latin typeface="Arial"/>
              </a:rPr>
              <a:t>	</a:t>
            </a:r>
            <a:r>
              <a:rPr b="0" lang="ru-RU" sz="4800" spc="-1" strike="noStrike">
                <a:solidFill>
                  <a:srgbClr val="cc00cc"/>
                </a:solidFill>
                <a:latin typeface="Arial"/>
              </a:rPr>
              <a:t>  Константинович</a:t>
            </a:r>
            <a:r>
              <a:rPr b="0" lang="ru-RU" sz="4400" spc="-1" strike="noStrike">
                <a:solidFill>
                  <a:srgbClr val="cc00cc"/>
                </a:solidFill>
                <a:latin typeface="Arial"/>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cc"/>
                </a:solidFill>
                <a:latin typeface="Arial"/>
              </a:rPr>
              <a:t>           </a:t>
            </a:r>
            <a:r>
              <a:rPr b="0" lang="ru-RU" sz="3200" spc="-1" strike="noStrike">
                <a:solidFill>
                  <a:srgbClr val="cc00cc"/>
                </a:solidFill>
                <a:latin typeface="Arial"/>
              </a:rPr>
              <a:t>Вот - такой у меня дедушка.</a:t>
            </a:r>
            <a:r>
              <a:rPr b="0" lang="ru-RU" sz="3200" spc="-1" strike="noStrike">
                <a:solidFill>
                  <a:srgbClr val="cc00cc"/>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cc"/>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cc"/>
                </a:solidFill>
                <a:latin typeface="Arial"/>
              </a:rPr>
              <a:t>              </a:t>
            </a:r>
            <a:r>
              <a:rPr b="0" lang="ru-RU" sz="3200" spc="-1" strike="noStrike">
                <a:solidFill>
                  <a:srgbClr val="cc00cc"/>
                </a:solidFill>
                <a:latin typeface="Arial"/>
              </a:rPr>
              <a:t>спасибо за внимание!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cc"/>
                </a:solidFill>
                <a:latin typeface="Arial"/>
              </a:rPr>
              <a:t>Родился 9 октября 1925 года.</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cc"/>
                </a:solidFill>
                <a:latin typeface="Arial"/>
              </a:rPr>
              <a:t>Участвовал на фронтах Великой Отечественной войны с 27 января 1944 года по май1945 года.</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cc"/>
                </a:solidFill>
                <a:latin typeface="Arial"/>
              </a:rPr>
              <a:t>Награжден орденами Отечественной войны, Славы </a:t>
            </a:r>
            <a:r>
              <a:rPr b="0" lang="en-US" sz="2800" spc="-1" strike="noStrike">
                <a:solidFill>
                  <a:srgbClr val="cc00cc"/>
                </a:solidFill>
                <a:latin typeface="Arial"/>
              </a:rPr>
              <a:t>III</a:t>
            </a:r>
            <a:r>
              <a:rPr b="0" lang="ru-RU" sz="2800" spc="-1" strike="noStrike">
                <a:solidFill>
                  <a:srgbClr val="cc00cc"/>
                </a:solidFill>
                <a:latin typeface="Arial"/>
              </a:rPr>
              <a:t> степени, Октябрьской Революции, «Знак Почета», медалями «За отвагу», «За боевые заслуги», «За освобождение Варшавы», «За взятие Берлина», «За победу над Германией в Великой Отечественной войне 1941-1945 гг.» и другими памятными и юбилейными медаля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cc"/>
                </a:solidFill>
                <a:latin typeface="Arial"/>
              </a:rPr>
              <a:t>Альбион Константинович Ухалов участвовал во многих боевых операциях во время Великой Отечественной войны. У него 16 благодарностей от Верховного Главнокомандующего за боевые действия, в том числе: форсирование реки Днестр, овладение городом Бельцы и выходом на государственную границу, реку Прут, освобождение Варшавы; отличные боевые действия при вторжении в пределы немецкой Померании, овладение мощными опорными пунктами обороны немцев в центральной Германии, овладение столицей Германии – Берлино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cc"/>
                </a:solidFill>
                <a:latin typeface="Arial"/>
              </a:rPr>
              <a:t>Во время войны фронтовую службу он проходил пулеметчиком-разведчиком. В 50-й танковой и 57-й мотострелковой бригадах 1-го и 2-го Украинских фронто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cc"/>
                </a:solidFill>
                <a:latin typeface="Arial"/>
              </a:rPr>
              <a:t>Наиболее памятным для Альбиона Константиновича является непосредственное участие в боях по окружению и уничтожению Корсунь-Шевченковской группировки противника. Боевые действия против немецкой группировки проводились в крайне неблагоприятных погодных условия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cc"/>
                </a:solidFill>
                <a:latin typeface="Arial"/>
              </a:rPr>
              <a:t>Шел мокрый снег с сильным ветром. Видимость была ограничена, навстречу ветру смотреть было вообще невозможно. Однажды в такую непогоду они в составе разведгруппы из 12 человек прошли в расположение окруженных войск и обнаружили конный обоз, который обезоружили и взяли в плен. Оказалось, что это был штаб пехотного полка, пытавшегося выйти из окружения. За эту операцию Альбион Константинович награжден орденом Славы </a:t>
            </a:r>
            <a:r>
              <a:rPr b="0" lang="en-US" sz="2800" spc="-1" strike="noStrike">
                <a:solidFill>
                  <a:srgbClr val="cc00cc"/>
                </a:solidFill>
                <a:latin typeface="Arial"/>
              </a:rPr>
              <a:t>III</a:t>
            </a:r>
            <a:r>
              <a:rPr b="0" lang="ru-RU" sz="2800" spc="-1" strike="noStrike">
                <a:solidFill>
                  <a:srgbClr val="cc00cc"/>
                </a:solidFill>
                <a:latin typeface="Arial"/>
              </a:rPr>
              <a:t> степен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cc"/>
                </a:solidFill>
                <a:latin typeface="Arial"/>
              </a:rPr>
              <a:t>Участвовал в ожесточенных боях за освобождение Варшавы, продвижении с боями Варшавы на северо-запад в район Кенигсберга, к берегам Балтийского моря, а в дальнейшем – в наступлении и взятии Берлин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cc"/>
                </a:solidFill>
                <a:latin typeface="Arial"/>
              </a:rPr>
              <a:t>После демобилизации из Советской Армии Альбион Константинович поступает на работу участковым уполномоченным Исетского районного отделения милиции, затем быстро продвигается по служебной лестнице: оперуполномоченный, следователь, начальник Луговского поселкового отделения милиции Кондинского района, Урайского городского отделения милиции Ханты-Мансийского автономного округ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cc"/>
                </a:solidFill>
                <a:latin typeface="Arial"/>
              </a:rPr>
              <a:t>Альбион Константинович.</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cc"/>
                </a:solidFill>
                <a:latin typeface="Arial"/>
              </a:rPr>
              <a:t>С апреля 1970 г. по июль 1980 года он возглавлял Тюменский районный отдел внутренних дел. Здесь всесторонне проявились его организаторские способности по руководству органом внутренних дел, на территории обслуживания которого отмечалась сложная оперативная обстановка.</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cc"/>
                </a:solidFill>
                <a:latin typeface="Arial"/>
              </a:rPr>
              <a:t>Сейчас Ухалов А.К. находится на заслуженном отдых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8T14:02:15Z</dcterms:created>
  <dc:creator>Татьяна</dc:creator>
  <dc:description/>
  <dc:language>en-US</dc:language>
  <cp:lastModifiedBy>Учитель</cp:lastModifiedBy>
  <dcterms:modified xsi:type="dcterms:W3CDTF">2015-03-13T08:04: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