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2.png" ContentType="image/png"/>
  <Override PartName="/ppt/media/image9.jpeg" ContentType="image/jpe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41C-5EEB-4D43-9DC8-4D59341E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081-18DE-4FBA-BCC4-EDE676D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6D29-7BBC-42A5-9F2A-695C50D3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4448B-730B-479C-BE65-BE28A3BF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A8A1D-7113-4F98-ACC3-10C7F999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DA73F-AAA0-45EB-99F5-7851FE22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785C5-AC14-4D39-BD81-37CC60A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34A2A-F957-4C32-9E64-28A0EA76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27362-7175-47D5-9A01-B0F1F05D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85D73-1288-48FC-AB13-30E10950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1AA70-E804-48AB-B927-EF3C0AFC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57EFE-420A-4ED3-8DB5-793D66A8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CC0-017B-43E4-9773-B8CC9EE4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36023-131E-4B79-9926-AF0A5D7A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3C08F-44AF-4430-9999-C894722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15315-5A35-45AE-930B-FA80CB8B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2C96B-AE35-4262-884D-AE2C7717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D99A3-74B9-470B-8083-CC6A5D63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5821A-F1AB-486C-BDCF-0493CD60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7BB6B-7CF6-4EDD-B6AD-92E6E30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7C6B9-CB5F-4BA3-9CA0-5228EBF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A3644-B306-4C03-913B-D7960CE1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1FB3E-F677-41B3-95F5-1E4A6AEA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578-F949-4425-A918-D064B847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F38A4-D3D9-41BF-8883-90FD00E4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70DE-88D0-491B-BADB-51F77EE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B0BD-A6B8-4199-A7AD-46CFC2F0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2E4E-DE42-4F93-850D-55E781F4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801-8CB6-4F8E-96BA-9B1437DE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7C0-4B99-433F-994E-CC2CD97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9CA4-4E52-49BF-86BC-853D5C66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CAAD-2B85-4083-9782-8CD6E00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326-7967-472E-AB3D-35F7A4F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80C0-804B-4AB5-AD5C-9B8952A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281-0C9E-4541-AC8F-4D31BEA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4C32-426B-4671-9579-BB888D6F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B053-EC5D-4E85-B82F-790B73CD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56B7-23DB-4983-BC86-A826CB78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E70AE-492A-4B50-BB53-1562EA37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8BA4-3CBA-4C13-A3A7-DD693DAF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18258-3C7B-4A7F-B0E0-E69171F5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CD40-27DF-4EB3-9B34-9D65C31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A6E7-964F-47EB-B6BF-0E3E637F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43A-A90E-45EF-857B-8E90F5F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5732-CE2C-4D7D-A8E5-58C7CAE1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010F-5C7A-4C0C-BA46-655CF39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2B3B-8774-473E-8E61-4592811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4DA2-B892-4E0D-930B-319B96BA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8099-E4FF-4FB7-A5DB-2DB40DBF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A57B-DA84-49E6-8F13-83AA2D94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4C71-0554-4958-9BF2-D0393483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F41E-6D13-4982-8C8E-CCDE473A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B0CD-A52B-4E20-AF9F-198C3DC0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6EA8-03C3-4978-8388-EA3C1A09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F94-3A86-4249-821B-495495C2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E494-A9B0-45F3-8589-36B98AA3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41B4-542A-47B7-8130-E03CB01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B729-3DDB-40D8-90E3-E37C667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9DFE-2468-409E-8A6B-FAD1C832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C0F0-F861-4523-AAB1-D6E30FD1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39E7-DAAA-427E-83B3-7D9E482D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7E71-1403-4FCA-881D-321A93F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4C25-CE50-4055-BFC3-5C9EDB8D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8DCC-A8AA-4770-AEAE-A9934FF5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0A6E-037B-4029-9DD6-A8501D44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ABA-E1D1-45F6-A86B-AAF8EB79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8D7E-A97D-4FF1-B843-6A127F03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5BB1-B121-4EF6-B71A-B684B41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D7F7-EFE8-4F65-BD46-96F8E93B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036B3-3825-4BB8-AD9E-6276FE7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91F29-6457-4D20-A210-9D7F621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11B7-412C-4725-B004-EAF55F54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C8BBE-90F8-45DB-B1BB-EA606EF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A4427-45F8-43C9-B6CC-855C93D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0A4C-3E9C-442E-91DF-57468119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D8AC-651C-4ED9-BF0D-2C89C3DF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34D-7EE5-4744-BD2D-25493E33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CF9A-133F-4175-B0E6-E0DC53F7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4618-18E3-4E46-8726-17123974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636F5-A4A5-43A7-95BC-47A05DD5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5E089-4CC1-49A5-B281-1A32FA07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E3A23-2421-46FE-91FF-888E6293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50E49-A634-49D4-A633-21AA089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E79EE-086E-4D8C-BA61-3E4BEEFD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B50A-D9ED-4EAF-80C8-1598AC21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3B60F-5F1D-4681-A6A4-88D922DD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350F-21DA-42CB-9B47-7488877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2CF-141B-4156-A344-FBC797E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7E6D-3F79-4527-8811-A81B17C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0080-3526-4779-B282-90B2BABF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DA017-19C4-496E-A642-023AB8DE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5B223-AEEC-4DF5-BB69-DF0F84E9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E22AF-41EE-4CBD-B7CE-B385ADC7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1A0FC-D039-496D-A33C-20B7A6C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04BAF-C149-4342-83E8-763B3E36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A000-EF0C-4A36-8E60-0E9A0AA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3FB3-6485-4E84-B878-C529B31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9AFD-32B7-4C5C-BF1B-E67367B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D43-2F59-41A0-93F7-EBE90604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2C367-B5BD-4BD4-889F-6A25103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4FCC-8E3D-4011-AA58-78656E1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15F0-0DC9-4B46-B5FB-6F14F6F8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D698-2918-4E2B-BB8A-58F545B0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EB98-D2BA-4B19-9CCC-D72B7D2A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0FF7E-8A8E-455F-A907-B18D059B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A9FCA-D2D6-4C65-8771-2EBE2D6A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132A3-96E0-4515-964F-8BE4738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0A3DB-486E-45E0-84B1-9D36D42C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A5172-313D-4476-8FD9-F2930592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E34-65A8-40AC-844A-77D0AD09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96A04-8C56-4FC8-B051-8D360585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57673-BE22-4D4C-94B6-3524340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DF820-D6E6-424C-AB3B-AAD3020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EDDAA-7D62-4D6B-90F9-94BA3D3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45204-7667-45D1-AB3C-E67C58E0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08CE-8CA7-418B-A5EE-6CFE49F3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0091D-5B26-4678-982A-52682167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D815C-F5DA-4042-9882-A4ACBD89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222D5-34A9-4AF2-8525-A354B064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4DB39-1494-46EE-BB2B-92B0E2A9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7CEB-EBA6-4D11-AF5D-265D266CA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9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1F5F-1185-4000-84D2-9812E044791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C94-603B-4BA0-91EC-972FF10D84F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2169-5FB3-4E33-9DC7-038CB81BCB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1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4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89FD-67F8-4D21-9E7A-30C4D3E5F6B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4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A4B5-857A-4112-9E50-E92D961ADCD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A104-FEF2-4800-BB8D-94E265C0B52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827-4427-491C-BC13-D3449A3E12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1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6522-9C75-40E6-9B5A-9114A00ECC2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7FE9-29C0-40E9-9D89-5E7A5C33088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cation.vic.gov.au/languagesonline/english/sect05/no_1/no_1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cation.vic.gov.au/languagesonline/english/sect05/no_4/no_4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cation.vic.gov.au/languagesonline/english/sect05/no_5/no_5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http://www.1-11.ru/images/borders/ramka_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28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 September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work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Bookman Old Style"/>
              </a:rPr>
              <a:t>First day at school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AIMS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We  learn numbers from 11 to 20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We  revise school subjec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We  work in pai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8637840" cy="1152720"/>
          </a:xfrm>
          <a:prstGeom prst="rect">
            <a:avLst/>
          </a:prstGeom>
          <a:ln w="0">
            <a:noFill/>
          </a:ln>
        </p:spPr>
      </p:pic>
      <p:pic>
        <p:nvPicPr>
          <p:cNvPr id="456" name="Содержимое 3" descr="school20books11.jpg"/>
          <p:cNvPicPr/>
          <p:nvPr/>
        </p:nvPicPr>
        <p:blipFill>
          <a:blip r:embed="rId2"/>
          <a:stretch/>
        </p:blipFill>
        <p:spPr>
          <a:xfrm>
            <a:off x="5435640" y="4437000"/>
            <a:ext cx="3203640" cy="20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4000" spc="-1" strike="noStrike">
                <a:solidFill>
                  <a:srgbClr val="800000"/>
                </a:solidFill>
                <a:latin typeface="Calibri"/>
              </a:rPr>
              <a:t>Mon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he sleeps in his offic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4000" spc="-1" strike="noStrike">
                <a:solidFill>
                  <a:srgbClr val="800000"/>
                </a:solidFill>
                <a:latin typeface="Calibri"/>
              </a:rPr>
              <a:t>Tues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he starts to work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4000" spc="-1" strike="noStrike">
                <a:solidFill>
                  <a:srgbClr val="800000"/>
                </a:solidFill>
                <a:latin typeface="Calibri"/>
              </a:rPr>
              <a:t>Wednes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he sings and play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the theatre at eight o’clock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4000" spc="-1" strike="noStrike">
                <a:solidFill>
                  <a:srgbClr val="800000"/>
                </a:solidFill>
                <a:latin typeface="Calibri"/>
              </a:rPr>
              <a:t>Thurs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he meets his fan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4000" spc="-1" strike="noStrike">
                <a:solidFill>
                  <a:srgbClr val="800000"/>
                </a:solidFill>
                <a:latin typeface="Calibri"/>
              </a:rPr>
              <a:t>Fri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he flies to Rome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4000" spc="-1" strike="noStrike">
                <a:solidFill>
                  <a:srgbClr val="800000"/>
                </a:solidFill>
                <a:latin typeface="Calibri"/>
              </a:rPr>
              <a:t>Satur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on </a:t>
            </a:r>
            <a:r>
              <a:rPr b="0" lang="en-US" sz="4000" spc="-1" strike="noStrike">
                <a:solidFill>
                  <a:srgbClr val="800000"/>
                </a:solidFill>
                <a:latin typeface="Calibri"/>
              </a:rPr>
              <a:t>Sun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is happy to stay at ho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199 - Unit 7, Lesson 3, Exercise 9, Song 'On Monday he sleeps in his office'.mp3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" descr=""/>
          <p:cNvPicPr/>
          <p:nvPr/>
        </p:nvPicPr>
        <p:blipFill>
          <a:blip r:embed="rId2"/>
          <a:stretch/>
        </p:blipFill>
        <p:spPr>
          <a:xfrm>
            <a:off x="2048040" y="-12600"/>
            <a:ext cx="521784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01274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education.vic.gov.au/languagesonline/english/sect05/no_1/no_1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education.vic.gov.au/languagesonline/english/sect05/no_4/no_4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education.vic.gov.au/languagesonline/english/sect05/no_5/no_5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1. Linda………………………………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2. Mark..……………….……………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. Tom and Lyn……………………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4. Sue and I…………………………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5. Ben and you……………………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6. eraser………………………………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5708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2060640"/>
            <a:ext cx="6130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easy to m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ifficul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need more…    to improve my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ik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55640" y="51408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C:\Users\Юля\Desktop\f_4d2cb57edfdf3.gif"/>
          <p:cNvPicPr/>
          <p:nvPr/>
        </p:nvPicPr>
        <p:blipFill>
          <a:blip r:embed="rId1"/>
          <a:stretch/>
        </p:blipFill>
        <p:spPr>
          <a:xfrm>
            <a:off x="7086600" y="15228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C:\Users\Юля\Desktop\73779971_smayl_an.gif"/>
          <p:cNvPicPr/>
          <p:nvPr/>
        </p:nvPicPr>
        <p:blipFill>
          <a:blip r:embed="rId2"/>
          <a:stretch/>
        </p:blipFill>
        <p:spPr>
          <a:xfrm>
            <a:off x="415800" y="347760"/>
            <a:ext cx="1704960" cy="1419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http://www.getacoder.com/blog/wp-content/uploads/2011/09/speak_english.jpg"/>
          <p:cNvPicPr/>
          <p:nvPr/>
        </p:nvPicPr>
        <p:blipFill>
          <a:blip r:embed="rId3"/>
          <a:stretch/>
        </p:blipFill>
        <p:spPr>
          <a:xfrm>
            <a:off x="6335640" y="2103480"/>
            <a:ext cx="1878120" cy="18781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C:\Users\Юля\Desktop\smailiki-44.gif"/>
          <p:cNvPicPr/>
          <p:nvPr/>
        </p:nvPicPr>
        <p:blipFill>
          <a:blip r:embed="rId4"/>
          <a:stretch/>
        </p:blipFill>
        <p:spPr>
          <a:xfrm>
            <a:off x="2843280" y="4149720"/>
            <a:ext cx="1666800" cy="16905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http://www.kiagarriques.com/wp-content/uploads/2012/09/bookworm_kia.jpg"/>
          <p:cNvPicPr/>
          <p:nvPr/>
        </p:nvPicPr>
        <p:blipFill>
          <a:blip r:embed="rId5"/>
          <a:stretch/>
        </p:blipFill>
        <p:spPr>
          <a:xfrm>
            <a:off x="6443640" y="4237200"/>
            <a:ext cx="1824120" cy="169380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4" descr=""/>
          <p:cNvPicPr/>
          <p:nvPr/>
        </p:nvPicPr>
        <p:blipFill>
          <a:blip r:embed="rId6"/>
          <a:stretch/>
        </p:blipFill>
        <p:spPr>
          <a:xfrm>
            <a:off x="6022800" y="3157560"/>
            <a:ext cx="245592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755640" y="2707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9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folio: make a fact list about yourself (on the ca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Self-prepara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7:28:12Z</dcterms:created>
  <dc:creator>Юля</dc:creator>
  <dc:description/>
  <dc:language>en-US</dc:language>
  <cp:lastModifiedBy>Юля</cp:lastModifiedBy>
  <dcterms:modified xsi:type="dcterms:W3CDTF">2013-09-23T08:57:51Z</dcterms:modified>
  <cp:revision>33</cp:revision>
  <dc:subject/>
  <dc:title>http://learnenglishkids.britishcouncil.org/ru/word-games/paint-it/classroom</dc:title>
</cp:coreProperties>
</file>