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8798-27B5-4291-A71C-B5CEBD3D17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7BA2-2F80-4EBA-B714-6DB1DA950E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3A15-6C4C-4569-B708-85263511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B0EC-7D2D-4548-8CC8-B6CDE942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761B0-1253-4397-966C-DF4914DC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F3722-AACF-429B-92D8-8954AD5D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E2ED7-6A64-4367-958A-99D731BA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31A8F-865B-484C-9AD5-3B43A287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50CD8-9B8D-40D0-A77D-A64174D4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E6DEB-070F-4DDF-94F8-639BA4CA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F9935-40F6-4D3D-A039-D7574427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7D1F2-10AB-4382-930B-72650E2E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E5223-9F07-4158-AA1F-02EB0A53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37218-9A9E-435A-B167-B646E606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554B-9969-4C6C-89FE-686EC43D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48063-723D-4EB5-A30A-4FBA824E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169F0-B6E4-4E7F-BDD5-220F86F6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82EC4-49CD-4B08-A490-2E3F4AC3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B732A-E5F6-4C8C-AE3C-3B2105BE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14D30-D2F8-4A4A-8201-35C606D6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02635-BB6A-4304-8663-5BE7BD43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36861-2F31-49B1-9F22-6E74DD5F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AB3B8-06D0-46A1-B883-C86F8154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77629-FEE4-400F-81F1-5822DE7C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13AF3-8AFB-4FE5-90FD-588BC78D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BCF8-C410-4C0E-8CF3-33CC5E56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EA88A-E027-4E4A-9111-64DFFC6D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A974C-F783-423F-8FBB-E2C45FBF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DBF45-60C2-4A37-A530-2AF8D838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72CCA-08C6-457A-A5BB-5C92ECCB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4983C-A36E-4D2D-A16C-8D3C5D4E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42588-0D35-4B23-AD16-CDEDD188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4D607-FDD1-467D-B36A-B3105F44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74864-4778-4AEE-98A4-7121D1BD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A5A75-813B-43C5-8B67-F2F4F2E8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7E658-8CA0-4797-ADCE-39BC5469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B0E2-4EDB-4DBC-AC9F-175D4DB6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8E636-C16A-4298-ADC2-B6ED5CBE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60F7A-BD20-4D8E-9EA6-6C1E1F14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79599-D22B-45FE-B7F0-25058DDA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B146-E465-4FC1-8B25-4149619A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F25D-B4A5-4905-88DD-2AF1A0C8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FB3A-957E-492C-934A-694BAE95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E626-4DFF-4EF2-9926-F3B907DA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E9DD-F4C4-40A1-AC99-568C842D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DD54-3390-432B-A90C-B1EF9B25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31D-10A4-476B-8D8D-6D7E6B42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BC73-285E-423A-BE7E-B2C0BBE3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A8D1-07A0-4F6E-9797-036F0016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7B82-1FB6-4082-9B80-4C989F20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CB87-F876-4C97-8CCE-CBA64816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CB21-D357-4B68-88A8-46F9F2D6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57DF9-63C6-483D-BEA1-604697FD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DAE9E-66CA-449C-B8EF-FA2091B7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68FC6-24B9-43D1-9445-7664FB93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4FAAE-5058-42A6-99AB-893C5B82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D078B-5501-4E77-B794-2EC95F82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074A-D603-429A-B668-82C7BF3F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25E58-8427-42D8-9A21-F3C63938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C685F-4B4E-44C7-ABBC-66503C86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EB7A3-DE38-4923-B39F-5666B3B6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44137-8176-4925-A7EF-C1FB9CEF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D5BE5-D07C-484B-BB33-63626AAE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1DD18-9CD8-49B1-A2C6-7C6BF20F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57E18-8066-45CF-B798-5E983F4F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55719-EBC8-4017-8AA9-0D52DB03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609C6-0418-4894-B5C3-1F421041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DA0D6-29C9-4AD4-A201-AAEE9BEA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F345-50C0-491E-8C58-9945FB1C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846EE-150E-4C5E-9373-ACC8D97C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B0EE1-D9FB-493E-9216-C3CF5F2B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0D3D3-26A8-47B1-8ECF-B8F80837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40B00-63CE-4BBF-B8DB-0F9BE3FF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26BBC-921A-4775-9E8B-2E483BF9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B16A1-5CA7-49D9-B978-1DC0ADE2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6CDC3-8929-48CD-8370-B218DFA2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6E4B6-1AC5-46BB-9906-F4194A45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18231-F299-4550-BC8C-1BABC076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C1926-C2B6-40CA-A7DA-B82DC72F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173-1FEA-4FB9-AF5D-D0AE148B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D57E3-93AB-462B-8C97-9B768C4C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0CB76-E5CF-4A62-BA8B-8356210F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5762B-E190-4850-A6DA-5A10A106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C2496-28BF-47BA-8BE6-0CF647D8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09840-AA5C-4926-A262-437F6257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690F0-D042-42BD-AC3E-B8C7C233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909D2-ED47-4FA8-811D-756ACBFC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DB006-A728-4342-8A6D-7E48C151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5C1C2-B90D-4AB4-A803-8F5A48D3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CF2A0-1CB6-4896-AC0B-63082322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9B4-BF90-4CD8-B006-8A6F600D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0E3DF-A983-4003-9301-87A2F60C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6112FA-ABD7-47B9-B8D0-7CB7B751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3DA6B0-D74D-42D2-87B0-DBE24B67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D61A04-C025-4F72-B7B7-C741101A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3692BC-DBF1-4F84-8244-AD07D778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747421-CCB6-413B-A5B3-422D67E4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B01589-B9AA-45EB-A75C-1FC87C75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D3DF93-8CC3-4ADB-A698-EE7038D6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E24D7F-155C-44E8-B881-B6BE00A0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4D0650-5F48-4D72-BE21-D188F198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D40F-363B-4E6D-A32C-679B0DB1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FA9D97-5D18-435A-81CF-681D5343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0D3521-52DE-4DAE-B07D-3461507E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603D2F-E788-4730-AF35-B4C7E37F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DBB4A-F019-4975-A162-22C2B1FA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6080E-3065-4A16-873B-566B21FF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72AE1-66D0-48EC-AAC4-6135A043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A8CD0-415D-41D3-A78E-DAD4273D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711BF-2FAB-4D52-B28B-E5F07D98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01A60-7EAE-4947-B3F0-CA0B1F74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772DC-5C92-4540-B48E-F48C431E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299-0D7F-4803-8852-4C386863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A0FB4-D2C6-41E1-AC8B-ED4A28BB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4D699-C23A-44FD-98CE-7B566F70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98E8D-C113-44DD-A1FE-B4C30752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0E8FD-EE82-4F8A-B614-E6C74664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1A707-D38C-431D-9714-72A15A94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E23E8-2F89-4EFD-A22C-FF41E7DC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B5341-265B-404A-9E9E-1CB6ED25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B4E05-ADAB-4E91-A01B-43FB728C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15CCA-818F-4300-98AD-890FCC55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A16F3-8B3C-47B4-ADD4-7F314BBC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A18-34B7-4AFF-86DE-0EBFCD20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0EEC4-5F14-405E-933B-6F1CF89D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DEA0F-5C72-4442-8802-5DF04D70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99364-966B-4747-9BA7-F7F53FF5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0DE57-431F-44D6-AFE2-7F740FF4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C6384-9A52-4823-8B72-709E8B30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F438B-1C3F-420F-A597-5E742CB5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85FDA-CC93-4B53-8FD1-2A6D7269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D37E2-F452-433D-9353-A5076839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0EC58-1728-4D2E-854F-3DF7F850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0C6C8-E035-43FB-912E-E2D1A451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5938-8E39-4452-8A0E-D51EBCE99BD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56D6-49FE-4F03-9964-B1EC1E8DDD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62F6-EE97-4D34-815F-331BC6BD1D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E160-EBA6-4343-AAD5-057CE7BD70B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0EAB-6A86-4A37-90AD-E5F65CBA29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1EFE-A060-4275-BCF6-1C26C7B9DC2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38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C698-9741-4B48-9C44-15894C7B1E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1870-9AC2-4B46-B0BD-F913FA907B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6B8D-0E89-4EFF-BAC5-AB61C62B894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1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2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C848-699F-4A09-B4CE-7721D51BDF5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67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F016-9AEF-4031-BC24-FCAC082E1C4C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1619280" y="98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«Влияние пищевых добавок на здоровье человека»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22" name="Picture 16" descr="1322115769_e-kod"/>
          <p:cNvPicPr/>
          <p:nvPr/>
        </p:nvPicPr>
        <p:blipFill>
          <a:blip r:embed="rId1"/>
          <a:stretch/>
        </p:blipFill>
        <p:spPr>
          <a:xfrm>
            <a:off x="5364000" y="314172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7" descr="i (5)"/>
          <p:cNvPicPr/>
          <p:nvPr/>
        </p:nvPicPr>
        <p:blipFill>
          <a:blip r:embed="rId2"/>
          <a:stretch/>
        </p:blipFill>
        <p:spPr>
          <a:xfrm>
            <a:off x="1403280" y="3284640"/>
            <a:ext cx="2737080" cy="273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Е 6** - усилители вкус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395280" y="1773360"/>
          <a:ext cx="8450280" cy="5029200"/>
        </p:xfrm>
        <a:graphic>
          <a:graphicData uri="http://schemas.openxmlformats.org/drawingml/2006/table">
            <a:tbl>
              <a:tblPr/>
              <a:tblGrid>
                <a:gridCol w="2664000"/>
                <a:gridCol w="3168360"/>
                <a:gridCol w="2617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ействие на организ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Для усиления выраженного вкуса и арома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идают ощущение жирности низкокалорийным йогуртам и морожен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мягчают резкий вк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сусной кислоты и остроту в майонез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одсласт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ютамат натрия вызывает головную боль, тошноту, сердце-биение, сонливость, слабость, может повлиять на зрение, если употреблять его несколько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таминовая кислота превращается в ами-номасляную, которая является возбудителем ЦНС.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анцерогенны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626—63О, 635. Опасные: Е620, 636,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7" name="Picture 53" descr="prip_usilitel_25"/>
          <p:cNvPicPr/>
          <p:nvPr/>
        </p:nvPicPr>
        <p:blipFill>
          <a:blip r:embed="rId1"/>
          <a:stretch/>
        </p:blipFill>
        <p:spPr>
          <a:xfrm>
            <a:off x="3059280" y="2349360"/>
            <a:ext cx="3114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7" descr="IAARSuxUDN"/>
          <p:cNvPicPr/>
          <p:nvPr/>
        </p:nvPicPr>
        <p:blipFill>
          <a:blip r:embed="rId1"/>
          <a:stretch/>
        </p:blipFill>
        <p:spPr>
          <a:xfrm>
            <a:off x="1619280" y="0"/>
            <a:ext cx="66546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делай правильный выбо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19" descr="9b73ca0f5593"/>
          <p:cNvPicPr/>
          <p:nvPr/>
        </p:nvPicPr>
        <p:blipFill>
          <a:blip r:embed="rId1"/>
          <a:stretch/>
        </p:blipFill>
        <p:spPr>
          <a:xfrm>
            <a:off x="0" y="3602160"/>
            <a:ext cx="4859280" cy="3255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20" descr="368172_medium_(www"/>
          <p:cNvPicPr/>
          <p:nvPr/>
        </p:nvPicPr>
        <p:blipFill>
          <a:blip r:embed="rId2"/>
          <a:stretch/>
        </p:blipFill>
        <p:spPr>
          <a:xfrm>
            <a:off x="4643280" y="4044960"/>
            <a:ext cx="4500720" cy="28130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1" descr="i (3)"/>
          <p:cNvPicPr/>
          <p:nvPr/>
        </p:nvPicPr>
        <p:blipFill>
          <a:blip r:embed="rId3"/>
          <a:stretch/>
        </p:blipFill>
        <p:spPr>
          <a:xfrm>
            <a:off x="4788000" y="1052640"/>
            <a:ext cx="4033800" cy="26654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2" descr="i (2)"/>
          <p:cNvPicPr/>
          <p:nvPr/>
        </p:nvPicPr>
        <p:blipFill>
          <a:blip r:embed="rId4"/>
          <a:stretch/>
        </p:blipFill>
        <p:spPr>
          <a:xfrm>
            <a:off x="0" y="1125360"/>
            <a:ext cx="3419640" cy="2565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4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58" dur="5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59" dur="5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56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56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Рисунок 8" descr="doshirak_gribi_big.jpg"/>
          <p:cNvPicPr/>
          <p:nvPr/>
        </p:nvPicPr>
        <p:blipFill>
          <a:blip r:embed="rId1"/>
          <a:stretch/>
        </p:blipFill>
        <p:spPr>
          <a:xfrm rot="1627200">
            <a:off x="6587640" y="4076640"/>
            <a:ext cx="1857600" cy="246852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7"/>
          <p:cNvSpPr/>
          <p:nvPr/>
        </p:nvSpPr>
        <p:spPr>
          <a:xfrm>
            <a:off x="250920" y="333360"/>
            <a:ext cx="57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то мы еди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8"/>
          <p:cNvSpPr/>
          <p:nvPr/>
        </p:nvSpPr>
        <p:spPr>
          <a:xfrm>
            <a:off x="102384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Заголовок 1"/>
          <p:cNvSpPr/>
          <p:nvPr/>
        </p:nvSpPr>
        <p:spPr>
          <a:xfrm>
            <a:off x="395280" y="1484280"/>
            <a:ext cx="51134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Есть большая разница между тем, что любит человек и что любит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10" descr="Produktyi-vyizyivayushhie-golovnuyu-bol"/>
          <p:cNvPicPr/>
          <p:nvPr/>
        </p:nvPicPr>
        <p:blipFill>
          <a:blip r:embed="rId2"/>
          <a:stretch/>
        </p:blipFill>
        <p:spPr>
          <a:xfrm>
            <a:off x="250920" y="1125360"/>
            <a:ext cx="8315280" cy="29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Рисунок 6" descr="0307_145722.jpg"/>
          <p:cNvPicPr/>
          <p:nvPr/>
        </p:nvPicPr>
        <p:blipFill>
          <a:blip r:embed="rId1"/>
          <a:stretch/>
        </p:blipFill>
        <p:spPr>
          <a:xfrm>
            <a:off x="6084720" y="3429000"/>
            <a:ext cx="2880000" cy="2919240"/>
          </a:xfrm>
          <a:prstGeom prst="rect">
            <a:avLst/>
          </a:prstGeom>
          <a:ln w="0">
            <a:noFill/>
          </a:ln>
        </p:spPr>
      </p:pic>
      <p:pic>
        <p:nvPicPr>
          <p:cNvPr id="530" name="Рисунок 7" descr="9726_6389thumb350.jpg"/>
          <p:cNvPicPr/>
          <p:nvPr/>
        </p:nvPicPr>
        <p:blipFill>
          <a:blip r:embed="rId2"/>
          <a:stretch/>
        </p:blipFill>
        <p:spPr>
          <a:xfrm>
            <a:off x="3635280" y="2781360"/>
            <a:ext cx="2401920" cy="6303960"/>
          </a:xfrm>
          <a:prstGeom prst="rect">
            <a:avLst/>
          </a:prstGeom>
          <a:ln w="0">
            <a:noFill/>
          </a:ln>
        </p:spPr>
      </p:pic>
      <p:pic>
        <p:nvPicPr>
          <p:cNvPr id="531" name="Рисунок 9" descr="b3d173965ceabb50527135fc4f143e41.jpg"/>
          <p:cNvPicPr/>
          <p:nvPr/>
        </p:nvPicPr>
        <p:blipFill>
          <a:blip r:embed="rId3"/>
          <a:stretch/>
        </p:blipFill>
        <p:spPr>
          <a:xfrm>
            <a:off x="250920" y="3429000"/>
            <a:ext cx="3025800" cy="253836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1258920" y="577800"/>
            <a:ext cx="756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людей  широко распространены привычки неправильного 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псы, чупа- чупсы, фаст- фуды, прочая жирная пища может вызвать ишемическую болезнь сердца уже к 20 год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8" descr="0_58acd_aae615_XL"/>
          <p:cNvPicPr/>
          <p:nvPr/>
        </p:nvPicPr>
        <p:blipFill>
          <a:blip r:embed="rId1"/>
          <a:stretch/>
        </p:blipFill>
        <p:spPr>
          <a:xfrm>
            <a:off x="2268360" y="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Е 1** - красител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50920" y="1700280"/>
          <a:ext cx="8642160" cy="4754520"/>
        </p:xfrm>
        <a:graphic>
          <a:graphicData uri="http://schemas.openxmlformats.org/drawingml/2006/table">
            <a:tbl>
              <a:tblPr/>
              <a:tblGrid>
                <a:gridCol w="3241440"/>
                <a:gridCol w="2374920"/>
                <a:gridCol w="3025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оздействие на организ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. для восстано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риродного цвет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утраченного в процесс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бработки и хра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. для окраши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есцветных продук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. для повыш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интенсивности цве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. Применяется пр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дделке проду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реди синтетических красителей практически нет безопасных. Большинство из них оказывают аллергенное, мутагенное, канцерогенное действие (Е131 - 142, 153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Запрещённые 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102. 110, 120, 123, 124, 127, 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6" name="Picture 117" descr="6701"/>
          <p:cNvPicPr/>
          <p:nvPr/>
        </p:nvPicPr>
        <p:blipFill>
          <a:blip r:embed="rId1"/>
          <a:stretch/>
        </p:blipFill>
        <p:spPr>
          <a:xfrm>
            <a:off x="826920" y="1125360"/>
            <a:ext cx="7380360" cy="5535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Е 2** - консервант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179280" y="2637000"/>
            <a:ext cx="266400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ля увеличения срока годности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едотвращения порчи продуктов, происходящей под действием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микроорганизм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Рисунок1"/>
          <p:cNvPicPr/>
          <p:nvPr/>
        </p:nvPicPr>
        <p:blipFill>
          <a:blip r:embed="rId1"/>
          <a:stretch/>
        </p:blipFill>
        <p:spPr>
          <a:xfrm>
            <a:off x="2268360" y="2781360"/>
            <a:ext cx="4762800" cy="35622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7"/>
          <p:cNvSpPr/>
          <p:nvPr/>
        </p:nvSpPr>
        <p:spPr>
          <a:xfrm>
            <a:off x="7504200" y="2811600"/>
            <a:ext cx="183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8"/>
          <p:cNvSpPr/>
          <p:nvPr/>
        </p:nvSpPr>
        <p:spPr>
          <a:xfrm>
            <a:off x="6804000" y="1916280"/>
            <a:ext cx="217980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здействие на организ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рбиновая кислота угнетает ферментные системы организма. Бензойная кислота — аллерген. Ракообразующие: Е210, 211—217, 219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редные для кож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Е230—232, 238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зывают расстройств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ишечника: Е221, 226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лияют на давление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Е250, 251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пасные: Е201, 222—224, 233, 27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 3** - антиокисли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6551640" y="1413000"/>
            <a:ext cx="25923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оздействие на организм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ызывают сыпь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Е311—313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ызывают расстройств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кишечник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Е338—34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овышают холестери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Е320—32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7" descr="Рисунок1"/>
          <p:cNvPicPr/>
          <p:nvPr/>
        </p:nvPicPr>
        <p:blipFill>
          <a:blip r:embed="rId1"/>
          <a:stretch/>
        </p:blipFill>
        <p:spPr>
          <a:xfrm>
            <a:off x="2843280" y="2637000"/>
            <a:ext cx="3754440" cy="288288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8"/>
          <p:cNvSpPr/>
          <p:nvPr/>
        </p:nvSpPr>
        <p:spPr>
          <a:xfrm>
            <a:off x="808200" y="3675240"/>
            <a:ext cx="183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179280" y="1484280"/>
            <a:ext cx="291636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ащищают от порчи жиры и жиросодержащие продукты, предохраняют от потемнения овощи и фрукты, замедляют ферментативное окисление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 4** - загусти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324000" y="1125360"/>
          <a:ext cx="8569080" cy="5115240"/>
        </p:xfrm>
        <a:graphic>
          <a:graphicData uri="http://schemas.openxmlformats.org/drawingml/2006/table">
            <a:tbl>
              <a:tblPr/>
              <a:tblGrid>
                <a:gridCol w="3025800"/>
                <a:gridCol w="2877840"/>
                <a:gridCol w="266544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ействие на организ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озволяют получить продукты с нужной консистенцией, улучшаю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храняют их структур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Используется в производстве мороженого, желе, консервов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он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итывают вещества независимо от их полезности или вредности, могут нарушить всасывание минеральных веществ, являются легкими слабительны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расстройство кишечника: Е407, 450, 462, 465, 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9" name="Picture 49" descr="23383701_18632215_10460348_8381415"/>
          <p:cNvPicPr/>
          <p:nvPr/>
        </p:nvPicPr>
        <p:blipFill>
          <a:blip r:embed="rId1"/>
          <a:stretch/>
        </p:blipFill>
        <p:spPr>
          <a:xfrm>
            <a:off x="3276720" y="1989000"/>
            <a:ext cx="29494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Е 5** - эмульгаторы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0" y="1989000"/>
          <a:ext cx="2411280" cy="4535640"/>
        </p:xfrm>
        <a:graphic>
          <a:graphicData uri="http://schemas.openxmlformats.org/drawingml/2006/table">
            <a:tbl>
              <a:tblPr/>
              <a:tblGrid>
                <a:gridCol w="2411280"/>
              </a:tblGrid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чают за консистенцию пищевого продукта, его вязкость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Используется в производстве маргарина, кулинарного жира, колбасного фарша, кондитерских и хлебобулочных изделия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6912000" y="1916280"/>
          <a:ext cx="2232000" cy="45748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ействие на организ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фосфатов может привести к нарушению баланса между фосфором и кальцием, плохому усвоению кальция, развитию остеопороза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: Е501—503, 510, 513, 527, 56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3" name="Picture 39" descr="i"/>
          <p:cNvPicPr/>
          <p:nvPr/>
        </p:nvPicPr>
        <p:blipFill>
          <a:blip r:embed="rId1"/>
          <a:stretch/>
        </p:blipFill>
        <p:spPr>
          <a:xfrm>
            <a:off x="3419640" y="4433760"/>
            <a:ext cx="3214440" cy="21528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0" descr="i (1)"/>
          <p:cNvPicPr/>
          <p:nvPr/>
        </p:nvPicPr>
        <p:blipFill>
          <a:blip r:embed="rId2"/>
          <a:stretch/>
        </p:blipFill>
        <p:spPr>
          <a:xfrm>
            <a:off x="2700360" y="1773360"/>
            <a:ext cx="287964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6:00:55Z</dcterms:created>
  <dc:creator>Химия</dc:creator>
  <dc:description/>
  <dc:language>en-US</dc:language>
  <cp:lastModifiedBy>нурия</cp:lastModifiedBy>
  <dcterms:modified xsi:type="dcterms:W3CDTF">2015-03-13T12:17:38Z</dcterms:modified>
  <cp:revision>13</cp:revision>
  <dc:subject/>
  <dc:title>Слайд 1</dc:title>
</cp:coreProperties>
</file>