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3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A03C-F437-4F54-BE6F-D16C99143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B77F-6269-4D45-BC2E-CF2F001CC9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2B83-14CA-491A-84FF-CE8573F678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 Вулк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2762-CC35-4D15-BDC2-D9CA52B94C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ская Сопка  Кракатау  Фудзияма  Эльбрус   Килиманджа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D48-3717-4E8D-A73F-00663AA5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7D5-D567-4AF0-BA89-096FCD31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B6F-F9C0-443D-8028-E24AA8E9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6CA-CC62-47A8-A2BD-1343B395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A7F0-E167-4E5F-A264-461A7AA3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8BFA-2747-4181-BD5F-21D0C52A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FCA7-5C2E-4346-AA18-81152CF0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2185-C7CA-42F9-8968-106C0BBE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FF05-B181-4EC4-ACB1-CA6378C7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39DD-B51B-4501-BBA9-FA308729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1990-9148-4110-93D7-99325FFE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CB5-28D4-4FC3-98D3-03D6A9D9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2BAB-6AF2-4AA7-B644-8528D667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AB10-AF67-463A-994A-B0790818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C9A5-537F-458B-AB68-8BE6B7FF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A736-E4BC-4780-8838-0482A421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1D82-F64D-486C-ACF8-9E5D7B4C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B85A-DBFB-4189-9CC3-87BE0C6D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4CAAC-C2FB-4631-9CDE-39FAC51F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5C53C-274D-47B9-AED7-41C78F2E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F4F1-644A-494F-B0B6-E8AD9113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7250-3B86-486C-A042-923D8455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A7E-3B16-4D37-9AD3-A670A8A3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71F3-E4D8-4EF0-A2D8-11A8D74E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2BA1-D6B6-4FE1-A774-EFC11BA2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81094-5DA0-4DA3-A3EC-476078C9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3AA5-6CF6-4C70-8815-4B19BE8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8F08-1E02-4A4A-B587-41D43726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9D0B-8B05-423A-BE9A-C3690D3A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C175C-A00F-4407-BD55-2EBEA0E2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E4738-DF6D-47C8-87D1-DB63736E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93EE-D1BE-4BCC-9F69-5262D272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683EE-037F-44A7-8B8A-05652B09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7C9-9732-483F-8BBF-C6BFC29A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4E34-533D-4019-85E6-FF7E72A7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85549-194B-47C9-B88D-756BD64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3565-D0F5-441C-A990-6657CA42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289E9-69BF-49ED-8820-00E1BB3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E96E5-07B8-41FE-87FF-19272A47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49E3-ECD1-44F9-8501-E0D62597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032E7-9265-4123-815A-C12DD360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A8D2C-6E99-4127-B585-BF19F240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77952-023D-47D0-92A6-DFE50B9C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85CC6-C40C-4146-A9FA-E885906D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A00-CB2A-4989-96CE-549D8766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44B1B-6A34-4A37-8CDC-531024D4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E6DA1-5B3C-4FC4-93BF-4D052EFC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A41D0-B6F8-4CD0-B13F-8C0DB37A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E143B-7D1E-404E-8A51-898F37D3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A5C9-D9CB-45BA-A21E-801E5BFE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E40E0-9DCF-4638-8253-2178F501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8ABE0-E456-4F10-AA40-1F1B6DD1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9C9A6-085A-4738-B4DA-AB3D2C1D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A8CB2-B88D-478D-B0B1-40E48B18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73137-894A-4F35-BB03-BD4CED56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100-232E-4CB6-9929-DF7C1F18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EF8D-678A-4CDF-A3B6-45053245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E8922-46D3-426F-84A2-324DC374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D1DE9-FDBB-44DF-8C28-1576E9F3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B940D-7EFC-48A4-BE01-5BE0A917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56D1A-45BA-4A06-9A36-0D36EB8C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8C0C5-CF4F-4F0D-A3EB-D593051C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F1F3E-958E-4600-8BAA-41A63ADC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089C1-37C3-4EF7-8838-78888745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01DDC-5169-43FD-8DB0-CB7F5DF3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036BB-9848-41CC-AAF5-BAEFAE6C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F22-1EE4-4ECE-861D-3C0A42FB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462D8-AA10-428A-898B-4CBFE7D2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90F59-AA3A-49F8-AEAE-652761D1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9E4D2-DB00-4D1B-A183-B6EC525C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83FB9-5E73-419F-8E7F-3BBB7ACD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22F43-2142-4332-954A-7CBA496B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14799-3203-4C67-A2FF-2A488723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04C65-63AC-41B5-83B9-7F4C3012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A86ED-03E0-4E73-8B45-37DA9B94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8EC30-F824-462C-9A78-0C0B1C1B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771E6-F211-4959-89C6-7883C2D9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45F-DE00-40BA-80D7-D53F9C2F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62F7F-EB3B-4C6C-BAD7-023C842F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C5E5D-0B2E-4A64-9BCE-CAFD8384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70902-F76F-493D-B0DF-A687A5B7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57FDF-A6B4-4561-8349-2C33B150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68C38-0AC3-436F-99B0-11507986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9A7-433D-4C94-8461-22AACAF6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081C-D31C-4C31-A345-57DB24FDC5BF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F605-9EE2-4C26-9B3D-C647746D796F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2720-24FC-4F1A-904E-875336730797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618B-DEAB-4521-89D2-081F8E0A706E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E94B-0D86-4767-BAC6-3FF00EAA7E07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9B86-4C9C-4432-A975-F65E143A52C1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7D59-8B62-41B2-95E5-59328B2830C1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ifeglobe.net/media/entry/643/471349551_4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lifeglobe.net/media/entry/643/352099275_2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8" name="Picture 8" descr="3857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WordArt 9"/>
          <p:cNvSpPr txBox="1"/>
          <p:nvPr/>
        </p:nvSpPr>
        <p:spPr>
          <a:xfrm>
            <a:off x="611280" y="4653000"/>
            <a:ext cx="7921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1" descr="ramki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24360" y="27079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ff"/>
                </a:solidFill>
                <a:latin typeface="Verdana"/>
              </a:rPr>
              <a:t>Схема </a:t>
            </a:r>
            <a:br>
              <a:rPr sz="2500"/>
            </a:br>
            <a:r>
              <a:rPr b="1" lang="en-US" sz="2500" spc="-1" strike="noStrike">
                <a:solidFill>
                  <a:srgbClr val="3366ff"/>
                </a:solidFill>
                <a:latin typeface="Verdana"/>
              </a:rPr>
              <a:t>«Принцип действия гейзера»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58" name="Picture 4" descr="Geyser_animation"/>
          <p:cNvPicPr/>
          <p:nvPr/>
        </p:nvPicPr>
        <p:blipFill>
          <a:blip r:embed="rId2"/>
          <a:stretch/>
        </p:blipFill>
        <p:spPr>
          <a:xfrm>
            <a:off x="539640" y="404640"/>
            <a:ext cx="5491440" cy="5988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4"/>
          <p:cNvSpPr/>
          <p:nvPr/>
        </p:nvSpPr>
        <p:spPr>
          <a:xfrm>
            <a:off x="1285920" y="7142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мые красивые гейзеры пла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785880" y="55720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йзер Бихай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7"/>
          <p:cNvSpPr/>
          <p:nvPr/>
        </p:nvSpPr>
        <p:spPr>
          <a:xfrm>
            <a:off x="5508360" y="557208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йзер Большой Фон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" descr="4713495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85768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14946591"/>
          <p:cNvPicPr/>
          <p:nvPr/>
        </p:nvPicPr>
        <p:blipFill>
          <a:blip r:embed="rId3"/>
          <a:stretch/>
        </p:blipFill>
        <p:spPr>
          <a:xfrm>
            <a:off x="4643280" y="2857680"/>
            <a:ext cx="3656160" cy="246204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12"/>
          <p:cNvSpPr/>
          <p:nvPr/>
        </p:nvSpPr>
        <p:spPr>
          <a:xfrm>
            <a:off x="3495960" y="171468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к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Йеллоусто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25764507_3"/>
          <p:cNvPicPr/>
          <p:nvPr/>
        </p:nvPicPr>
        <p:blipFill>
          <a:blip r:embed="rId1"/>
          <a:stretch/>
        </p:blipFill>
        <p:spPr>
          <a:xfrm>
            <a:off x="4643280" y="1000080"/>
            <a:ext cx="4016520" cy="278604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5217840" y="392904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долине гейзеров на Камча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3520992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760" y="27147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2"/>
          <p:cNvSpPr/>
          <p:nvPr/>
        </p:nvSpPr>
        <p:spPr>
          <a:xfrm>
            <a:off x="1009440" y="564372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йзер Fly Geyser в Нева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ramki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85600" y="1428480"/>
            <a:ext cx="567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Домашнее задание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962280" y="3079440"/>
            <a:ext cx="765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ＭＳ ゴシック"/>
              </a:rPr>
              <a:t>1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  <a:ea typeface="ＭＳ ゴシック"/>
              </a:rPr>
              <a:t>. Выучить: 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  <a:ea typeface="ＭＳ Ｐゴシック"/>
              </a:rPr>
              <a:t>материал учебника стр. 82-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Verdana"/>
                <a:ea typeface="ＭＳ Ｐゴシック"/>
              </a:rPr>
              <a:t>Обозначить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  <a:ea typeface="ＭＳ Ｐゴシック"/>
              </a:rPr>
              <a:t>в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  <a:ea typeface="ＭＳ Ｐゴシック"/>
              </a:rPr>
              <a:t> контурной кар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  <a:ea typeface="ＭＳ Ｐゴシック"/>
              </a:rPr>
              <a:t>вулканы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  <a:ea typeface="ＭＳ Ｐゴシック"/>
              </a:rPr>
              <a:t>, указанные в учебнике.</a:t>
            </a:r>
            <a:r>
              <a:rPr b="0" lang="en-GB" sz="2400" spc="-1" strike="noStrike">
                <a:solidFill>
                  <a:srgbClr val="00206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  <a:ea typeface="ＭＳ Ｐゴシック"/>
              </a:rPr>
              <a:t>2. Узнать: откуда произошли названия вулкан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  <a:ea typeface="ＭＳ Ｐゴシック"/>
              </a:rPr>
              <a:t>указанных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642960" y="6429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ЕМА УРОКА:  Вулканы, горячие источники и гейз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"/>
          <p:cNvSpPr/>
          <p:nvPr/>
        </p:nvSpPr>
        <p:spPr>
          <a:xfrm>
            <a:off x="1500120" y="236160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MS Mincho"/>
              </a:rPr>
              <a:t>Цел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асширить и углубить знания о вулканах и их строении,  познакомить с географией  их размещения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ыявить причины возникновения вулканов, гейзеров и горячих источ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643120" y="1928880"/>
            <a:ext cx="3571920" cy="414324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2"/>
          <p:cNvSpPr/>
          <p:nvPr/>
        </p:nvSpPr>
        <p:spPr>
          <a:xfrm>
            <a:off x="1071720" y="71424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</a:rPr>
              <a:t>Бог огня и кузнечного д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ramki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55640" y="692280"/>
            <a:ext cx="5832360" cy="387972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pic>
        <p:nvPicPr>
          <p:cNvPr id="326" name="Picture 2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3678120" cy="26161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327" name="Rectangle 17"/>
          <p:cNvSpPr/>
          <p:nvPr/>
        </p:nvSpPr>
        <p:spPr>
          <a:xfrm>
            <a:off x="961560" y="486900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стров Вулк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714240" y="1214280"/>
            <a:ext cx="7858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Verdana"/>
              </a:rPr>
              <a:t>Вулкан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геологическое образование, возникшее над трещиной в земной коре, по которой извергается на земную поверхность л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3300"/>
                </a:solidFill>
                <a:latin typeface="Verdana"/>
              </a:rPr>
              <a:t>ВНУТРЕННЕЕ СТРОЕНИЕ ВУЛКАНА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30" name="Picture 3" descr="Вулкан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4"/>
          <p:cNvSpPr/>
          <p:nvPr/>
        </p:nvSpPr>
        <p:spPr>
          <a:xfrm>
            <a:off x="3962520" y="762120"/>
            <a:ext cx="3047760" cy="761760"/>
          </a:xfrm>
          <a:prstGeom prst="wedgeRoundRectCallout">
            <a:avLst>
              <a:gd name="adj1" fmla="val -74217"/>
              <a:gd name="adj2" fmla="val 272500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ЕР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УЛК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7086600" y="914400"/>
            <a:ext cx="2057400" cy="838080"/>
          </a:xfrm>
          <a:prstGeom prst="wedgeRoundRectCallout">
            <a:avLst>
              <a:gd name="adj1" fmla="val -67050"/>
              <a:gd name="adj2" fmla="val 46023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К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А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1447920" y="5867280"/>
            <a:ext cx="2209680" cy="762120"/>
          </a:xfrm>
          <a:prstGeom prst="wedgeRoundRectCallout">
            <a:avLst>
              <a:gd name="adj1" fmla="val 6467"/>
              <a:gd name="adj2" fmla="val -133541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Ч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Г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 rot="16200000">
            <a:off x="588240" y="714600"/>
            <a:ext cx="1081080" cy="1467000"/>
          </a:xfrm>
          <a:prstGeom prst="wedgeRoundRectCallout">
            <a:avLst>
              <a:gd name="adj1" fmla="val 23861"/>
              <a:gd name="adj2" fmla="val 134847"/>
              <a:gd name="adj3" fmla="val 16667"/>
            </a:avLst>
          </a:prstGeom>
          <a:solidFill>
            <a:srgbClr val="cfe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А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 rot="661800">
            <a:off x="6141600" y="2577600"/>
            <a:ext cx="1584360" cy="863640"/>
          </a:xfrm>
          <a:prstGeom prst="wedgeRoundRectCallout">
            <a:avLst>
              <a:gd name="adj1" fmla="val -103893"/>
              <a:gd name="adj2" fmla="val -2972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УСЫ ВУЛК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6" descr="ramki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WordArt 2"/>
          <p:cNvSpPr txBox="1"/>
          <p:nvPr/>
        </p:nvSpPr>
        <p:spPr>
          <a:xfrm>
            <a:off x="971640" y="549360"/>
            <a:ext cx="74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latino Linotype"/>
              </a:rPr>
              <a:t>Группы вулканов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50920" y="2492280"/>
            <a:ext cx="3889440" cy="25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Palatino Linotype"/>
              </a:rPr>
              <a:t>   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Palatino Linotype"/>
              </a:rPr>
              <a:t>ДЕЙСТВУЮЩИЕ </a:t>
            </a:r>
            <a:r>
              <a:rPr b="1" lang="en-US" sz="3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Palatino Linotype"/>
              </a:rPr>
              <a:t>периодически извергающиеся в настоящее время или хотя бы один раз за последние 10 тыс.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067280" y="3141720"/>
            <a:ext cx="26636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Palatino Linotype"/>
              </a:rPr>
              <a:t>УСНУВШИЕ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Palatino Linotype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Palatino Linotype"/>
              </a:rPr>
              <a:t>вулканы, ни разу не извергающиеся от 10 тыс. лет до 25 тыс.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6227640" y="5084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Palatino Linotype"/>
              </a:rPr>
              <a:t>ПОТУХШИЕ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Palatino Linotype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Palatino Linotype"/>
              </a:rPr>
              <a:t>вулканы  не извергающиеся 25 тыс.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4643280" y="1341360"/>
            <a:ext cx="289080" cy="1943280"/>
          </a:xfrm>
          <a:prstGeom prst="downArrow">
            <a:avLst>
              <a:gd name="adj1" fmla="val 50000"/>
              <a:gd name="adj2" fmla="val 168057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 rot="19940400">
            <a:off x="7019640" y="1125000"/>
            <a:ext cx="288720" cy="3673800"/>
          </a:xfrm>
          <a:prstGeom prst="downArrow">
            <a:avLst>
              <a:gd name="adj1" fmla="val 50000"/>
              <a:gd name="adj2" fmla="val 318111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"/>
          <p:cNvSpPr/>
          <p:nvPr/>
        </p:nvSpPr>
        <p:spPr>
          <a:xfrm rot="8376000">
            <a:off x="1546920" y="1700280"/>
            <a:ext cx="1800360" cy="272880"/>
          </a:xfrm>
          <a:prstGeom prst="rightArrow">
            <a:avLst>
              <a:gd name="adj1" fmla="val 50000"/>
              <a:gd name="adj2" fmla="val 164941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45" name="Picture 8" descr="mount-redoubt-volcano-09"/>
          <p:cNvPicPr/>
          <p:nvPr/>
        </p:nvPicPr>
        <p:blipFill>
          <a:blip r:embed="rId1"/>
          <a:stretch/>
        </p:blipFill>
        <p:spPr>
          <a:xfrm>
            <a:off x="876240" y="1600200"/>
            <a:ext cx="3200400" cy="2185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кракатау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-1440" y="0"/>
            <a:ext cx="425448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4" descr="эльбрус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7" descr="ВЕЛИЧАЙШАЯ ГОРА ЯПОНИИ ФУДЗИЯМА"/>
          <p:cNvPicPr/>
          <p:nvPr/>
        </p:nvPicPr>
        <p:blipFill>
          <a:blip r:embed="rId4"/>
          <a:stretch/>
        </p:blipFill>
        <p:spPr>
          <a:xfrm>
            <a:off x="3395520" y="0"/>
            <a:ext cx="574848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3"/>
          <p:cNvSpPr/>
          <p:nvPr/>
        </p:nvSpPr>
        <p:spPr>
          <a:xfrm>
            <a:off x="104040" y="189000"/>
            <a:ext cx="37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Ключевская Со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194040" y="11592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ракат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7"/>
          <p:cNvSpPr/>
          <p:nvPr/>
        </p:nvSpPr>
        <p:spPr>
          <a:xfrm>
            <a:off x="6538680" y="551664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удзия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6984360" y="33336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льбр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Вулкан Килиманджаро"/>
          <p:cNvPicPr/>
          <p:nvPr/>
        </p:nvPicPr>
        <p:blipFill>
          <a:blip r:embed="rId5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0"/>
          <p:cNvSpPr/>
          <p:nvPr/>
        </p:nvSpPr>
        <p:spPr>
          <a:xfrm>
            <a:off x="496440" y="18900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илиманджа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1000080" y="2000160"/>
            <a:ext cx="692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Verdana"/>
              </a:rPr>
              <a:t>Гейзер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– периодически фонтанирующие горячие источн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3:23:18Z</dcterms:created>
  <dc:creator>Хавов</dc:creator>
  <dc:description/>
  <dc:language>en-US</dc:language>
  <cp:lastModifiedBy>школа</cp:lastModifiedBy>
  <dcterms:modified xsi:type="dcterms:W3CDTF">2015-03-13T10:25:12Z</dcterms:modified>
  <cp:revision>159</cp:revision>
  <dc:subject/>
  <dc:title>Слайд 1</dc:title>
</cp:coreProperties>
</file>