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284-1C25-44B9-BE82-3B9FE705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A45-02B4-48B9-B290-63A7F5F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4D0-C922-4523-8AE6-A123DC67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27E-61D6-4BB0-8AF4-324D3E0E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457-6F4B-4FE1-BCA4-EC07A97D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10FC-3D7F-4BED-BCF6-7D710EE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64A5-2164-44F1-847C-F52F7505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7E8-FCB1-4CAD-99AB-1EE249D4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391-0874-448A-AF58-A48B6A4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CE1-26E6-4F07-A68E-285C604A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C98-0400-48A5-8774-8F42D69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8EC-4CE2-4F05-B620-33350F3B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435-E28D-4E69-9268-58BF188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E2DE-9C0C-44AC-8FF5-CF857C7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A05B-31DF-4F72-BCB5-560B4BB6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CCD1-93C8-47D5-BB2B-7A9D295D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1D46-C256-40A3-8AB9-7E4A14B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604-8C05-49CC-9A6E-7040CD7F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EAA-C70A-4D4F-8865-2C83A9F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5BF-5DD8-4A42-B0F0-5EB3A28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52D-4A1A-4D1F-851B-57525F9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E71-D19D-4AD5-98DC-6C4B501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01A-BE7C-4DEB-B978-472C032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7A4-32A2-41B3-8B33-06731AF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8718-0320-4A0D-B4AD-AC5385D504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3FA5-70ED-4B8A-9877-B0A1511A30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а на тему «Масштаб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57240" y="4419720"/>
            <a:ext cx="4800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Выполнила работу Юсупова Татьяна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стояние между п. Берёзово и п. Игрим на карте 1,4 см. Найдите расстояние между поселками на местности, если масштаб карты 1:700000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карте – 1,4 с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местности – х к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:1:7000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) 1,4*7000000=9800000см. = 98к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вет: 98к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0:37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