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8FB2E-1BE0-4954-92CE-5635DB78BC1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639A5-DBBF-4D3D-AB5C-12CCC370BFA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B0691-77DD-4092-B7EB-1C165A4B492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D32CE-32A4-4CA0-874B-968B961A5F4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58887-81FB-450B-840F-560CEAD2BA1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32A61-AEC9-4B21-8F84-2E400429E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0C016-E667-4742-A337-82C22A727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21CA3-B4DB-4ABF-BE36-9CD4BCC25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5CA72-276B-4D8F-A909-2E9D74D9C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6CDEB-C995-470C-94E2-BAD474C3B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FDA95-0078-4D5B-BCEA-0E81AAC60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C592B-D331-45E2-9ABB-9F32FBBDE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E613C-1872-48CF-AAE5-5610E6F92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0F8D6-E168-4747-9B23-EBD142FDE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86712-1AE8-4B81-B704-2B16332F1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CC91D-7D87-46F1-8E24-84FCF628B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DB962-54B7-46EE-B8C6-929AE8E6A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1D782-1F22-4CA4-8B8B-1DA87C575A3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4"/>
          <p:cNvSpPr/>
          <p:nvPr/>
        </p:nvSpPr>
        <p:spPr>
          <a:xfrm>
            <a:off x="3276720" y="4149720"/>
            <a:ext cx="33829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6"/>
          <p:cNvSpPr/>
          <p:nvPr/>
        </p:nvSpPr>
        <p:spPr>
          <a:xfrm>
            <a:off x="642960" y="571680"/>
            <a:ext cx="7921440" cy="15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262673"/>
                </a:solidFill>
                <a:latin typeface="Comic Sans MS"/>
              </a:rPr>
              <a:t>«Жила – была сказка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Bookman Old Style"/>
              </a:rPr>
              <a:t> 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Горизонтальный свиток 1"/>
          <p:cNvSpPr/>
          <p:nvPr/>
        </p:nvSpPr>
        <p:spPr>
          <a:xfrm>
            <a:off x="1714680" y="428760"/>
            <a:ext cx="5857560" cy="1819080"/>
          </a:xfrm>
          <a:prstGeom prst="horizontalScroll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2"/>
          <p:cNvSpPr/>
          <p:nvPr/>
        </p:nvSpPr>
        <p:spPr>
          <a:xfrm>
            <a:off x="2214720" y="1000080"/>
            <a:ext cx="528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a20000"/>
                </a:solidFill>
                <a:latin typeface="Comic Sans MS"/>
              </a:rPr>
              <a:t>Классификация сказо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Волна 4"/>
          <p:cNvSpPr/>
          <p:nvPr/>
        </p:nvSpPr>
        <p:spPr>
          <a:xfrm>
            <a:off x="571680" y="3143160"/>
            <a:ext cx="3200400" cy="1414440"/>
          </a:xfrm>
          <a:custGeom>
            <a:avLst/>
            <a:gdLst>
              <a:gd name="textAreaLeft" fmla="*/ 0 w 3200400"/>
              <a:gd name="textAreaRight" fmla="*/ 3200760 w 3200400"/>
              <a:gd name="textAreaTop" fmla="*/ 353520 h 1414440"/>
              <a:gd name="textAreaBottom" fmla="*/ 1060920 h 1414440"/>
            </a:gdLst>
            <a:ahLst/>
            <a:rect l="textAreaLeft" t="textAreaTop" r="textAreaRight" b="textAreaBottom"/>
            <a:pathLst>
              <a:path w="21600" h="21600">
                <a:moveTo>
                  <a:pt x="0" y="2700"/>
                </a:moveTo>
                <a:cubicBezTo>
                  <a:pt x="7200" y="-6865"/>
                  <a:pt x="14400" y="12265"/>
                  <a:pt x="21600" y="2700"/>
                </a:cubicBezTo>
                <a:lnTo>
                  <a:pt x="21600" y="18900"/>
                </a:lnTo>
                <a:cubicBezTo>
                  <a:pt x="14400" y="28465"/>
                  <a:pt x="7200" y="9335"/>
                  <a:pt x="0" y="18900"/>
                </a:cubicBezTo>
                <a:close/>
              </a:path>
            </a:pathLst>
          </a:custGeom>
          <a:gradFill rotWithShape="0">
            <a:gsLst>
              <a:gs pos="0">
                <a:srgbClr val="222268"/>
              </a:gs>
              <a:gs pos="100000">
                <a:srgbClr val="effafb"/>
              </a:gs>
            </a:gsLst>
            <a:lin ang="5400000"/>
          </a:gra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Comic Sans MS"/>
              </a:rPr>
              <a:t>По видовым особенностя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Волна 5"/>
          <p:cNvSpPr/>
          <p:nvPr/>
        </p:nvSpPr>
        <p:spPr>
          <a:xfrm>
            <a:off x="4786200" y="3429000"/>
            <a:ext cx="3200400" cy="1414440"/>
          </a:xfrm>
          <a:custGeom>
            <a:avLst/>
            <a:gdLst>
              <a:gd name="textAreaLeft" fmla="*/ 0 w 3200400"/>
              <a:gd name="textAreaRight" fmla="*/ 3200760 w 3200400"/>
              <a:gd name="textAreaTop" fmla="*/ 353520 h 1414440"/>
              <a:gd name="textAreaBottom" fmla="*/ 1060920 h 1414440"/>
            </a:gdLst>
            <a:ahLst/>
            <a:rect l="textAreaLeft" t="textAreaTop" r="textAreaRight" b="textAreaBottom"/>
            <a:pathLst>
              <a:path w="21600" h="21600">
                <a:moveTo>
                  <a:pt x="0" y="2700"/>
                </a:moveTo>
                <a:cubicBezTo>
                  <a:pt x="7200" y="-6865"/>
                  <a:pt x="14400" y="12265"/>
                  <a:pt x="21600" y="2700"/>
                </a:cubicBezTo>
                <a:lnTo>
                  <a:pt x="21600" y="18900"/>
                </a:lnTo>
                <a:cubicBezTo>
                  <a:pt x="14400" y="28465"/>
                  <a:pt x="7200" y="9335"/>
                  <a:pt x="0" y="18900"/>
                </a:cubicBezTo>
                <a:close/>
              </a:path>
            </a:pathLst>
          </a:custGeom>
          <a:gradFill rotWithShape="0">
            <a:gsLst>
              <a:gs pos="0">
                <a:srgbClr val="222268"/>
              </a:gs>
              <a:gs pos="100000">
                <a:srgbClr val="effafb"/>
              </a:gs>
            </a:gsLst>
            <a:lin ang="5400000"/>
          </a:gra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2268"/>
                </a:solidFill>
                <a:latin typeface="Comic Sans MS"/>
              </a:rPr>
              <a:t>   </a:t>
            </a:r>
            <a:r>
              <a:rPr b="1" lang="ru-RU" sz="2800" spc="-1" strike="noStrike">
                <a:solidFill>
                  <a:srgbClr val="0070c0"/>
                </a:solidFill>
                <a:latin typeface="Comic Sans MS"/>
              </a:rPr>
              <a:t>По авторств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Прямая со стрелкой 6"/>
          <p:cNvCxnSpPr/>
          <p:nvPr/>
        </p:nvCxnSpPr>
        <p:spPr>
          <a:xfrm>
            <a:off x="4857840" y="2071800"/>
            <a:ext cx="2000880" cy="1643760"/>
          </a:xfrm>
          <a:prstGeom prst="straightConnector1">
            <a:avLst/>
          </a:prstGeom>
          <a:ln w="507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79" name="Прямая со стрелкой 9"/>
          <p:cNvCxnSpPr/>
          <p:nvPr/>
        </p:nvCxnSpPr>
        <p:spPr>
          <a:xfrm flipH="1">
            <a:off x="2356560" y="2070720"/>
            <a:ext cx="2358360" cy="1215000"/>
          </a:xfrm>
          <a:prstGeom prst="straightConnector1">
            <a:avLst/>
          </a:prstGeom>
          <a:ln w="50760">
            <a:solidFill>
              <a:srgbClr val="b6dcdf"/>
            </a:solidFill>
            <a:miter/>
            <a:tailEnd len="med" type="arrow" w="med"/>
          </a:ln>
        </p:spPr>
      </p:cxnSp>
    </p:spTree>
  </p:cSld>
  <p:transition advTm="21000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80" name="Прямая со стрелкой 14"/>
          <p:cNvCxnSpPr/>
          <p:nvPr/>
        </p:nvCxnSpPr>
        <p:spPr>
          <a:xfrm>
            <a:off x="4391640" y="1455840"/>
            <a:ext cx="2894760" cy="1759680"/>
          </a:xfrm>
          <a:prstGeom prst="straightConnector1">
            <a:avLst/>
          </a:prstGeom>
          <a:ln w="507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81" name="Прямая со стрелкой 15"/>
          <p:cNvCxnSpPr/>
          <p:nvPr/>
        </p:nvCxnSpPr>
        <p:spPr>
          <a:xfrm flipH="1">
            <a:off x="2214000" y="1500120"/>
            <a:ext cx="2143800" cy="1331280"/>
          </a:xfrm>
          <a:prstGeom prst="straightConnector1">
            <a:avLst/>
          </a:prstGeom>
          <a:ln w="50760">
            <a:solidFill>
              <a:srgbClr val="b6dcdf"/>
            </a:solidFill>
            <a:miter/>
            <a:tailEnd len="med" type="arrow" w="med"/>
          </a:ln>
        </p:spPr>
      </p:cxnSp>
      <p:grpSp>
        <p:nvGrpSpPr>
          <p:cNvPr id="82" name="Горизонтальный свиток 11"/>
          <p:cNvGrpSpPr/>
          <p:nvPr/>
        </p:nvGrpSpPr>
        <p:grpSpPr>
          <a:xfrm>
            <a:off x="907920" y="122400"/>
            <a:ext cx="6967800" cy="1541160"/>
            <a:chOff x="907920" y="122400"/>
            <a:chExt cx="6967800" cy="1541160"/>
          </a:xfrm>
        </p:grpSpPr>
        <p:pic>
          <p:nvPicPr>
            <p:cNvPr id="83" name="Горизонтальный свиток 11" descr=""/>
            <p:cNvPicPr/>
            <p:nvPr/>
          </p:nvPicPr>
          <p:blipFill>
            <a:blip r:embed="rId1"/>
            <a:stretch/>
          </p:blipFill>
          <p:spPr>
            <a:xfrm>
              <a:off x="907920" y="122400"/>
              <a:ext cx="6967800" cy="154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"/>
            <p:cNvSpPr/>
            <p:nvPr/>
          </p:nvSpPr>
          <p:spPr>
            <a:xfrm>
              <a:off x="1116000" y="330120"/>
              <a:ext cx="6648480" cy="11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222268"/>
                  </a:solidFill>
                  <a:latin typeface="Comic Sans MS"/>
                </a:rPr>
                <a:t>По авторству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" name="Волна 20"/>
          <p:cNvSpPr/>
          <p:nvPr/>
        </p:nvSpPr>
        <p:spPr>
          <a:xfrm>
            <a:off x="428760" y="2500200"/>
            <a:ext cx="3357360" cy="1928880"/>
          </a:xfrm>
          <a:custGeom>
            <a:avLst/>
            <a:gdLst>
              <a:gd name="textAreaLeft" fmla="*/ 0 w 3357360"/>
              <a:gd name="textAreaRight" fmla="*/ 3357720 w 3357360"/>
              <a:gd name="textAreaTop" fmla="*/ 482040 h 1928880"/>
              <a:gd name="textAreaBottom" fmla="*/ 1446840 h 1928880"/>
            </a:gdLst>
            <a:ahLst/>
            <a:rect l="textAreaLeft" t="textAreaTop" r="textAreaRight" b="textAreaBottom"/>
            <a:pathLst>
              <a:path w="21600" h="21600">
                <a:moveTo>
                  <a:pt x="0" y="2700"/>
                </a:moveTo>
                <a:cubicBezTo>
                  <a:pt x="7200" y="-6865"/>
                  <a:pt x="14400" y="12265"/>
                  <a:pt x="21600" y="2700"/>
                </a:cubicBezTo>
                <a:lnTo>
                  <a:pt x="21600" y="18900"/>
                </a:lnTo>
                <a:cubicBezTo>
                  <a:pt x="14400" y="28465"/>
                  <a:pt x="7200" y="9335"/>
                  <a:pt x="0" y="18900"/>
                </a:cubicBezTo>
                <a:close/>
              </a:path>
            </a:pathLst>
          </a:custGeom>
          <a:gradFill rotWithShape="0">
            <a:gsLst>
              <a:gs pos="0">
                <a:srgbClr val="222268"/>
              </a:gs>
              <a:gs pos="100000">
                <a:srgbClr val="effafb"/>
              </a:gs>
            </a:gsLst>
            <a:lin ang="5400000"/>
          </a:gra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omic Sans MS"/>
              </a:rPr>
              <a:t>    </a:t>
            </a:r>
            <a:r>
              <a:rPr b="1" lang="ru-RU" sz="2400" spc="-1" strike="noStrike">
                <a:solidFill>
                  <a:srgbClr val="0070c0"/>
                </a:solidFill>
                <a:latin typeface="Comic Sans MS"/>
              </a:rPr>
              <a:t>Народны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Волна 22"/>
          <p:cNvSpPr/>
          <p:nvPr/>
        </p:nvSpPr>
        <p:spPr>
          <a:xfrm>
            <a:off x="4857840" y="2857680"/>
            <a:ext cx="3500280" cy="1714320"/>
          </a:xfrm>
          <a:custGeom>
            <a:avLst/>
            <a:gdLst>
              <a:gd name="textAreaLeft" fmla="*/ 0 w 3500280"/>
              <a:gd name="textAreaRight" fmla="*/ 3500640 w 3500280"/>
              <a:gd name="textAreaTop" fmla="*/ 428400 h 1714320"/>
              <a:gd name="textAreaBottom" fmla="*/ 1285920 h 1714320"/>
            </a:gdLst>
            <a:ahLst/>
            <a:rect l="textAreaLeft" t="textAreaTop" r="textAreaRight" b="textAreaBottom"/>
            <a:pathLst>
              <a:path w="21600" h="21600">
                <a:moveTo>
                  <a:pt x="0" y="2700"/>
                </a:moveTo>
                <a:cubicBezTo>
                  <a:pt x="7200" y="-6865"/>
                  <a:pt x="14400" y="12265"/>
                  <a:pt x="21600" y="2700"/>
                </a:cubicBezTo>
                <a:lnTo>
                  <a:pt x="21600" y="18900"/>
                </a:lnTo>
                <a:cubicBezTo>
                  <a:pt x="14400" y="28465"/>
                  <a:pt x="7200" y="9335"/>
                  <a:pt x="0" y="18900"/>
                </a:cubicBezTo>
                <a:close/>
              </a:path>
            </a:pathLst>
          </a:custGeom>
          <a:gradFill rotWithShape="0">
            <a:gsLst>
              <a:gs pos="0">
                <a:srgbClr val="222268"/>
              </a:gs>
              <a:gs pos="100000">
                <a:srgbClr val="effafb"/>
              </a:gs>
            </a:gsLst>
            <a:lin ang="5400000"/>
          </a:gra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omic Sans MS"/>
              </a:rPr>
              <a:t>  </a:t>
            </a:r>
            <a:r>
              <a:rPr b="1" lang="ru-RU" sz="2400" spc="-1" strike="noStrike">
                <a:solidFill>
                  <a:srgbClr val="0070c0"/>
                </a:solidFill>
                <a:latin typeface="Comic Sans MS"/>
              </a:rPr>
              <a:t>Литературные      (авторски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6858000" y="5000760"/>
            <a:ext cx="1828800" cy="1125360"/>
          </a:xfrm>
          <a:prstGeom prst="rect">
            <a:avLst/>
          </a:prstGeom>
          <a:ln w="0">
            <a:noFill/>
          </a:ln>
        </p:spPr>
      </p:pic>
    </p:spTree>
  </p:cSld>
  <p:transition advTm="21000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Волна 32"/>
          <p:cNvSpPr/>
          <p:nvPr/>
        </p:nvSpPr>
        <p:spPr>
          <a:xfrm>
            <a:off x="4714920" y="3214800"/>
            <a:ext cx="2714760" cy="1342800"/>
          </a:xfrm>
          <a:custGeom>
            <a:avLst/>
            <a:gdLst>
              <a:gd name="textAreaLeft" fmla="*/ 0 w 2714760"/>
              <a:gd name="textAreaRight" fmla="*/ 2715120 w 2714760"/>
              <a:gd name="textAreaTop" fmla="*/ 335520 h 1342800"/>
              <a:gd name="textAreaBottom" fmla="*/ 1007280 h 1342800"/>
            </a:gdLst>
            <a:ahLst/>
            <a:rect l="textAreaLeft" t="textAreaTop" r="textAreaRight" b="textAreaBottom"/>
            <a:pathLst>
              <a:path w="21600" h="21600">
                <a:moveTo>
                  <a:pt x="0" y="2700"/>
                </a:moveTo>
                <a:cubicBezTo>
                  <a:pt x="7200" y="-6865"/>
                  <a:pt x="14400" y="12265"/>
                  <a:pt x="21600" y="2700"/>
                </a:cubicBezTo>
                <a:lnTo>
                  <a:pt x="21600" y="18900"/>
                </a:lnTo>
                <a:cubicBezTo>
                  <a:pt x="14400" y="28465"/>
                  <a:pt x="7200" y="9335"/>
                  <a:pt x="0" y="18900"/>
                </a:cubicBezTo>
                <a:close/>
              </a:path>
            </a:pathLst>
          </a:custGeom>
          <a:gradFill rotWithShape="0">
            <a:gsLst>
              <a:gs pos="0">
                <a:srgbClr val="222268"/>
              </a:gs>
              <a:gs pos="100000">
                <a:srgbClr val="effafb"/>
              </a:gs>
            </a:gsLst>
            <a:lin ang="5400000"/>
          </a:gra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Волна 33"/>
          <p:cNvSpPr/>
          <p:nvPr/>
        </p:nvSpPr>
        <p:spPr>
          <a:xfrm>
            <a:off x="1857240" y="3786120"/>
            <a:ext cx="2143440" cy="1271520"/>
          </a:xfrm>
          <a:custGeom>
            <a:avLst/>
            <a:gdLst>
              <a:gd name="textAreaLeft" fmla="*/ 0 w 2143440"/>
              <a:gd name="textAreaRight" fmla="*/ 2143800 w 2143440"/>
              <a:gd name="textAreaTop" fmla="*/ 317880 h 1271520"/>
              <a:gd name="textAreaBottom" fmla="*/ 953640 h 1271520"/>
            </a:gdLst>
            <a:ahLst/>
            <a:rect l="textAreaLeft" t="textAreaTop" r="textAreaRight" b="textAreaBottom"/>
            <a:pathLst>
              <a:path w="21600" h="21600">
                <a:moveTo>
                  <a:pt x="0" y="2700"/>
                </a:moveTo>
                <a:cubicBezTo>
                  <a:pt x="7200" y="-6865"/>
                  <a:pt x="14400" y="12265"/>
                  <a:pt x="21600" y="2700"/>
                </a:cubicBezTo>
                <a:lnTo>
                  <a:pt x="21600" y="18900"/>
                </a:lnTo>
                <a:cubicBezTo>
                  <a:pt x="14400" y="28465"/>
                  <a:pt x="7200" y="9335"/>
                  <a:pt x="0" y="18900"/>
                </a:cubicBezTo>
                <a:close/>
              </a:path>
            </a:pathLst>
          </a:custGeom>
          <a:gradFill rotWithShape="0">
            <a:gsLst>
              <a:gs pos="0">
                <a:srgbClr val="222268"/>
              </a:gs>
              <a:gs pos="100000">
                <a:srgbClr val="effafb"/>
              </a:gs>
            </a:gsLst>
            <a:lin ang="5400000"/>
          </a:gra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Волна 34"/>
          <p:cNvSpPr/>
          <p:nvPr/>
        </p:nvSpPr>
        <p:spPr>
          <a:xfrm>
            <a:off x="6357960" y="2071800"/>
            <a:ext cx="2571840" cy="1128600"/>
          </a:xfrm>
          <a:custGeom>
            <a:avLst/>
            <a:gdLst>
              <a:gd name="textAreaLeft" fmla="*/ 0 w 2571840"/>
              <a:gd name="textAreaRight" fmla="*/ 2572200 w 2571840"/>
              <a:gd name="textAreaTop" fmla="*/ 282240 h 1128600"/>
              <a:gd name="textAreaBottom" fmla="*/ 846720 h 1128600"/>
            </a:gdLst>
            <a:ahLst/>
            <a:rect l="textAreaLeft" t="textAreaTop" r="textAreaRight" b="textAreaBottom"/>
            <a:pathLst>
              <a:path w="21600" h="21600">
                <a:moveTo>
                  <a:pt x="0" y="2700"/>
                </a:moveTo>
                <a:cubicBezTo>
                  <a:pt x="7200" y="-6865"/>
                  <a:pt x="14400" y="12265"/>
                  <a:pt x="21600" y="2700"/>
                </a:cubicBezTo>
                <a:lnTo>
                  <a:pt x="21600" y="18900"/>
                </a:lnTo>
                <a:cubicBezTo>
                  <a:pt x="14400" y="28465"/>
                  <a:pt x="7200" y="9335"/>
                  <a:pt x="0" y="18900"/>
                </a:cubicBezTo>
                <a:close/>
              </a:path>
            </a:pathLst>
          </a:custGeom>
          <a:gradFill rotWithShape="0">
            <a:gsLst>
              <a:gs pos="0">
                <a:srgbClr val="222268"/>
              </a:gs>
              <a:gs pos="100000">
                <a:srgbClr val="effafb"/>
              </a:gs>
            </a:gsLst>
            <a:lin ang="5400000"/>
          </a:gra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Волна 30"/>
          <p:cNvSpPr/>
          <p:nvPr/>
        </p:nvSpPr>
        <p:spPr>
          <a:xfrm>
            <a:off x="428760" y="1643040"/>
            <a:ext cx="2786040" cy="1414440"/>
          </a:xfrm>
          <a:custGeom>
            <a:avLst/>
            <a:gdLst>
              <a:gd name="textAreaLeft" fmla="*/ 0 w 2786040"/>
              <a:gd name="textAreaRight" fmla="*/ 2786400 w 2786040"/>
              <a:gd name="textAreaTop" fmla="*/ 353520 h 1414440"/>
              <a:gd name="textAreaBottom" fmla="*/ 1060920 h 1414440"/>
            </a:gdLst>
            <a:ahLst/>
            <a:rect l="textAreaLeft" t="textAreaTop" r="textAreaRight" b="textAreaBottom"/>
            <a:pathLst>
              <a:path w="21600" h="21600">
                <a:moveTo>
                  <a:pt x="0" y="2700"/>
                </a:moveTo>
                <a:cubicBezTo>
                  <a:pt x="7200" y="-6865"/>
                  <a:pt x="14400" y="12265"/>
                  <a:pt x="21600" y="2700"/>
                </a:cubicBezTo>
                <a:lnTo>
                  <a:pt x="21600" y="18900"/>
                </a:lnTo>
                <a:cubicBezTo>
                  <a:pt x="14400" y="28465"/>
                  <a:pt x="7200" y="9335"/>
                  <a:pt x="0" y="18900"/>
                </a:cubicBezTo>
                <a:close/>
              </a:path>
            </a:pathLst>
          </a:custGeom>
          <a:gradFill rotWithShape="0">
            <a:gsLst>
              <a:gs pos="0">
                <a:srgbClr val="222268"/>
              </a:gs>
              <a:gs pos="100000">
                <a:srgbClr val="effafb"/>
              </a:gs>
            </a:gsLst>
            <a:lin ang="5400000"/>
          </a:gra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15"/>
          <p:cNvSpPr/>
          <p:nvPr/>
        </p:nvSpPr>
        <p:spPr>
          <a:xfrm>
            <a:off x="714240" y="2143080"/>
            <a:ext cx="198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omic Sans MS"/>
              </a:rPr>
              <a:t>Волшеб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17"/>
          <p:cNvSpPr/>
          <p:nvPr/>
        </p:nvSpPr>
        <p:spPr>
          <a:xfrm>
            <a:off x="6500880" y="2428920"/>
            <a:ext cx="23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omic Sans MS"/>
              </a:rPr>
              <a:t>О живот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18"/>
          <p:cNvSpPr/>
          <p:nvPr/>
        </p:nvSpPr>
        <p:spPr>
          <a:xfrm>
            <a:off x="2086920" y="4214880"/>
            <a:ext cx="162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omic Sans MS"/>
              </a:rPr>
              <a:t>Бытов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20"/>
          <p:cNvSpPr/>
          <p:nvPr/>
        </p:nvSpPr>
        <p:spPr>
          <a:xfrm>
            <a:off x="5053680" y="3643200"/>
            <a:ext cx="226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omic Sans MS"/>
              </a:rPr>
              <a:t>Богатырск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6" name="Прямая со стрелкой 25"/>
          <p:cNvCxnSpPr/>
          <p:nvPr/>
        </p:nvCxnSpPr>
        <p:spPr>
          <a:xfrm>
            <a:off x="4357800" y="1356840"/>
            <a:ext cx="2071800" cy="715320"/>
          </a:xfrm>
          <a:prstGeom prst="straightConnector1">
            <a:avLst/>
          </a:prstGeom>
          <a:ln w="507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97" name="Прямая со стрелкой 27"/>
          <p:cNvCxnSpPr>
            <a:endCxn id="89" idx="0"/>
          </p:cNvCxnSpPr>
          <p:nvPr/>
        </p:nvCxnSpPr>
        <p:spPr>
          <a:xfrm flipH="1">
            <a:off x="2928240" y="1357200"/>
            <a:ext cx="1500840" cy="2588040"/>
          </a:xfrm>
          <a:prstGeom prst="straightConnector1">
            <a:avLst/>
          </a:prstGeom>
          <a:ln w="507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98" name="Прямая со стрелкой 28"/>
          <p:cNvCxnSpPr/>
          <p:nvPr/>
        </p:nvCxnSpPr>
        <p:spPr>
          <a:xfrm>
            <a:off x="4428000" y="1428840"/>
            <a:ext cx="1786680" cy="2000880"/>
          </a:xfrm>
          <a:prstGeom prst="straightConnector1">
            <a:avLst/>
          </a:prstGeom>
          <a:ln w="50760">
            <a:solidFill>
              <a:srgbClr val="b6dcdf"/>
            </a:solidFill>
            <a:miter/>
            <a:tailEnd len="med" type="arrow" w="med"/>
          </a:ln>
        </p:spPr>
      </p:cxnSp>
      <p:sp>
        <p:nvSpPr>
          <p:cNvPr id="99" name="Горизонтальный свиток 22"/>
          <p:cNvSpPr/>
          <p:nvPr/>
        </p:nvSpPr>
        <p:spPr>
          <a:xfrm>
            <a:off x="1000080" y="0"/>
            <a:ext cx="7143840" cy="164304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6a8486"/>
              </a:gs>
              <a:gs pos="100000">
                <a:srgbClr val="b8e3e6"/>
              </a:gs>
            </a:gsLst>
            <a:lin ang="8100000"/>
          </a:gra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Прямая со стрелкой 29"/>
          <p:cNvCxnSpPr/>
          <p:nvPr/>
        </p:nvCxnSpPr>
        <p:spPr>
          <a:xfrm flipH="1">
            <a:off x="2071440" y="1428840"/>
            <a:ext cx="2281680" cy="505440"/>
          </a:xfrm>
          <a:prstGeom prst="straightConnector1">
            <a:avLst/>
          </a:prstGeom>
          <a:ln w="50760">
            <a:solidFill>
              <a:srgbClr val="b6dcdf"/>
            </a:solidFill>
            <a:miter/>
            <a:tailEnd len="med" type="arrow" w="med"/>
          </a:ln>
        </p:spPr>
      </p:cxnSp>
      <p:sp>
        <p:nvSpPr>
          <p:cNvPr id="101" name="TextBox 26"/>
          <p:cNvSpPr/>
          <p:nvPr/>
        </p:nvSpPr>
        <p:spPr>
          <a:xfrm>
            <a:off x="2500200" y="214200"/>
            <a:ext cx="4000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24b50"/>
                </a:solidFill>
                <a:latin typeface="Comic Sans MS"/>
              </a:rPr>
              <a:t>По видовым особенностя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1000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00040" y="21384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Волшебные сказ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928440" y="1785960"/>
            <a:ext cx="7157880" cy="235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олшебные сказки первоначально были связаны с мифами и имели магическое значение, были своего рода заклинания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Бытовые сказ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785520" y="2071800"/>
            <a:ext cx="7800840" cy="207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Comic Sans MS"/>
                <a:ea typeface="Times New Roman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Появились они гораздо позднее волшебной. В нех точно передаётся быт, обстоятельства народной жизни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000080" y="1600200"/>
            <a:ext cx="7429680" cy="375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 былинах можно узнать не только о подвигах, сражениях русских богатырей, но и о жизни людей в те времена: где они жили, как одевались, с кем вели торговлю, какие у них были промыслы, как они трудилис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Заголовок 1"/>
          <p:cNvSpPr/>
          <p:nvPr/>
        </p:nvSpPr>
        <p:spPr>
          <a:xfrm>
            <a:off x="571680" y="0"/>
            <a:ext cx="822960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4"/>
          <p:cNvSpPr/>
          <p:nvPr/>
        </p:nvSpPr>
        <p:spPr>
          <a:xfrm>
            <a:off x="571680" y="219960"/>
            <a:ext cx="8072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Богатырские сказки (былины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14240" y="3567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Сказки о животных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214200" y="1428840"/>
            <a:ext cx="8715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 мировом фольклоре известно около 140 сюжетов сказок о животных, в русском - 119 и составляют около 10% сказочного репертуар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 сказках о животных действительно показано то, что народ осуждал в себе, в своих социальных врагах, в обществе. Высмеивались глупость, хвастовство, плутовство, жестокость, лесть, лицемерие, и т. п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Горизонтальный свиток 1"/>
          <p:cNvGrpSpPr/>
          <p:nvPr/>
        </p:nvGrpSpPr>
        <p:grpSpPr>
          <a:xfrm>
            <a:off x="1195560" y="-158760"/>
            <a:ext cx="7040520" cy="1822320"/>
            <a:chOff x="1195560" y="-158760"/>
            <a:chExt cx="7040520" cy="1822320"/>
          </a:xfrm>
        </p:grpSpPr>
        <p:pic>
          <p:nvPicPr>
            <p:cNvPr id="113" name="Горизонтальный свиток 1" descr=""/>
            <p:cNvPicPr/>
            <p:nvPr/>
          </p:nvPicPr>
          <p:blipFill>
            <a:blip r:embed="rId1"/>
            <a:stretch/>
          </p:blipFill>
          <p:spPr>
            <a:xfrm>
              <a:off x="1195560" y="-158760"/>
              <a:ext cx="7040520" cy="182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1438200" y="81000"/>
              <a:ext cx="6666120" cy="133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c00000"/>
                  </a:solidFill>
                  <a:latin typeface="Comic Sans MS"/>
                </a:rPr>
                <a:t>Особенности языка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c00000"/>
                  </a:solidFill>
                  <a:latin typeface="Comic Sans MS"/>
                </a:rPr>
                <a:t>       </a:t>
              </a:r>
              <a:r>
                <a:rPr b="1" lang="ru-RU" sz="3600" spc="-1" strike="noStrike">
                  <a:solidFill>
                    <a:srgbClr val="c00000"/>
                  </a:solidFill>
                  <a:latin typeface="Comic Sans MS"/>
                </a:rPr>
                <a:t>сказки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Горизонтальный свиток 3"/>
          <p:cNvGrpSpPr/>
          <p:nvPr/>
        </p:nvGrpSpPr>
        <p:grpSpPr>
          <a:xfrm>
            <a:off x="622440" y="1554120"/>
            <a:ext cx="2681280" cy="1249560"/>
            <a:chOff x="622440" y="1554120"/>
            <a:chExt cx="2681280" cy="1249560"/>
          </a:xfrm>
        </p:grpSpPr>
        <p:pic>
          <p:nvPicPr>
            <p:cNvPr id="116" name="Горизонтальный свиток 3" descr=""/>
            <p:cNvPicPr/>
            <p:nvPr/>
          </p:nvPicPr>
          <p:blipFill>
            <a:blip r:embed="rId2"/>
            <a:stretch/>
          </p:blipFill>
          <p:spPr>
            <a:xfrm>
              <a:off x="622440" y="1554120"/>
              <a:ext cx="2681280" cy="124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795240" y="1724040"/>
              <a:ext cx="2414520" cy="90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Горизонтальный свиток 4"/>
          <p:cNvSpPr/>
          <p:nvPr/>
        </p:nvSpPr>
        <p:spPr>
          <a:xfrm>
            <a:off x="714240" y="2928960"/>
            <a:ext cx="2786040" cy="164304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80ffff"/>
              </a:gs>
              <a:gs pos="100000">
                <a:srgbClr val="daffff"/>
              </a:gs>
            </a:gsLst>
            <a:lin ang="0"/>
          </a:gra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Comic Sans MS"/>
              </a:rPr>
              <a:t>Скоро сказка сказывается, да не скоро дело делается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Горизонтальный свиток 5"/>
          <p:cNvSpPr/>
          <p:nvPr/>
        </p:nvSpPr>
        <p:spPr>
          <a:xfrm>
            <a:off x="5143680" y="3143160"/>
            <a:ext cx="2643120" cy="121464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80ffff"/>
              </a:gs>
              <a:gs pos="100000">
                <a:srgbClr val="daffff"/>
              </a:gs>
            </a:gsLst>
            <a:lin ang="10800000"/>
          </a:gra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Comic Sans MS"/>
              </a:rPr>
              <a:t>«Живут, поживают и добра наживают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Горизонтальный свиток 6"/>
          <p:cNvSpPr/>
          <p:nvPr/>
        </p:nvSpPr>
        <p:spPr>
          <a:xfrm>
            <a:off x="6000840" y="1571760"/>
            <a:ext cx="2643120" cy="142848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80ffff"/>
              </a:gs>
              <a:gs pos="100000">
                <a:srgbClr val="daffff"/>
              </a:gs>
            </a:gsLst>
            <a:lin ang="10800000"/>
          </a:gra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Comic Sans MS"/>
              </a:rPr>
              <a:t>В некотором царстве, в некотором государстве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Горизонтальный свиток 7"/>
          <p:cNvSpPr/>
          <p:nvPr/>
        </p:nvSpPr>
        <p:spPr>
          <a:xfrm>
            <a:off x="3500280" y="4500720"/>
            <a:ext cx="2643480" cy="121428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80ffff"/>
              </a:gs>
              <a:gs pos="100000">
                <a:srgbClr val="daffff"/>
              </a:gs>
            </a:gsLst>
            <a:lin ang="16200000"/>
          </a:gra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Comic Sans MS"/>
              </a:rPr>
              <a:t>Тут и сказке конец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Прямоугольник 8"/>
          <p:cNvSpPr/>
          <p:nvPr/>
        </p:nvSpPr>
        <p:spPr>
          <a:xfrm>
            <a:off x="1000080" y="1857240"/>
            <a:ext cx="214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Comic Sans MS"/>
              </a:rPr>
              <a:t>Жили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Comic Sans MS"/>
              </a:rPr>
              <a:t>были</a:t>
            </a:r>
            <a:r>
              <a:rPr b="0" lang="ru-RU" sz="1800" spc="-1" strike="noStrike">
                <a:solidFill>
                  <a:srgbClr val="0070c0"/>
                </a:solidFill>
                <a:latin typeface="Comic Sans MS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Прямоугольник 5"/>
          <p:cNvSpPr/>
          <p:nvPr/>
        </p:nvSpPr>
        <p:spPr>
          <a:xfrm>
            <a:off x="161640" y="285840"/>
            <a:ext cx="9109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Comic Sans MS"/>
              </a:rPr>
              <a:t>Особенности волшебной сказ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Прямоугольник 6"/>
          <p:cNvSpPr/>
          <p:nvPr/>
        </p:nvSpPr>
        <p:spPr>
          <a:xfrm>
            <a:off x="642960" y="1428840"/>
            <a:ext cx="7500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Повто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Испыта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Превраще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Волшебный предм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Сказочное существ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Место действи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428760" y="148680"/>
            <a:ext cx="8572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Comic Sans MS"/>
              </a:rPr>
              <a:t>Главная сущность волшебной сказк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Прямоугольник 2"/>
          <p:cNvSpPr/>
          <p:nvPr/>
        </p:nvSpPr>
        <p:spPr>
          <a:xfrm>
            <a:off x="428760" y="1928880"/>
            <a:ext cx="3786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Comic Sans MS"/>
              </a:rPr>
              <a:t>Главный герой сказ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Прямоугольник 3"/>
          <p:cNvSpPr/>
          <p:nvPr/>
        </p:nvSpPr>
        <p:spPr>
          <a:xfrm>
            <a:off x="214200" y="2714760"/>
            <a:ext cx="4070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2268"/>
                </a:solidFill>
                <a:latin typeface="Comic Sans MS"/>
              </a:rPr>
              <a:t>Помощники главного геро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Прямоугольник 4"/>
          <p:cNvSpPr/>
          <p:nvPr/>
        </p:nvSpPr>
        <p:spPr>
          <a:xfrm>
            <a:off x="2357280" y="3643200"/>
            <a:ext cx="5000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Comic Sans MS"/>
              </a:rPr>
              <a:t>Путеводные помощники или волшебные сред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Прямоугольник 5"/>
          <p:cNvSpPr/>
          <p:nvPr/>
        </p:nvSpPr>
        <p:spPr>
          <a:xfrm>
            <a:off x="2000160" y="4714920"/>
            <a:ext cx="5000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Comic Sans MS"/>
              </a:rPr>
              <a:t>Присутствие в сказке Бабы-яги, старухи, старика, избуш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Прямоугольник 6"/>
          <p:cNvSpPr/>
          <p:nvPr/>
        </p:nvSpPr>
        <p:spPr>
          <a:xfrm>
            <a:off x="4500720" y="2643120"/>
            <a:ext cx="442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Comic Sans MS"/>
              </a:rPr>
              <a:t>Наличие нерусских государст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3"/>
          <p:cNvSpPr/>
          <p:nvPr/>
        </p:nvSpPr>
        <p:spPr>
          <a:xfrm>
            <a:off x="4643280" y="1858320"/>
            <a:ext cx="378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20000"/>
                </a:solidFill>
                <a:latin typeface="Comic Sans MS"/>
                <a:ea typeface="Times New Roman"/>
              </a:rPr>
              <a:t>Утроенность в сказке</a:t>
            </a:r>
            <a:r>
              <a:rPr b="0" lang="ru-RU" sz="2400" spc="-1" strike="noStrike">
                <a:solidFill>
                  <a:srgbClr val="a2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25"/>
          <p:cNvSpPr/>
          <p:nvPr/>
        </p:nvSpPr>
        <p:spPr>
          <a:xfrm>
            <a:off x="468360" y="1773360"/>
            <a:ext cx="8207280" cy="24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26"/>
          <p:cNvSpPr/>
          <p:nvPr/>
        </p:nvSpPr>
        <p:spPr>
          <a:xfrm>
            <a:off x="1285920" y="642960"/>
            <a:ext cx="6858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1e4649"/>
                </a:solidFill>
                <a:latin typeface="Comic Sans MS"/>
              </a:rPr>
              <a:t>Актуальность </a:t>
            </a:r>
            <a:r>
              <a:rPr b="1" i="1" lang="ru-RU" sz="5400" spc="-1" strike="noStrike">
                <a:solidFill>
                  <a:srgbClr val="1e4649"/>
                </a:solidFill>
                <a:latin typeface="Comic Sans MS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4"/>
          <p:cNvSpPr/>
          <p:nvPr/>
        </p:nvSpPr>
        <p:spPr>
          <a:xfrm>
            <a:off x="785880" y="1871280"/>
            <a:ext cx="75722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Сказка - это очень ёмкое и глубокое литературное произведение, неисчерпаемый источник мудрости, богатства идей,  это тот жанр, который необходимо изуч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1"/>
          <p:cNvSpPr/>
          <p:nvPr/>
        </p:nvSpPr>
        <p:spPr>
          <a:xfrm>
            <a:off x="785880" y="-186480"/>
            <a:ext cx="75009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62673"/>
                </a:solidFill>
                <a:latin typeface="Comic Sans MS"/>
                <a:ea typeface="Times New Roman"/>
              </a:rPr>
              <a:t>Результаты анкетирования учащихс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рямоугольник 2"/>
          <p:cNvSpPr/>
          <p:nvPr/>
        </p:nvSpPr>
        <p:spPr>
          <a:xfrm>
            <a:off x="2368080" y="1857240"/>
            <a:ext cx="518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Нужны ли сказки детям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Диаграмма 3" descr=""/>
          <p:cNvPicPr/>
          <p:nvPr/>
        </p:nvPicPr>
        <p:blipFill>
          <a:blip r:embed="rId1"/>
          <a:stretch/>
        </p:blipFill>
        <p:spPr>
          <a:xfrm>
            <a:off x="1643040" y="2357280"/>
            <a:ext cx="5486400" cy="32004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1357200" y="1571760"/>
          <a:ext cx="7096320" cy="500040"/>
        </p:xfrm>
        <a:graphic>
          <a:graphicData uri="http://schemas.openxmlformats.org/drawingml/2006/table">
            <a:tbl>
              <a:tblPr/>
              <a:tblGrid>
                <a:gridCol w="3556080"/>
                <a:gridCol w="3540240"/>
              </a:tblGrid>
              <a:tr h="70164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есть волшебств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чудесами, приключениям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6" name="Rectangle 1"/>
          <p:cNvSpPr/>
          <p:nvPr/>
        </p:nvSpPr>
        <p:spPr>
          <a:xfrm>
            <a:off x="428760" y="601560"/>
            <a:ext cx="79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e0000"/>
                </a:solidFill>
                <a:latin typeface="Comic Sans MS"/>
                <a:ea typeface="Times New Roman"/>
              </a:rPr>
              <a:t>Чем отличается  русская волшебная сказка от других сказок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285840" y="3071880"/>
          <a:ext cx="8643960" cy="701640"/>
        </p:xfrm>
        <a:graphic>
          <a:graphicData uri="http://schemas.openxmlformats.org/drawingml/2006/table">
            <a:tbl>
              <a:tblPr/>
              <a:tblGrid>
                <a:gridCol w="1361880"/>
                <a:gridCol w="1638360"/>
                <a:gridCol w="1273320"/>
                <a:gridCol w="1457280"/>
                <a:gridCol w="1455840"/>
                <a:gridCol w="1457280"/>
              </a:tblGrid>
              <a:tr h="701640">
                <a:tc>
                  <a:txBody>
                    <a:bodyPr lIns="65520" rIns="655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Ивануш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520" rIns="655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волшебни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520" rIns="655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стари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520" rIns="655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богатыр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520" rIns="655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обычный челове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520" rIns="655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молодой челове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8" name="Rectangle 2"/>
          <p:cNvSpPr/>
          <p:nvPr/>
        </p:nvSpPr>
        <p:spPr>
          <a:xfrm>
            <a:off x="928800" y="2242440"/>
            <a:ext cx="657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omic Sans MS"/>
                <a:ea typeface="Times New Roman"/>
              </a:rPr>
              <a:t>Кто главный герой волшебной сказк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1785960" y="5072040"/>
          <a:ext cx="5184720" cy="351000"/>
        </p:xfrm>
        <a:graphic>
          <a:graphicData uri="http://schemas.openxmlformats.org/drawingml/2006/table">
            <a:tbl>
              <a:tblPr/>
              <a:tblGrid>
                <a:gridCol w="1728720"/>
                <a:gridCol w="1727280"/>
                <a:gridCol w="1728720"/>
              </a:tblGrid>
              <a:tr h="351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    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давн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в древнос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очень давн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0" name="Rectangle 3"/>
          <p:cNvSpPr/>
          <p:nvPr/>
        </p:nvSpPr>
        <p:spPr>
          <a:xfrm>
            <a:off x="1071720" y="3988440"/>
            <a:ext cx="728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Как давно создавалась волшебная сказк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1" name=""/>
          <p:cNvGraphicFramePr/>
          <p:nvPr/>
        </p:nvGraphicFramePr>
        <p:xfrm>
          <a:off x="714240" y="1428840"/>
          <a:ext cx="7643880" cy="1050840"/>
        </p:xfrm>
        <a:graphic>
          <a:graphicData uri="http://schemas.openxmlformats.org/drawingml/2006/table">
            <a:tbl>
              <a:tblPr/>
              <a:tblGrid>
                <a:gridCol w="1481400"/>
                <a:gridCol w="1565280"/>
                <a:gridCol w="1400040"/>
                <a:gridCol w="1730520"/>
                <a:gridCol w="1466640"/>
              </a:tblGrid>
              <a:tr h="1052280"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животны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ведьм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Баба - яг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волшебницы и волшебни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Змей Горыны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2" name="Rectangle 1"/>
          <p:cNvSpPr/>
          <p:nvPr/>
        </p:nvSpPr>
        <p:spPr>
          <a:xfrm>
            <a:off x="928800" y="315720"/>
            <a:ext cx="7072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20000"/>
                </a:solidFill>
                <a:latin typeface="Comic Sans MS"/>
                <a:ea typeface="Times New Roman"/>
              </a:rPr>
              <a:t>Кто обязательно присутствует в волшебной сказк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142920" y="3571920"/>
          <a:ext cx="8858160" cy="1050840"/>
        </p:xfrm>
        <a:graphic>
          <a:graphicData uri="http://schemas.openxmlformats.org/drawingml/2006/table">
            <a:tbl>
              <a:tblPr/>
              <a:tblGrid>
                <a:gridCol w="1630440"/>
                <a:gridCol w="1514520"/>
                <a:gridCol w="1396800"/>
                <a:gridCol w="1214640"/>
                <a:gridCol w="1387440"/>
                <a:gridCol w="1714320"/>
              </a:tblGrid>
              <a:tr h="1402920"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волшебные вещ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ум и смекалка геро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сила и отваг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добр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животны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волшебники и волшебниц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4" name="Rectangle 2"/>
          <p:cNvSpPr/>
          <p:nvPr/>
        </p:nvSpPr>
        <p:spPr>
          <a:xfrm>
            <a:off x="1071720" y="2433240"/>
            <a:ext cx="671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2268"/>
                </a:solidFill>
                <a:latin typeface="Comic Sans MS"/>
                <a:ea typeface="Times New Roman"/>
              </a:rPr>
              <a:t>Что или кто помогает главному герою одержать победу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1"/>
          <p:cNvSpPr/>
          <p:nvPr/>
        </p:nvSpPr>
        <p:spPr>
          <a:xfrm>
            <a:off x="2071800" y="360000"/>
            <a:ext cx="5715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3772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Заключ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рямоугольник 2"/>
          <p:cNvSpPr/>
          <p:nvPr/>
        </p:nvSpPr>
        <p:spPr>
          <a:xfrm>
            <a:off x="857160" y="1428840"/>
            <a:ext cx="76438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 ходе самого исследования я нашла ответы на многие вопросы.  Я прочитала много русских народных сказок, узнала значения непонятных мне слов, провела анкетирование среди учащихся своего класса по теме исследования, узнала из дополнительной литературы многое о сказка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1"/>
          <p:cNvSpPr/>
          <p:nvPr/>
        </p:nvSpPr>
        <p:spPr>
          <a:xfrm>
            <a:off x="1143000" y="507960"/>
            <a:ext cx="73580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По прочитанным сказкам я сделала выводы: кто главный герой сказки, как он выглядит, узнала о сущности самой сказк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Прямоугольник 2"/>
          <p:cNvSpPr/>
          <p:nvPr/>
        </p:nvSpPr>
        <p:spPr>
          <a:xfrm>
            <a:off x="1285920" y="2357280"/>
            <a:ext cx="72151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Мне очень понравилось анализировать сказки. Я поняла, что работа, которую я начала выполнять, ещё не закончена. Впереди меня ждут  сказки о животных, бытовые сказки. Я думаю, что анализировать разные сказки очень интересн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1"/>
          <p:cNvSpPr/>
          <p:nvPr/>
        </p:nvSpPr>
        <p:spPr>
          <a:xfrm>
            <a:off x="500040" y="25200"/>
            <a:ext cx="8358120" cy="54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20000"/>
                </a:solidFill>
                <a:latin typeface="Comic Sans MS"/>
              </a:rPr>
              <a:t>Список литератур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1. В.И. Даль Иллюстрированный толковый словарь русского языка – Москва, 20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2. А. Квятковский Поэтический словарь -  Москва «Советская энциклопедия», 19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3. В.Я. Пропп Исторические  корни волшебной сказки – Л.:194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4. М. Фасмер Этимологический словарь русского язы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5. Википедия Свободная  Интернет – энциклопед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6. Русские волшебные сказки -  Москва «Советская Россия», 198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785880" y="1278360"/>
            <a:ext cx="78580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24b50"/>
                </a:solidFill>
                <a:latin typeface="Comic Sans MS"/>
                <a:ea typeface="Times New Roman"/>
              </a:rPr>
              <a:t>Сказка-ложь, да в ней намёк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24b50"/>
                </a:solidFill>
                <a:latin typeface="Comic Sans MS"/>
                <a:ea typeface="Times New Roman"/>
              </a:rPr>
              <a:t>добрым молодцам урок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24b50"/>
                </a:solidFill>
                <a:latin typeface="Comic Sans MS"/>
                <a:ea typeface="Times New Roman"/>
              </a:rPr>
              <a:t>А.С. Пушкин</a:t>
            </a:r>
            <a:r>
              <a:rPr b="1" lang="ru-RU" sz="4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262673"/>
                </a:solidFill>
                <a:latin typeface="Comic Sans MS"/>
              </a:rPr>
              <a:t>Цель:</a:t>
            </a:r>
            <a:r>
              <a:rPr b="1" lang="ru-RU" sz="6600" spc="-1" strike="noStrike">
                <a:solidFill>
                  <a:srgbClr val="262673"/>
                </a:solidFill>
                <a:latin typeface="Comic Sans MS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500040" y="22147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роанализировать, когда и как создавалась сказка,  сделать вывод о её сущности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9"/>
          <p:cNvSpPr/>
          <p:nvPr/>
        </p:nvSpPr>
        <p:spPr>
          <a:xfrm>
            <a:off x="395280" y="1341360"/>
            <a:ext cx="835200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0"/>
          <p:cNvSpPr/>
          <p:nvPr/>
        </p:nvSpPr>
        <p:spPr>
          <a:xfrm>
            <a:off x="1214280" y="1143000"/>
            <a:ext cx="7786800" cy="41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найти  в дополнительной литературе и изучить определение сказк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- выявить классификацию сказок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-прочитать волшебные сказки и проанализировать их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- заинтересовать учеников класса чтением волшебных сказок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-провести анкетирование по теме работы среди учеников своего класс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-сочинить самой сказк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-сделать выво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1"/>
          <p:cNvSpPr/>
          <p:nvPr/>
        </p:nvSpPr>
        <p:spPr>
          <a:xfrm>
            <a:off x="324000" y="333360"/>
            <a:ext cx="8496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4"/>
          <p:cNvSpPr/>
          <p:nvPr/>
        </p:nvSpPr>
        <p:spPr>
          <a:xfrm>
            <a:off x="1571760" y="214200"/>
            <a:ext cx="6143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omic Sans MS"/>
              </a:rPr>
              <a:t>Задачи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10"/>
          <p:cNvSpPr/>
          <p:nvPr/>
        </p:nvSpPr>
        <p:spPr>
          <a:xfrm>
            <a:off x="395280" y="404640"/>
            <a:ext cx="828036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928800" y="861480"/>
            <a:ext cx="728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Объект исследования: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главный герой сказки,  основные атрибуты  сказки, особенности волшебной сказ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4"/>
          <p:cNvSpPr/>
          <p:nvPr/>
        </p:nvSpPr>
        <p:spPr>
          <a:xfrm>
            <a:off x="1000080" y="2502720"/>
            <a:ext cx="64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Предмет исследова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русские  народные сказ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5"/>
          <p:cNvSpPr/>
          <p:nvPr/>
        </p:nvSpPr>
        <p:spPr>
          <a:xfrm>
            <a:off x="1000080" y="3647520"/>
            <a:ext cx="700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Методы исследования: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размышления, чтение книг, анкетирование, анализ результа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5" descr="рамка-183"/>
          <p:cNvPicPr/>
          <p:nvPr/>
        </p:nvPicPr>
        <p:blipFill>
          <a:blip r:embed="rId1"/>
          <a:srcRect l="0" t="0" r="78479" b="50070"/>
          <a:stretch/>
        </p:blipFill>
        <p:spPr>
          <a:xfrm>
            <a:off x="324000" y="1341360"/>
            <a:ext cx="1511280" cy="30974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6" descr="рамка-183"/>
          <p:cNvPicPr/>
          <p:nvPr/>
        </p:nvPicPr>
        <p:blipFill>
          <a:blip r:embed="rId2"/>
          <a:srcRect l="14881" t="31331" r="66157" b="33862"/>
          <a:stretch/>
        </p:blipFill>
        <p:spPr>
          <a:xfrm>
            <a:off x="7596360" y="1557360"/>
            <a:ext cx="1331640" cy="215892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1"/>
          <p:cNvSpPr/>
          <p:nvPr/>
        </p:nvSpPr>
        <p:spPr>
          <a:xfrm>
            <a:off x="395280" y="981000"/>
            <a:ext cx="835344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12"/>
          <p:cNvSpPr/>
          <p:nvPr/>
        </p:nvSpPr>
        <p:spPr>
          <a:xfrm>
            <a:off x="324000" y="260280"/>
            <a:ext cx="8496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"/>
          <p:cNvSpPr/>
          <p:nvPr/>
        </p:nvSpPr>
        <p:spPr>
          <a:xfrm>
            <a:off x="928800" y="1637280"/>
            <a:ext cx="73580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предположим, что сказка возникла так давно,  когда ещё не было создано государство, люди жили племенами, и рассказывали сказку с целью развлеч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оугольник 6"/>
          <p:cNvSpPr/>
          <p:nvPr/>
        </p:nvSpPr>
        <p:spPr>
          <a:xfrm>
            <a:off x="2854440" y="500040"/>
            <a:ext cx="3806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Гипотеза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857160" y="2924640"/>
            <a:ext cx="72867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если я узнаю историю происхождения, особенности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композиционного построения, типы сказок, то смогу ли на основе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имеющихся знаний самостоятельно их сочинят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2268"/>
                </a:solidFill>
                <a:latin typeface="Comic Sans MS"/>
              </a:rPr>
              <a:t>Что меня интересовало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1285920" y="1143000"/>
            <a:ext cx="7858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Когда появилась сказка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Сколько лет сказке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Какие бывают сказки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Кто главный герой сказок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Что это за волшебные предметы, помощники героя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Чему учит волшебная сказка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Чем  она отличается от других сказок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Прямоугольник 1"/>
          <p:cNvSpPr/>
          <p:nvPr/>
        </p:nvSpPr>
        <p:spPr>
          <a:xfrm>
            <a:off x="1285920" y="285840"/>
            <a:ext cx="657216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Сказка существовала, возникала, помнилась всегда, даже в самые трудные времена. И всегда будет существовать. </a:t>
            </a:r>
            <a:r>
              <a:rPr b="0" i="1" lang="ru-RU" sz="3200" spc="-1" strike="noStrike">
                <a:solidFill>
                  <a:srgbClr val="000000"/>
                </a:solidFill>
                <a:latin typeface="Comic Sans MS"/>
              </a:rPr>
              <a:t>Сказка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или казка, байка, и  побасенка (древнейшее ее название басень - от слова «баять», «говорить») - это вид фольклорной прозы, известный у всех народов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Прямоугольник 1"/>
          <p:cNvSpPr/>
          <p:nvPr/>
        </p:nvSpPr>
        <p:spPr>
          <a:xfrm>
            <a:off x="1500120" y="1357200"/>
            <a:ext cx="63579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Сказка – один из популярных и любимых жанров в фольклоре и литературе народов ми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4T10:38:21Z</dcterms:created>
  <dc:creator>Елена</dc:creator>
  <dc:description/>
  <dc:language>en-US</dc:language>
  <cp:lastModifiedBy>User</cp:lastModifiedBy>
  <dcterms:modified xsi:type="dcterms:W3CDTF">2014-11-17T10:59:17Z</dcterms:modified>
  <cp:revision>168</cp:revision>
  <dc:subject/>
  <dc:title>Слайд 1</dc:title>
</cp:coreProperties>
</file>