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8.jpeg" ContentType="image/jpeg"/>
  <Override PartName="/ppt/media/image26.jpeg" ContentType="image/jpeg"/>
  <Override PartName="/ppt/media/image5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01FC-4F17-4348-B7A6-8104EA7A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A2839-BAB3-4914-A2F0-55D3DF89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611F2-5BD6-4D28-8845-39C866B5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9B235-2C28-4347-8A4F-137B569A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A4778-98DE-4C56-997F-EFD68BA6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5C596-F37A-493D-BB7C-B0E08AF2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A6F8A-CDBF-420A-B128-06031CC9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1E25C-1E82-4844-A145-F51EE904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C3478-7C98-4232-9EA7-E3C51A0F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7390C-0CC5-42B6-9938-59A142C1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7B480-1E7A-4132-A4AD-26E47415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3487D-D00C-4C54-891E-B126C5FD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3961-E3E5-402A-A9F6-28A50F8A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F307E-FA9F-4DBC-9CCE-3CC66BD8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201FE-C028-4846-B30E-DE060F49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F8EAF-0140-4488-9C35-64AE2328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20459-2FBA-4CB4-B0EF-138CDC91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6FFF1-6010-4EF4-B677-CEDEBDFC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A3886-1BFB-4F91-9F58-9D6C95B8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75E47-C4A4-4634-BB63-C3DDF5D2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612F4-B9FF-4182-B497-132286E8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8F898-54B8-4252-8278-D17D2F8F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635C1-BB72-451D-83BB-3CDF00FE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CCE58-BBFF-4486-BF7C-284E10CF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C5B3B-E56E-4AB2-8805-47AEFC9B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E7CCB-E7A2-4D5E-917C-689AF5C0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11545-DB5B-4923-A3FF-A8CA7379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65CE4-3251-4E91-ABCD-995991D1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656D7-07C9-48C0-9BCF-84291449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B506E-AFD3-44D6-BB03-D8C6ED0A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A8B46-F6F6-4FD8-88E2-29DB2DD3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32522-013D-4535-AB10-FE690C36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01A51-3F13-4FDF-8255-87D57BB6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ABF95-4511-4D0B-B5D9-D6795747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BD10-B8A5-4DAE-AE58-B84AB6D6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4FDDE-2135-4D59-BF08-7880D12E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A0BFA-74C1-49A7-93A1-A0FB3416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A59C5-276D-4952-B255-62447241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91716-1F5D-47AB-9C65-F864ECB1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AB5B4-1B1D-4EC2-8F19-12F9C3A1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020FA-99C2-4545-82CA-18D23F64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FD358-4131-4D6A-9532-CDF39201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62EC9-0AB6-42D1-AF9F-E23930AB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D1786-429A-4D8C-80A9-DBC906B5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6A466-C1C9-42BC-94DB-4821C90B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26C5-3170-4F46-9FF1-90E20BEB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B9CEA-A283-4DBB-BE8A-F427FA36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33BF8-EDA2-4F70-B027-97B02F6A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419B0-BE51-4D97-B499-482B704B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7C73A-891F-4E49-B370-4002597A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C9306-AD3B-44C6-8664-E471FD9F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EFC8E-E9A3-41B1-85D5-F1F506FB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F0B23-0541-4EB4-BE0D-EE3880C1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1555E-9B6C-443A-8BE3-C94CAF65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BA09B-134F-45D9-923C-618470B4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E7FE0D-04ED-4E98-AC75-1F549DF4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ABFA-076E-4C38-AFE8-C0982BF0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0D998-41CB-4085-8475-1B973CF7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65DE6-D1B7-406A-99BF-23B0B1E0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347D5-29A9-495B-A9B7-4094E4A0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CD3E0-FD05-4E53-9F49-295CDE60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66F18-581F-4B41-A84D-47D7CA20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78845-466C-45E0-A134-288D545E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B4615-4A57-4CB4-9198-EE704A12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B62C3-4EAF-4D6E-A2B2-61F90841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1E839-DAED-472B-B85C-AA78EC42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838AD-89B8-4304-B79B-C6EAE7F2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4913-339B-4D9A-A0BB-956EB89A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DEE37-8F5D-4AC7-8AD6-4EF26C52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07DF7-24F2-4D26-8BBA-D76E9BEA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DC0FC-93E0-4543-B936-0D7108E8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F3A6B-70DB-4303-96F8-D36C7865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2AA9F-B63C-4C53-A207-D127B387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88D89-5B5A-4F88-BED1-265DE63A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56D73-E240-4465-BCE9-4C98CBD2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CE398-3041-4836-96C9-67DC58CB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D680E-0783-40EF-B9DA-7876DD61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BEB16-913C-45DB-8E78-4223E13A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7444-F1CB-49FC-898B-818E3455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EA942B-52D6-455C-992D-676E7469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D48710-5D78-4E2A-BCFA-D3A08B1F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608E9-3432-4197-AEF0-B34A8792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5CC5D-992E-4223-8810-62D0FEF0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47243A-97FB-4E42-99A6-106D2B88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9C16A9-4C64-4888-B837-3978CBD0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92E5F-9207-40D8-9EE7-6CFEC810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9C600-A261-4666-8FA6-7CEE77D0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9938B1-F81A-43EC-8B74-44442F90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9B276-F56F-4751-A37E-ADF56461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567C-6B0A-4A48-B9E4-8D9A896F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4A191-A885-4F1C-8CA5-FFFAE65D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83893-EFBB-4790-8885-2CAED81D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D8548C-383D-4202-AB92-A923318D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A71B2-BB17-4B5B-ADFA-AA987DB4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DFBE19-664B-4C9A-B700-66382CB0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C4C654-6DC7-44F2-86C8-5D26C321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8B7C04-3C18-4E8B-B9CE-B5A4B061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4751CC-BE6E-42C1-B911-CB938FFF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8AF09-85F1-4288-938B-D2B80425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E50D6-090B-4768-8694-D986A01B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9A44-5E07-4C6F-9E79-336B221F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87E90-2242-410C-A394-94203776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4A1B0-8A03-40CF-89D0-A3FDC2CC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90D7B2-7FCA-45B1-BDDC-204D1B19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AAFCD-F38D-4D59-8780-A0DC3C00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72E3-2822-4A72-9C24-49A8395B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54D8-9A68-4A73-BE2D-48B2AE2C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96AE-25BE-4D00-A641-60B85F9E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902E-01C2-4763-90C3-81C7A6B3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8309-3040-404E-BC3E-A6616B9C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4BA69-BC1E-4E02-B5E2-FE4FC0F0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54BA2-A5F9-434D-9CFE-F5B3FA2C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E9B1-467C-4448-9B06-BA3A0025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8F41F-B86B-4EC2-B663-D9C4D62D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10830-25EF-44EB-A606-79F44BC0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1725-088A-4E95-BB4A-9D02BC46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B2ACA-4183-47BB-BF64-1DC40207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66D79-4B95-4582-930E-B1D5A2B2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36FF-32CC-4F04-9367-4B977560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88FEA-5C50-4AFD-88C2-A818BBBC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8ADE1-AC0E-4E77-A215-F551D5A9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19C3-CAF8-47FB-99E9-48DB9A27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A18CD-FE89-4251-B69F-D0EA689C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16A54-522C-46E7-9B2F-5E3AA7E5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EC39F-B641-4EB3-8280-518CFBA9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A3875-2274-4101-8CE7-47CE66C4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A8AE-1F1C-425C-A831-2A5A2226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90364-4368-475A-AB70-35BA836A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DDA0D-DE32-45CB-BF34-48076B80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DFB20-6F42-46DE-B65F-D1950D33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DA995-2E6A-4C88-BC1B-7B223334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695A5-F0CF-4A9B-8EC1-219D1C7A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023F5-634F-4F2E-BE14-0CDA7318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2D9B6-0011-4AEB-9772-CF058347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527EA-4864-4F22-9914-68F5FB40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5E2E3-C5C3-4808-A5EB-56745570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CDAD5-EDF3-4525-A659-2630153C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D52C-8F47-41E4-B877-628E6FB7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5A46F-E68C-49D7-82F4-ED575A5F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7AB0C-4657-488C-AECE-CCE56225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21579-BAE8-49F2-9BD6-59212167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EA453-1FFD-4B3F-9422-13B7AE49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22DE6-7FC5-4936-B130-9EB34045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7AB8F-B309-4E12-9BFA-CC7ADDA9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0A9FC-A461-49DB-A56A-AAF05531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34A59-EC72-41D6-BDFE-4A6F14CF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2D274-431F-40A5-A3B2-704E2925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65FDF-53F7-4203-B60A-9AADDAB1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EC93B-F8F2-46F1-920B-D517C68F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023AC-2B33-40C3-A3E3-8B82FC7D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4E291-F5DC-43B1-9C99-6B77643E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3354D-0158-4FAF-9A93-AC6A13F4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E90D3-658B-4EE0-B01B-C1408969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66C27-16E4-4DE5-90B4-62F75257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7404D-CA85-41CE-825D-14ECD846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0A7CD-7F8E-4D31-A44E-610F4DD9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8F2DD-A73A-4F6E-99E1-4A89D994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E0C9A-CB38-4EDB-8669-F958F17F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4DB5F-93BA-49F4-A9A0-F3AFECCC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363C8-B643-492E-9B47-66399B33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732F4-3606-4E07-97EC-6D5B7AB2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FB0BA-DD34-46DA-AACD-6DDD9132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C532E-DE91-4976-9B3A-6534F978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10BB5-DA4F-48CB-8B5D-0644F180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58963-D807-468E-A217-CE964E9F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A50AD-3758-480C-A390-656C4558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95996-9B4F-4490-AA68-4F41C7A9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D77BA-1071-4825-ACD1-DCDDFC2D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18B4F-742D-4966-BF2D-70CF8BD2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E86C3-A90A-4743-9F20-5B167D0A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BC5D-9B5D-4826-AB20-3D3D9D5F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64836-2BA1-4B24-A6BC-47FF6870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69B50-FF32-4FF6-BD21-767488E6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A527E-C3CC-44EF-8CF6-7CD0D122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98C4B-4B5C-4568-BBCD-1F94A1BB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1F9F6-29C2-406C-B5D8-1B1AA0F3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D69D5-858D-4B93-B563-FE37A1D8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D52D1-BB6B-423E-AD00-550225F1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6C9FC-D688-40FB-9FFA-FDF16D7C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91518-5ADE-40F4-AD90-3262D832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7F7CD-776F-4348-AFB9-82C4D70A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17D2-33CE-40D4-AE6F-A4D7A9E2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C3804-6D2A-4819-8C90-FA310EB2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715CF-D248-47BF-9C95-AE66F166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2EE9B-E744-4B4B-9064-1EEE38EA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F4288-35DA-42F1-9504-CBA236C1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087F1-A15F-45B8-BA87-2B08F64F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52826-C221-48A4-9E35-6CC8F885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417C5-2D5A-4F23-8D8A-26966B1B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B800E-70CC-4A1F-89AB-BD656476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E0991-7564-4953-ABDE-CBFDF876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03C6D-9778-42E5-ACF2-D09464BD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7E8E-AEFF-4460-9C37-3E548C8A71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8FC6-2BF1-4726-9FB0-533E8849FC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71B2-5C09-47FB-A995-2F99037AD2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10AB-4B3D-4806-853C-5419B76A20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9839-A756-45E9-A054-CAFEB317FE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19AA-6026-452C-9325-316DD87FC4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0058-6DA9-4FF2-BFE6-126535EAE5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462A-9263-4C64-8B8F-55247341F8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8DE7-D8DF-43BE-891B-352EA62EF9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45B2-E5C2-4C5F-BD20-9AC8949C2D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2883-F9F2-474E-BABF-D4800A3C43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9FCC-7A01-43C7-9882-350BAE4371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26AF-71CB-4B33-9E2B-05C7C6260D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3933-4FDF-469F-9A9B-443743A3B2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137C-DFCB-4351-B8A0-FAAC6294B7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B9A7-1BF8-4551-8DEF-0030FFD378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ОЛОТОЕ КОЛЬЦО РОССИ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5148360" y="4436640"/>
            <a:ext cx="384336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2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тро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 расположен на обоих берегах Волги. В 1152 году князь Юрий Долгорукий заложил на левом берегу реки Волги крепость. Здесь построен знаменитый Ипатьевский монасты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м монастыре расположен Троицкий собор, Богоявленский собор и церковь Воскресения на Деб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8" descr="ko1"/>
          <p:cNvPicPr/>
          <p:nvPr/>
        </p:nvPicPr>
        <p:blipFill>
          <a:blip r:embed="rId1"/>
          <a:stretch/>
        </p:blipFill>
        <p:spPr>
          <a:xfrm>
            <a:off x="1258920" y="1981080"/>
            <a:ext cx="1917720" cy="18669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ko2"/>
          <p:cNvPicPr/>
          <p:nvPr/>
        </p:nvPicPr>
        <p:blipFill>
          <a:blip r:embed="rId2"/>
          <a:stretch/>
        </p:blipFill>
        <p:spPr>
          <a:xfrm>
            <a:off x="1258920" y="4000680"/>
            <a:ext cx="2335320" cy="1866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ё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ёс был основан в 1410 году князем Василием Донским как укрепление на Волге, охранявшее подступы к Москве. Это город художников. Здесь расположен Дом – музей И.И.Левит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ятник  И.И.Левит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8" descr="img"/>
          <p:cNvPicPr/>
          <p:nvPr/>
        </p:nvPicPr>
        <p:blipFill>
          <a:blip r:embed="rId1"/>
          <a:stretch/>
        </p:blipFill>
        <p:spPr>
          <a:xfrm>
            <a:off x="1133640" y="1981080"/>
            <a:ext cx="2685960" cy="186696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9" descr="027"/>
          <p:cNvPicPr/>
          <p:nvPr/>
        </p:nvPicPr>
        <p:blipFill>
          <a:blip r:embed="rId2"/>
          <a:stretch/>
        </p:blipFill>
        <p:spPr>
          <a:xfrm>
            <a:off x="1116000" y="4000680"/>
            <a:ext cx="1994040" cy="2165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зда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од Суздаль расположен на реке Каменке. Здесь большое количество памятников. Суздальский кремль – самая древняя часть Суздаля. Здесь расположено несколько церквей и Спасо-Преображенский соб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ображенский собор – главный храм Покровского монасты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и многочисленных памятников особое место занимает Посадский дом. Музей деревянного зодчества, Александровский монастырь, основанный Александром Нев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8" descr="su1"/>
          <p:cNvPicPr/>
          <p:nvPr/>
        </p:nvPicPr>
        <p:blipFill>
          <a:blip r:embed="rId1"/>
          <a:stretch/>
        </p:blipFill>
        <p:spPr>
          <a:xfrm>
            <a:off x="523800" y="1989000"/>
            <a:ext cx="3905280" cy="17272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9" descr="su2"/>
          <p:cNvPicPr/>
          <p:nvPr/>
        </p:nvPicPr>
        <p:blipFill>
          <a:blip r:embed="rId2"/>
          <a:stretch/>
        </p:blipFill>
        <p:spPr>
          <a:xfrm>
            <a:off x="457200" y="4005360"/>
            <a:ext cx="403848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ладими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 расположен на левом берегу реки Клязьмы. Он основан в 990 году. Его основал князь Владимир Мономах. После его смерти князем стал его сын Юрий Долгорукий. Здесь расположен всемирно известный Успенский собо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кже Дмитриевский хр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, что осталось от древнейшей крепости Владимира – это лишь Золотые ворота Влади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8" descr="vl2"/>
          <p:cNvPicPr/>
          <p:nvPr/>
        </p:nvPicPr>
        <p:blipFill>
          <a:blip r:embed="rId1"/>
          <a:stretch/>
        </p:blipFill>
        <p:spPr>
          <a:xfrm>
            <a:off x="971640" y="1981080"/>
            <a:ext cx="2205000" cy="18669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9" descr="vl1"/>
          <p:cNvPicPr/>
          <p:nvPr/>
        </p:nvPicPr>
        <p:blipFill>
          <a:blip r:embed="rId2"/>
          <a:stretch/>
        </p:blipFill>
        <p:spPr>
          <a:xfrm>
            <a:off x="971640" y="4000680"/>
            <a:ext cx="2203200" cy="1866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 – 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окая часть реки между двумя изгиба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ей деревянного зодчеств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м городе находится замечательный памятник старины – Золотые ворот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города произошло от слова «угол». Река течёт «угло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й, важный монасты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ивые эмалевые украшения : броши, серьги, брасл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город ещё в древние времена с уважением называли Велик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6156360" y="200196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лё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4500720" y="2349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узда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2843280" y="3068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лади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7"/>
          <p:cNvSpPr/>
          <p:nvPr/>
        </p:nvSpPr>
        <p:spPr>
          <a:xfrm>
            <a:off x="1908000" y="3716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гли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8"/>
          <p:cNvSpPr/>
          <p:nvPr/>
        </p:nvSpPr>
        <p:spPr>
          <a:xfrm>
            <a:off x="4356000" y="4005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ав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0"/>
          <p:cNvSpPr/>
          <p:nvPr/>
        </p:nvSpPr>
        <p:spPr>
          <a:xfrm>
            <a:off x="7812000" y="443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иниф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1"/>
          <p:cNvSpPr/>
          <p:nvPr/>
        </p:nvSpPr>
        <p:spPr>
          <a:xfrm>
            <a:off x="205092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лади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t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WordArt 6"/>
          <p:cNvSpPr txBox="1"/>
          <p:nvPr/>
        </p:nvSpPr>
        <p:spPr>
          <a:xfrm>
            <a:off x="2124000" y="907920"/>
            <a:ext cx="3519720" cy="29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47" name="Picture 7" descr="j0428105"/>
          <p:cNvPicPr/>
          <p:nvPr/>
        </p:nvPicPr>
        <p:blipFill>
          <a:blip r:embed="rId1"/>
          <a:stretch/>
        </p:blipFill>
        <p:spPr>
          <a:xfrm>
            <a:off x="3603600" y="3027240"/>
            <a:ext cx="3416400" cy="3281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 учениц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а </a:t>
            </a:r>
            <a:br>
              <a:rPr sz="24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Аминова Адел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2" descr="C:\Users\User\Desktop\hAaNVTm_NM0.jpg"/>
          <p:cNvPicPr/>
          <p:nvPr/>
        </p:nvPicPr>
        <p:blipFill>
          <a:blip r:embed="rId1"/>
          <a:stretch/>
        </p:blipFill>
        <p:spPr>
          <a:xfrm>
            <a:off x="6516720" y="622440"/>
            <a:ext cx="2425680" cy="33033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3" descr="C:\Users\User\Desktop\MNDJ26JGMxQ.jpg"/>
          <p:cNvPicPr/>
          <p:nvPr/>
        </p:nvPicPr>
        <p:blipFill>
          <a:blip r:embed="rId2"/>
          <a:stretch/>
        </p:blipFill>
        <p:spPr>
          <a:xfrm>
            <a:off x="1403280" y="2414520"/>
            <a:ext cx="3313080" cy="27496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5" descr="C:\Users\User\Desktop\oXHq6sw37HA.jpg"/>
          <p:cNvPicPr/>
          <p:nvPr/>
        </p:nvPicPr>
        <p:blipFill>
          <a:blip r:embed="rId3"/>
          <a:stretch/>
        </p:blipFill>
        <p:spPr>
          <a:xfrm>
            <a:off x="5580000" y="4210200"/>
            <a:ext cx="3067200" cy="2300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4" descr="http://s011.radikal.ru/i315/1209/4c/434a6dc68515.jpg"/>
          <p:cNvPicPr/>
          <p:nvPr/>
        </p:nvPicPr>
        <p:blipFill>
          <a:blip r:embed="rId1"/>
          <a:stretch/>
        </p:blipFill>
        <p:spPr>
          <a:xfrm>
            <a:off x="1785960" y="620640"/>
            <a:ext cx="4948200" cy="4116600"/>
          </a:xfrm>
          <a:prstGeom prst="rect">
            <a:avLst/>
          </a:prstGeom>
          <a:ln w="0">
            <a:noFill/>
          </a:ln>
        </p:spPr>
      </p:pic>
      <p:sp>
        <p:nvSpPr>
          <p:cNvPr id="687" name="Скругленный прямоугольник 4"/>
          <p:cNvSpPr/>
          <p:nvPr/>
        </p:nvSpPr>
        <p:spPr>
          <a:xfrm>
            <a:off x="571680" y="4786200"/>
            <a:ext cx="79293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олото́е кольцо́ Росси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— семейство туристических маршрутов, проходящих по древним русским городам, в которых сохранились уникальные памятники истории и культуры России, центрам народных реме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50104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5147" y="3794"/>
                </a:moveTo>
                <a:lnTo>
                  <a:pt x="19160" y="10800"/>
                </a:lnTo>
                <a:lnTo>
                  <a:pt x="5147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Овал 3"/>
          <p:cNvSpPr/>
          <p:nvPr/>
        </p:nvSpPr>
        <p:spPr>
          <a:xfrm>
            <a:off x="2071800" y="1214280"/>
            <a:ext cx="5000400" cy="450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http://www.saletur.ru/galery/tfoto/big/145546.jpg"/>
          <p:cNvPicPr/>
          <p:nvPr/>
        </p:nvPicPr>
        <p:blipFill>
          <a:blip r:embed="rId1"/>
          <a:stretch/>
        </p:blipFill>
        <p:spPr>
          <a:xfrm>
            <a:off x="3998880" y="85896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691" name="Прямоугольник 10" descr=""/>
          <p:cNvPicPr/>
          <p:nvPr/>
        </p:nvPicPr>
        <p:blipFill>
          <a:blip r:embed="rId2"/>
          <a:stretch/>
        </p:blipFill>
        <p:spPr>
          <a:xfrm>
            <a:off x="3700440" y="244440"/>
            <a:ext cx="2139840" cy="6825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4" descr="http://reliz33.ru/wp-content/uploads/2013/05/%D1%81%D1%83%D0%B7%D0%B4%D0%B0%D0%BB%D1%8C.jpg"/>
          <p:cNvPicPr/>
          <p:nvPr/>
        </p:nvPicPr>
        <p:blipFill>
          <a:blip r:embed="rId3"/>
          <a:stretch/>
        </p:blipFill>
        <p:spPr>
          <a:xfrm>
            <a:off x="6357960" y="2212920"/>
            <a:ext cx="1225440" cy="1212840"/>
          </a:xfrm>
          <a:prstGeom prst="rect">
            <a:avLst/>
          </a:prstGeom>
          <a:ln w="0">
            <a:noFill/>
          </a:ln>
        </p:spPr>
      </p:pic>
      <p:pic>
        <p:nvPicPr>
          <p:cNvPr id="693" name="Прямоугольник 12" descr=""/>
          <p:cNvPicPr/>
          <p:nvPr/>
        </p:nvPicPr>
        <p:blipFill>
          <a:blip r:embed="rId4"/>
          <a:stretch/>
        </p:blipFill>
        <p:spPr>
          <a:xfrm>
            <a:off x="5913360" y="1457280"/>
            <a:ext cx="1846440" cy="6825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" descr="http://0.tqn.com/d/goeasteurope/1/5/O/E/-/-/YaroslavlKremlin.jpg"/>
          <p:cNvPicPr/>
          <p:nvPr/>
        </p:nvPicPr>
        <p:blipFill>
          <a:blip r:embed="rId5"/>
          <a:stretch/>
        </p:blipFill>
        <p:spPr>
          <a:xfrm>
            <a:off x="6284880" y="4286160"/>
            <a:ext cx="1225440" cy="1224000"/>
          </a:xfrm>
          <a:prstGeom prst="rect">
            <a:avLst/>
          </a:prstGeom>
          <a:ln w="0">
            <a:noFill/>
          </a:ln>
        </p:spPr>
      </p:pic>
      <p:pic>
        <p:nvPicPr>
          <p:cNvPr id="695" name="Прямоугольник 14" descr=""/>
          <p:cNvPicPr/>
          <p:nvPr/>
        </p:nvPicPr>
        <p:blipFill>
          <a:blip r:embed="rId6"/>
          <a:stretch/>
        </p:blipFill>
        <p:spPr>
          <a:xfrm>
            <a:off x="6059520" y="3743280"/>
            <a:ext cx="2316240" cy="6825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http://cdn.nice-places.com/data/articles/gallery/416/3828.jpg"/>
          <p:cNvPicPr/>
          <p:nvPr/>
        </p:nvPicPr>
        <p:blipFill>
          <a:blip r:embed="rId7"/>
          <a:stretch/>
        </p:blipFill>
        <p:spPr>
          <a:xfrm>
            <a:off x="1925640" y="4286160"/>
            <a:ext cx="1225440" cy="1230480"/>
          </a:xfrm>
          <a:prstGeom prst="rect">
            <a:avLst/>
          </a:prstGeom>
          <a:ln w="0">
            <a:noFill/>
          </a:ln>
        </p:spPr>
      </p:pic>
      <p:pic>
        <p:nvPicPr>
          <p:cNvPr id="697" name="Прямоугольник 16" descr=""/>
          <p:cNvPicPr/>
          <p:nvPr/>
        </p:nvPicPr>
        <p:blipFill>
          <a:blip r:embed="rId8"/>
          <a:stretch/>
        </p:blipFill>
        <p:spPr>
          <a:xfrm>
            <a:off x="1328760" y="3670200"/>
            <a:ext cx="1676520" cy="68256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0" descr="http://www.fap.ru/trans/13120/photo_13150.JPG"/>
          <p:cNvPicPr/>
          <p:nvPr/>
        </p:nvPicPr>
        <p:blipFill>
          <a:blip r:embed="rId9"/>
          <a:stretch/>
        </p:blipFill>
        <p:spPr>
          <a:xfrm>
            <a:off x="1712880" y="2146320"/>
            <a:ext cx="1225440" cy="1187280"/>
          </a:xfrm>
          <a:prstGeom prst="rect">
            <a:avLst/>
          </a:prstGeom>
          <a:ln w="0">
            <a:noFill/>
          </a:ln>
        </p:spPr>
      </p:pic>
      <p:pic>
        <p:nvPicPr>
          <p:cNvPr id="699" name="Прямоугольник 18" descr=""/>
          <p:cNvPicPr/>
          <p:nvPr/>
        </p:nvPicPr>
        <p:blipFill>
          <a:blip r:embed="rId10"/>
          <a:stretch/>
        </p:blipFill>
        <p:spPr>
          <a:xfrm>
            <a:off x="1768320" y="1457280"/>
            <a:ext cx="2108520" cy="682560"/>
          </a:xfrm>
          <a:prstGeom prst="rect">
            <a:avLst/>
          </a:prstGeom>
          <a:ln w="0">
            <a:noFill/>
          </a:ln>
        </p:spPr>
      </p:pic>
      <p:pic>
        <p:nvPicPr>
          <p:cNvPr id="700" name="Прямоугольник 20" descr=""/>
          <p:cNvPicPr/>
          <p:nvPr/>
        </p:nvPicPr>
        <p:blipFill>
          <a:blip r:embed="rId11"/>
          <a:stretch/>
        </p:blipFill>
        <p:spPr>
          <a:xfrm>
            <a:off x="3206880" y="4529160"/>
            <a:ext cx="3028680" cy="682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4" descr="http://www.tyr74.ru/images/tur/big663223image3.jpg"/>
          <p:cNvPicPr/>
          <p:nvPr/>
        </p:nvPicPr>
        <p:blipFill>
          <a:blip r:embed="rId12"/>
          <a:stretch/>
        </p:blipFill>
        <p:spPr>
          <a:xfrm>
            <a:off x="3932280" y="5284800"/>
            <a:ext cx="1541520" cy="1212840"/>
          </a:xfrm>
          <a:prstGeom prst="rect">
            <a:avLst/>
          </a:prstGeom>
          <a:ln w="0">
            <a:noFill/>
          </a:ln>
        </p:spPr>
      </p:pic>
      <p:sp>
        <p:nvSpPr>
          <p:cNvPr id="702" name="Выгнутая вправо стрелка 15"/>
          <p:cNvSpPr/>
          <p:nvPr/>
        </p:nvSpPr>
        <p:spPr>
          <a:xfrm>
            <a:off x="7643880" y="57168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ргиев Поса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656240" y="1980720"/>
            <a:ext cx="4030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назван в честь святого Сергия Радонежского. Им был основан Троице-Сергиев монастырь. Это одноглавый храм. Храм был расписан Андреем Рублёвым и Даниилом Чёрным. Рядом с собором возвышается Духовная церковь. В годы правления Ивана Грозного в 1559 году был заложен Успенский собор. Сергиев Посад также славен своим Музеем игрушки, обладающим редчайшей коллекцией. Ведь сам Преподобный Сергей резал игрушки на потеху ребятиш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7" descr="sp2"/>
          <p:cNvPicPr/>
          <p:nvPr/>
        </p:nvPicPr>
        <p:blipFill>
          <a:blip r:embed="rId1"/>
          <a:stretch/>
        </p:blipFill>
        <p:spPr>
          <a:xfrm>
            <a:off x="879480" y="2071800"/>
            <a:ext cx="3184560" cy="3703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славль – Залесск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 расположен на берегу Плещеева озера. Этот город основан в 12 веке великим князем Юрием Долгоруким. Здесь был построен Горицкий монастырь, основанный в 14 веке. Реликвией древнерусского зодчества является Спасо – Преображенский собор, сооружённый князем Андреем Боголюбским. Рядом с собором установлен памятник Александру Невскому. Ещё одним достоянием города является Церковь Петра Вел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7" descr="pz2"/>
          <p:cNvPicPr/>
          <p:nvPr/>
        </p:nvPicPr>
        <p:blipFill>
          <a:blip r:embed="rId1"/>
          <a:stretch/>
        </p:blipFill>
        <p:spPr>
          <a:xfrm>
            <a:off x="1352520" y="2019240"/>
            <a:ext cx="224784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стов Велик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дин из старейших городов России. Он расположен на берегу реки Неро. Первым князем был Юрий Долгорукий. Самая замечательная часть города – Ростовский кремль. Здесь расположено несколько церквей: Вознесения, Спаса на Сенях, Иоанна Богослова. С севера к нему примыкает соборная площадь с Успенским Собором и звонницей. В Ростове можно полюбоваться ростовской финифтью. Это очень красивые украшения с эмалью – броши, серьги, браслеты. Их делают здесь уже несколько столе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7" descr="rv1"/>
          <p:cNvPicPr/>
          <p:nvPr/>
        </p:nvPicPr>
        <p:blipFill>
          <a:blip r:embed="rId1"/>
          <a:stretch/>
        </p:blipFill>
        <p:spPr>
          <a:xfrm>
            <a:off x="762120" y="2471760"/>
            <a:ext cx="342900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гли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нький городок Ярославской области расположен на реке Волга. По преданию, он был основан неким Яном Плесковичем в 937 году. Здесь сохранился Спасо – Преображенский со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же хорошо сохранилась церковь Царевича Дмитрия, где по преданию, был убит царевич и где в начале 17 века стояла деревянная часовня. А в 1628 году была выстроена Успенская церк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8" descr="preobrazh"/>
          <p:cNvPicPr/>
          <p:nvPr/>
        </p:nvPicPr>
        <p:blipFill>
          <a:blip r:embed="rId1"/>
          <a:stretch/>
        </p:blipFill>
        <p:spPr>
          <a:xfrm>
            <a:off x="1403280" y="1981080"/>
            <a:ext cx="1773360" cy="18669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9" descr="dmitry"/>
          <p:cNvPicPr/>
          <p:nvPr/>
        </p:nvPicPr>
        <p:blipFill>
          <a:blip r:embed="rId2"/>
          <a:stretch/>
        </p:blipFill>
        <p:spPr>
          <a:xfrm>
            <a:off x="1403280" y="4000680"/>
            <a:ext cx="1816200" cy="1866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рослав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город расположен на высоком берегу реки Волга. Здесь находится старейший русский театр – Театр имени Ф.Волкова. Вот почему Ярославль называют родиной русского теа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авом берегу Волги князь Ярослав Мудрый основал небольшую крепость как форпост обороны Ростова Великого. Здесь был заложен Спасо – Преображенский собор. Особый интерес представляют церковь Богоявления, храм Ильи Пророка и церковь Николы Наде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8" descr="ya1"/>
          <p:cNvPicPr/>
          <p:nvPr/>
        </p:nvPicPr>
        <p:blipFill>
          <a:blip r:embed="rId1"/>
          <a:stretch/>
        </p:blipFill>
        <p:spPr>
          <a:xfrm>
            <a:off x="1214280" y="1981080"/>
            <a:ext cx="2522520" cy="186696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9" descr="ya2"/>
          <p:cNvPicPr/>
          <p:nvPr/>
        </p:nvPicPr>
        <p:blipFill>
          <a:blip r:embed="rId2"/>
          <a:stretch/>
        </p:blipFill>
        <p:spPr>
          <a:xfrm>
            <a:off x="587520" y="4000680"/>
            <a:ext cx="3776400" cy="1866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8:03:30Z</dcterms:created>
  <dc:creator>Flex 420</dc:creator>
  <dc:description/>
  <dc:language>en-US</dc:language>
  <cp:lastModifiedBy>User</cp:lastModifiedBy>
  <dcterms:modified xsi:type="dcterms:W3CDTF">2014-12-02T15:36:02Z</dcterms:modified>
  <cp:revision>8</cp:revision>
  <dc:subject/>
  <dc:title>Окружающий мир.</dc:title>
</cp:coreProperties>
</file>