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C33-3E96-438F-BC3D-04B43DBE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9E5-E0F4-444F-9233-7607E498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874-7960-4603-93A5-C7E8C448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5F4-5048-46AD-B814-12340D2B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91F-1178-4D96-86FF-7C9C55A1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A88-D540-42E2-9E4D-AC46FD21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1B9-A97B-4E44-B88D-7425C2B5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A50-C8F1-42EC-BE09-308B1CDC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006-3312-4B59-83B6-4A9A15CB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9D7-1AAB-4647-8648-AA4E8CC0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188-62C8-4CE6-9517-E563C784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B78-C0D3-4718-8410-96858FE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5251-0B33-44E1-BDA4-8A9FA362785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ve.1001chudo.ru/australia_1003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zoo-ohrada"/>
          <p:cNvPicPr/>
          <p:nvPr/>
        </p:nvPicPr>
        <p:blipFill>
          <a:blip r:embed="rId1"/>
          <a:stretch/>
        </p:blipFill>
        <p:spPr>
          <a:xfrm>
            <a:off x="0" y="-438120"/>
            <a:ext cx="9753480" cy="729612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857160" y="0"/>
            <a:ext cx="6551640" cy="25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ЛКЕА  ЛЕТЯ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5" name="TextBox 5" descr=""/>
          <p:cNvPicPr/>
          <p:nvPr/>
        </p:nvPicPr>
        <p:blipFill>
          <a:blip r:embed="rId2"/>
          <a:stretch/>
        </p:blipFill>
        <p:spPr>
          <a:xfrm>
            <a:off x="7229520" y="5681520"/>
            <a:ext cx="223200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Белка - летяга в полете (6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Белка - летяга в полете (6 фото)"/>
          <p:cNvPicPr/>
          <p:nvPr/>
        </p:nvPicPr>
        <p:blipFill>
          <a:blip r:embed="rId2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Белка - летяга в полете (6 фото)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Белка - летяга в полете (6 фото)"/>
          <p:cNvPicPr/>
          <p:nvPr/>
        </p:nvPicPr>
        <p:blipFill>
          <a:blip r:embed="rId2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Белка - летяга в полете (6 фото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012-600x4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jmX7gLcwjQ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Белка - летяга в полете (6 фото)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:\Documents and Settings\Ольга Владимировна\Рабочий стол\картинки\2.gif"/>
          <p:cNvPicPr/>
          <p:nvPr/>
        </p:nvPicPr>
        <p:blipFill>
          <a:blip r:embed="rId1"/>
          <a:stretch/>
        </p:blipFill>
        <p:spPr>
          <a:xfrm>
            <a:off x="357120" y="285840"/>
            <a:ext cx="8372520" cy="619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Ольга Владимировна\Рабочий стол\картинки\б.jpg"/>
          <p:cNvPicPr/>
          <p:nvPr/>
        </p:nvPicPr>
        <p:blipFill>
          <a:blip r:embed="rId2"/>
          <a:stretch/>
        </p:blipFill>
        <p:spPr>
          <a:xfrm>
            <a:off x="4438800" y="1206360"/>
            <a:ext cx="40035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estudiounivers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856880" y="5572080"/>
            <a:ext cx="64868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шный гимнаст – обыкновенная летя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28584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всего рода летяг только эта – обыкновенная – селится в России. Но даже там, где белка-летяга обитает, ее немного, да и встретить ее очень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ь белка-летяга большую часть времени проводит на деревьях, спускаясь вниз даже реже обычной белки. К тому же и окраска у белки-летяги – маскировочная, под стать бурому лесу, где она обитает. У летяги шерсть на спинке темно-серая, с бурыми пятнами, на брюшке почти белая, на хвосте – светло-серая с едва намечающимся «пробор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вост – самое важное приспособление белки-летяги. С его помощью белка может маневрировать в воздухе, делая крутые виражи, поворачивать под прямым углом. Это помогает белке ускользнуть от хищной пт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о, чтобы летать, белке нужны хотя бы перепонки на лапках. И у летяги они есть, правда, только на передних. Они довольно широкие и покрыты мехом. Растопырив передние лапки, белка прыгает с самой верхушки дерева и по параболе летит, преодолевая по воздуху до 50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ие лапы летяга прижимает в полете к хвосту, так что получается своеобразный треугольный силуэт, как будто белка надела плащик – ведь между передними и задними лапами у нее тоже есть кожистые перепо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для того чтобы оказаться снова на дереве, белка совершает в воздухе еще один акробатический номер: она прямо в полете становится вертикально, и запрыгивает на дерево четырьмя лапами с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ка-летяга не ложится в зимнюю спячку, но зимой она менее активна. Зато в конце лета хозяйственная белка делает зимние запасы, собирая в свое дупло зернышки и ор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яга не любит хвойных лесов, а в смешанных предпочитает жить среди осин и берез. Бывает, что белка-летяга, как и ее родственница обыкновенная белка, селится неподалеку от жилья, выбирая скворечники и парки. Да и в зоопарке белка-летяга чувствует себя совсем неплохо, вот только для размножения ей необходимы сезонные перепады температуры, поэтому держать ее лучше в уличных воль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кновенные летяги встречаются еще в Финляндии и Корее, на той же полосе, что и в России. У белки-летяги немало родственников в дальних странах: в Австралии, например, водится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уску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поссум, очень похожий на летающую белку, а в Японии распространена японская летя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606824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26130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4ffaf0749d943_normal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253195077_fmt_53_belka_letya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5:36:23Z</dcterms:created>
  <dc:creator>11</dc:creator>
  <dc:description/>
  <dc:language>en-US</dc:language>
  <cp:lastModifiedBy>User</cp:lastModifiedBy>
  <dcterms:modified xsi:type="dcterms:W3CDTF">2015-03-14T17:27:43Z</dcterms:modified>
  <cp:revision>6</cp:revision>
  <dc:subject/>
  <dc:title>Слайд 1</dc:title>
</cp:coreProperties>
</file>