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2B2D-E58B-4342-ABE3-CF80AC7F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6F15-1718-4617-AC72-60B79A95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A8EC-35E5-44DD-A1C8-73769796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42B7-B2B5-4C73-865E-0299BD03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3EAC-F27D-4379-B8D5-7BE4554D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A681-DF62-4548-B05C-5A6B6350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9947-B82E-45C4-9175-AE4F0D9F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BA72-F06A-40C5-9974-649EC78A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B5CA-D170-462C-9FFD-8B84E441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59C0-3517-41F8-A556-C343A3F9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64B1-5F94-4794-9D83-5329E8D4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C173-D62A-4FB0-B815-19DCB03A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23B4-FFFC-413E-8FE4-30474A82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EDAB-15F4-473F-9F4C-65DE2AFD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4C1A-362E-41C4-91A2-6BBFB08A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9A48-888C-4DA7-B264-829591DC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258B-5A33-4751-8586-5D4B866C7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A828F8-A27E-4D8A-99DD-C0ACCEDE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F2870-C2C6-41E1-ADFC-C372F76A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C508C-31E7-452F-A11E-2DA8092C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392DC-8D7D-48E9-9FB1-44F36292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426147-3B7C-47EF-B831-319739A2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13AB-A7E3-4049-B096-39AEAF38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31D7D6-C522-4476-AD16-1405B81D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22DD87-FBFD-4EC3-ACB3-CBB59FA2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2F6F0-5C04-4AB4-9C96-233C4C71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F8EDA6-B556-4230-A7A1-5DD26AB9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926C45-401A-47A0-AC94-1CA74D59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3DD008-E41F-4630-B356-2FE362A4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B2702B-68DB-491A-84B5-5BCCEF37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967A9-E44E-459F-8757-7336012C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4D7E7-506E-4CEC-AE63-23F33EC1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B5458-ED97-49FE-9972-5364D3EF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28ED-D798-4A76-81F6-7B020457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889F5-EE47-4217-A6C8-DDE235B8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93284-FE94-4BCD-9601-5CEBECBA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58720-5B7E-4EFD-92A0-0C901197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6A93C-2601-4D9B-8939-62F19D00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4C4C3-7A18-409D-A783-5870CC83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83520-9C69-4DB8-8491-8283262B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CB50B-4761-4DDA-8E13-817F0EC4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A4D97-CD66-467C-83D9-B8287326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8EE81-A4D8-4A4E-AA41-35384995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990578-CAC3-4044-821F-E496E8BC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D795-E2CB-4B11-A966-01C3C4E0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E4CB28-D67C-4FCD-BC9A-8B27D036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E0C34A-695F-4173-BF1E-FA0503E2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56D378-BD1E-473C-9F4F-D4B70709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98B35A-5203-4B8D-8A81-DCB359C2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FC2793-935C-4518-8ED1-A98824E4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80A821-1BC4-4036-8260-D6380A6B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C6F43E-D560-4671-900D-F4485109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9333AE-C670-4F5D-9FCE-1BDDFA5C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BF941A-E12D-4FD5-BE89-55F318D2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C6AD57-D840-4AF4-A40A-3931ADB0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C1F9-8A09-499E-89A9-DD6017B4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910107-1D4D-4EC3-BD70-15F24CF6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A7B087-09F4-4376-A230-1DA7C71E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B4C4B1-BFEB-4A61-B9E2-4622CA50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ACD424-F138-4F10-B747-2A233BC4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5CF7C2-E04A-432A-8B02-353C7C33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8D1423-22FB-4E0B-8050-F2A18561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F046A7-0412-4379-BE7E-C8CFDC52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67E227-BE56-4EF6-8080-7CE988F4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AECB82-87A9-4487-9DBF-64860E66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1D199D-F779-4733-9E3D-23896CE1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9C54-D8EB-4888-9BE8-56CD8740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A0FA0A-0E65-4943-B039-44A06751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7A93E1-DC26-4EFC-A558-2F60AB65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EFC3F7-383C-493C-BC0A-51BA42B8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50B5E0-C49D-40DA-8422-EA833B6F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D5BD42-0768-4600-9F1E-5325C0F0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E80A02-2E06-4EF0-ABD1-E831E414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DDC018-A5E8-4DD0-9A07-5B664A81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576924-6655-42DA-B68D-E3706DC8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C751F7-7C95-4693-984D-F8C48327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E4471A-5F09-41BD-A267-4C210689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8014-915B-45FD-96CC-35238289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47C4BD-D890-4F97-BDEC-5ED94E90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838B6E-8A4B-459A-8CD1-846FDD48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611CDD-DEC9-48ED-83E0-F4FDFEC5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624918-C199-4823-8A44-B8C10375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D96326-E910-4C0E-8D19-5BE1E86A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E215-476F-452D-AFF4-1CCC1DCC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D5B0-422E-475E-B015-5887FB8A818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2BA0-E184-4B16-B6D1-5399C882825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62ED-33C1-471D-91C3-D3113408FA1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08E9-14D0-4568-B099-BA530C324ED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FD78-ED59-4F63-B821-87F0F4FE83D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111B-424E-4C03-BF29-4F3E234DAC2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5A68-4C83-4389-A33A-FB77E032788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0" y="3351240"/>
            <a:ext cx="5148360" cy="350676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4"/>
          <p:cNvSpPr/>
          <p:nvPr/>
        </p:nvSpPr>
        <p:spPr>
          <a:xfrm>
            <a:off x="2882880" y="189000"/>
            <a:ext cx="668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змножение листовыми черен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5"/>
          <p:cNvSpPr/>
          <p:nvPr/>
        </p:nvSpPr>
        <p:spPr>
          <a:xfrm>
            <a:off x="3276720" y="765000"/>
            <a:ext cx="586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e84b4"/>
                </a:solidFill>
                <a:latin typeface="Century Schoolbook"/>
              </a:rPr>
              <a:t>Некоторые виды комнатных растений – бегонию, сенполию (узамбарскую фиалку), лимон, размножают листовыми черенками. Листья сажают во влажный песок. После этого на листьях развиваются придаточные почки и придаточные кор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"/>
          <p:cNvPicPr/>
          <p:nvPr/>
        </p:nvPicPr>
        <p:blipFill>
          <a:blip r:embed="rId1"/>
          <a:stretch/>
        </p:blipFill>
        <p:spPr>
          <a:xfrm>
            <a:off x="4932360" y="260280"/>
            <a:ext cx="3816360" cy="6193080"/>
          </a:xfrm>
          <a:prstGeom prst="rect">
            <a:avLst/>
          </a:prstGeom>
          <a:ln w="0">
            <a:noFill/>
          </a:ln>
        </p:spPr>
      </p:pic>
      <p:sp>
        <p:nvSpPr>
          <p:cNvPr id="374" name="Прямоугольник 6"/>
          <p:cNvSpPr/>
          <p:nvPr/>
        </p:nvSpPr>
        <p:spPr>
          <a:xfrm>
            <a:off x="-347760" y="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Размножение привив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7"/>
          <p:cNvSpPr/>
          <p:nvPr/>
        </p:nvSpPr>
        <p:spPr>
          <a:xfrm>
            <a:off x="0" y="476280"/>
            <a:ext cx="435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e84b4"/>
                </a:solidFill>
                <a:latin typeface="Century Schoolbook"/>
              </a:rPr>
              <a:t>При прививках часть побега, называемую привоем, не укореняют, а приживляют к другому растению обычно того же или близкого вида. Это — отличный способ размножения плодовых деревьев ценных сортов, существующий издавна. В наше время часто размножают не целые растения, а культуру растительных клеток, получая из них целые раст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443640" cy="6858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6372360" y="0"/>
            <a:ext cx="25207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TextBox 2"/>
          <p:cNvSpPr/>
          <p:nvPr/>
        </p:nvSpPr>
        <p:spPr>
          <a:xfrm>
            <a:off x="4427640" y="508464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ак же ярким примером могут служить: малина, вишня, сирень, берёза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АЗМНОЖЕНИЕ ОТВОДКАМ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e84b4"/>
                </a:solidFill>
                <a:latin typeface="Century Schoolbook"/>
              </a:rPr>
              <a:t>Если побег смородины прижать к земле, он даст придаточные корни и побеги из боковых почек. Такой побег называют отводком. Отводками человек размножает многие садовые кустарники (крыжовник, смородина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4067280" y="1484280"/>
            <a:ext cx="5076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4572000" y="2852640"/>
            <a:ext cx="2987640" cy="288144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оугольник 4"/>
          <p:cNvSpPr/>
          <p:nvPr/>
        </p:nvSpPr>
        <p:spPr>
          <a:xfrm>
            <a:off x="179280" y="0"/>
            <a:ext cx="46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Размножение стеблевыми черен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3132000" y="189000"/>
            <a:ext cx="583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e84b4"/>
                </a:solidFill>
                <a:latin typeface="Century Schoolbook"/>
              </a:rPr>
              <a:t>Черенок — это чаще всего кусочек побега (несколько узлов и междоузлий с почками). Если его воткнуть во влажный песок, он укоренится— даст придаточные корни, а из почек разовьет побеги. Так из одной веточки смородины можно получить несколько кус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6137280" y="-76320"/>
            <a:ext cx="3006720" cy="3721320"/>
          </a:xfrm>
          <a:prstGeom prst="rect">
            <a:avLst/>
          </a:prstGeom>
          <a:ln w="0">
            <a:noFill/>
          </a:ln>
        </p:spPr>
      </p:pic>
      <p:sp>
        <p:nvSpPr>
          <p:cNvPr id="368" name="Прямоугольник 2"/>
          <p:cNvSpPr/>
          <p:nvPr/>
        </p:nvSpPr>
        <p:spPr>
          <a:xfrm>
            <a:off x="2484360" y="333360"/>
            <a:ext cx="3862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Размножение корневыми черен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3"/>
          <p:cNvSpPr/>
          <p:nvPr/>
        </p:nvSpPr>
        <p:spPr>
          <a:xfrm>
            <a:off x="2050920" y="2363760"/>
            <a:ext cx="4572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6e84b4"/>
                </a:solidFill>
                <a:latin typeface="Century Schoolbook"/>
              </a:rPr>
              <a:t>Корневой черенок — </a:t>
            </a:r>
            <a:r>
              <a:rPr b="0" lang="ru-RU" sz="2200" spc="-1" strike="noStrike">
                <a:solidFill>
                  <a:srgbClr val="6e84b4"/>
                </a:solidFill>
                <a:latin typeface="Century Schoolbook"/>
              </a:rPr>
              <a:t>это отрезок корня длиной 15—25 см. На посаженном в почву корневом черенке из придаточных почек развиваются надземные побеги, от оснований которых отрастают придаточные корни. Развивается новое, самостоятельно существующее растение. Корневыми черенками размножают садовую малину, шиповник, некоторые сорта яблонь и декоративных растен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7T07:57:23Z</dcterms:created>
  <dc:creator>Ирина</dc:creator>
  <dc:description/>
  <dc:language>en-US</dc:language>
  <cp:lastModifiedBy>Ирина</cp:lastModifiedBy>
  <dcterms:modified xsi:type="dcterms:W3CDTF">2015-03-14T19:06:21Z</dcterms:modified>
  <cp:revision>16</cp:revision>
  <dc:subject/>
  <dc:title>ВЕГЕТАТИВНОЕ РАЗМНОЖЕНИЕ РАСТЕНИЙ</dc:title>
</cp:coreProperties>
</file>