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AFF-411A-4D67-9A79-A89F137A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CF5-7420-499B-8F1E-0E85EA0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8B4-E9E0-49F2-9B7B-64E76DD2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06D-1BC6-43E9-8D6A-3EB34F36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4C99-557E-464A-A583-39145C03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6105-9C47-443D-AA6B-D96E87C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478A-B67A-42E2-A873-DFD5EBF3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45F9-9F2B-468D-9914-404F876B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1847-8B92-44B2-8FF0-35771FF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2E2A-90DA-4FFF-A017-7998B92F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412-D5D6-4617-AB0D-BAD790C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07D-9A3B-4296-A873-2521642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EB6-64C1-4ADC-B03D-09B6BBB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6EA6-92E8-418B-8326-0F9F6CA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B26A-E10D-4DDB-A705-223A011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7328-DAE9-4E51-BA2D-211E41C6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4E6-E4EC-4909-8D2C-9F56C2CB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F4B-5E11-437A-92A5-8642E50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5BF-C1BB-4B40-B701-7C0D8BF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01B-EB61-40E5-B0C6-EF497C0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DF4-2873-46CF-96A1-3EA40998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105-F485-4B54-B6DA-FB9100D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1E0-C3CD-43B9-AADA-280754E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3B1-A5B6-4E9E-8D3B-104A06D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970-F067-4BD4-9B26-AF8DE11FEF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82F-473A-4BDF-B4BE-86B845FA48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713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резентация к уроку по теме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«Царство Грибы. Общая характеристика. Многообразие и значение»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Федорченко М. А.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биологии МБОУ гимназия им. ак. Н. Г. Басова при В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лесневый гриб мукор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5589720"/>
            <a:ext cx="885672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есневый гриб мукор имеет многоядерную без поперечных перегородок грибницу. На ней развиваются спорангиеносцы, несущие шарообразные спорангии. В спорангиях развиваются тысячи сп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58912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6156360" y="3284640"/>
            <a:ext cx="2016000" cy="1800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508720" y="1628280"/>
            <a:ext cx="1150920" cy="792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508720" y="3429000"/>
            <a:ext cx="1224000" cy="936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5640" y="234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728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47120" y="502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211280" y="2565000"/>
            <a:ext cx="865080" cy="1800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79640" y="3357360"/>
            <a:ext cx="3744720" cy="187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924360" y="1628280"/>
            <a:ext cx="1079280" cy="863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2680" y="452448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озна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– спорангий, 2 – нити грибниц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- сп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бота в группа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Задание для группы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Задание для группы №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Клас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Задание для группы №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Задание для группы №4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Клас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Задание для группы №5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Клас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для группы №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уя § 33 учебника (стр. 103-104), выберите основные понятия темы и составьте словарь юного миколога (8-10 терминов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317080" y="6308640"/>
            <a:ext cx="358560" cy="360360"/>
          </a:xfrm>
          <a:custGeom>
            <a:avLst/>
            <a:gdLst>
              <a:gd name="textAreaLeft" fmla="*/ 89640 w 358560"/>
              <a:gd name="textAreaRight" fmla="*/ 268920 w 358560"/>
              <a:gd name="textAreaTop" fmla="*/ 89640 h 360360"/>
              <a:gd name="textAreaBottom" fmla="*/ 2707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16200" y="16309"/>
                </a:lnTo>
                <a:lnTo>
                  <a:pt x="16200" y="5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5400" y="16309"/>
                </a:lnTo>
                <a:lnTo>
                  <a:pt x="16200" y="16309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5400" y="5400"/>
                </a:lnTo>
                <a:lnTo>
                  <a:pt x="5400" y="1630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ловарь юного миколог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фы – тонкие ветвящиеся нити, из которых состоит вегетативное тело гри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рожжи – одноклеточные грибы, размножаются почкованием, сбраживают углеводы, расщепляя глюкозу с образованием этилового спирта и углекислого газа. Используются в хлебопечении, виноделии и пивоваре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кология – наука, изучающая гри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кориза - взаимовыгодное сожительство (симбиоз) мицелия гриба с корнем высшего рас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целий (от греч. mýkēs — гриб), иначе грибница  - вегетативное тело гриба, состоит из тонких разветвленных нитей (гиф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кор – плесневый гриб, имеет многоядерный, не разделенный септами мицелий. Может вызывать порчу пищевых продук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ницилл -  плесневый гриб. Широко используется для биотехнологического производства органических кислот, ферментов и антибиоти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довое тело – репродуктивная часть организма гриба, образующаяся из переплетённых гиф мицелия. Функцией плодового тела является образование спор. У шляпочных грибов образовано шляпкой и нож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протрофы (от греч. sapros - гнилой и ...троф) - гетеротрофные организмы, использующие для питания органические соединения мёртвых тел или выделения (экскременты) животн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утовики – грибы, поселяющиеся на живых и мертвых стволах многих лиственных деревьев. Состоит из мицелия, пронизывающего древесину, и плодового тела. Плодовое тело многолетнее, толстое, копытообразн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итин - природное соединение из группы сложных углеводов. Основной компонент наружного скелета членистоног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для группы №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уя § 33 учебника (стр. 103-104) и дополнительные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нформационные ресурсы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, составьте схему «Способы питания грибов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244000" y="6308640"/>
            <a:ext cx="360360" cy="360360"/>
          </a:xfrm>
          <a:custGeom>
            <a:avLst/>
            <a:gdLst>
              <a:gd name="textAreaLeft" fmla="*/ 88920 w 360360"/>
              <a:gd name="textAreaRight" fmla="*/ 271440 w 360360"/>
              <a:gd name="textAreaTop" fmla="*/ 88920 h 360360"/>
              <a:gd name="textAreaBottom" fmla="*/ 2714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71" y="5329"/>
                </a:lnTo>
                <a:lnTo>
                  <a:pt x="5329" y="532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71" y="16271"/>
                </a:lnTo>
                <a:lnTo>
                  <a:pt x="16271" y="532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329" y="16271"/>
                </a:lnTo>
                <a:lnTo>
                  <a:pt x="16271" y="1627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329" y="5329"/>
                </a:lnTo>
                <a:lnTo>
                  <a:pt x="5329" y="16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пособы питания гриб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0920" y="765000"/>
            <a:ext cx="8713800" cy="6050520"/>
            <a:chOff x="250920" y="765000"/>
            <a:chExt cx="8713800" cy="6050520"/>
          </a:xfrm>
        </p:grpSpPr>
        <p:cxnSp>
          <p:nvCxnSpPr>
            <p:cNvPr id="156" name="_s88070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697360" y="2094120"/>
              <a:ext cx="1210320" cy="3391200"/>
            </a:xfrm>
            <a:prstGeom prst="bentConnector3">
              <a:avLst>
                <a:gd name="adj1" fmla="val 94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88071"/>
            <p:cNvCxnSpPr>
              <a:stCxn id="160" idx="0"/>
              <a:endCxn id="158" idx="2"/>
            </p:cNvCxnSpPr>
            <p:nvPr/>
          </p:nvCxnSpPr>
          <p:spPr>
            <a:xfrm flipV="1" rot="16200000">
              <a:off x="4566600" y="3224880"/>
              <a:ext cx="1210320" cy="1130040"/>
            </a:xfrm>
            <a:prstGeom prst="bentConnector3">
              <a:avLst>
                <a:gd name="adj1" fmla="val 94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88072"/>
            <p:cNvCxnSpPr>
              <a:stCxn id="162" idx="0"/>
              <a:endCxn id="158" idx="2"/>
            </p:cNvCxnSpPr>
            <p:nvPr/>
          </p:nvCxnSpPr>
          <p:spPr>
            <a:xfrm flipH="1" flipV="1" rot="5400000">
              <a:off x="3437280" y="3225240"/>
              <a:ext cx="1210320" cy="1129320"/>
            </a:xfrm>
            <a:prstGeom prst="bentConnector3">
              <a:avLst>
                <a:gd name="adj1" fmla="val 94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88073"/>
            <p:cNvCxnSpPr>
              <a:stCxn id="164" idx="0"/>
              <a:endCxn id="158" idx="2"/>
            </p:cNvCxnSpPr>
            <p:nvPr/>
          </p:nvCxnSpPr>
          <p:spPr>
            <a:xfrm flipH="1" flipV="1" rot="5400000">
              <a:off x="2307960" y="2095560"/>
              <a:ext cx="1210320" cy="3389040"/>
            </a:xfrm>
            <a:prstGeom prst="bentConnector3">
              <a:avLst>
                <a:gd name="adj1" fmla="val 94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8" name="_s88074"/>
            <p:cNvSpPr/>
            <p:nvPr/>
          </p:nvSpPr>
          <p:spPr>
            <a:xfrm>
              <a:off x="3638880" y="765000"/>
              <a:ext cx="1936440" cy="242028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420280"/>
                <a:gd name="textAreaBottom" fmla="*/ 2325960 h 2420280"/>
              </a:gdLst>
              <a:ahLst/>
              <a:rect l="textAreaLeft" t="textAreaTop" r="textAreaRight" b="textAreaBottom"/>
              <a:pathLst>
                <a:path w="21600" h="26996">
                  <a:moveTo>
                    <a:pt x="3600" y="0"/>
                  </a:moveTo>
                  <a:arcTo wR="3600" hR="3600" stAng="16200000" swAng="-5400000"/>
                  <a:lnTo>
                    <a:pt x="0" y="23396"/>
                  </a:lnTo>
                  <a:arcTo wR="3600" hR="3600" stAng="10800000" swAng="-5400000"/>
                  <a:lnTo>
                    <a:pt x="18000" y="26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Грибы 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гетеротроф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организ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88075"/>
            <p:cNvSpPr/>
            <p:nvPr/>
          </p:nvSpPr>
          <p:spPr>
            <a:xfrm>
              <a:off x="250920" y="4395240"/>
              <a:ext cx="1936440" cy="242028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420280"/>
                <a:gd name="textAreaBottom" fmla="*/ 2325960 h 2420280"/>
              </a:gdLst>
              <a:ahLst/>
              <a:rect l="textAreaLeft" t="textAreaTop" r="textAreaRight" b="textAreaBottom"/>
              <a:pathLst>
                <a:path w="21600" h="26996">
                  <a:moveTo>
                    <a:pt x="3600" y="0"/>
                  </a:moveTo>
                  <a:arcTo wR="3600" hR="3600" stAng="16200000" swAng="-5400000"/>
                  <a:lnTo>
                    <a:pt x="0" y="23396"/>
                  </a:lnTo>
                  <a:arcTo wR="3600" hR="3600" stAng="10800000" swAng="-5400000"/>
                  <a:lnTo>
                    <a:pt x="18000" y="26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Грибы-сапротрофы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 обитают в почве на разлагающихся остатках растений и животных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выделяют пищеварительные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ферменты, разрушающие сложные органические вещества до простых неорганических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мукор, пеницилл, шампиньон и др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88076"/>
            <p:cNvSpPr/>
            <p:nvPr/>
          </p:nvSpPr>
          <p:spPr>
            <a:xfrm>
              <a:off x="2509920" y="4395240"/>
              <a:ext cx="1936440" cy="242028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420280"/>
                <a:gd name="textAreaBottom" fmla="*/ 2325960 h 2420280"/>
              </a:gdLst>
              <a:ahLst/>
              <a:rect l="textAreaLeft" t="textAreaTop" r="textAreaRight" b="textAreaBottom"/>
              <a:pathLst>
                <a:path w="21600" h="26996">
                  <a:moveTo>
                    <a:pt x="3600" y="0"/>
                  </a:moveTo>
                  <a:arcTo wR="3600" hR="3600" stAng="16200000" swAng="-5400000"/>
                  <a:lnTo>
                    <a:pt x="0" y="23396"/>
                  </a:lnTo>
                  <a:arcTo wR="3600" hR="3600" stAng="10800000" swAng="-5400000"/>
                  <a:lnTo>
                    <a:pt x="18000" y="26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Грибы-симбионты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образуют микоризу – взаимовыгодное сожительство с высшими растениями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грибы поставляют корням из почвы минеральные элементы (особенно фосфор), а взамен получают углеводы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белый гриб, подосиновик, подберезовик и др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88077"/>
            <p:cNvSpPr/>
            <p:nvPr/>
          </p:nvSpPr>
          <p:spPr>
            <a:xfrm>
              <a:off x="4769640" y="4395240"/>
              <a:ext cx="1936440" cy="242028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420280"/>
                <a:gd name="textAreaBottom" fmla="*/ 2325960 h 2420280"/>
              </a:gdLst>
              <a:ahLst/>
              <a:rect l="textAreaLeft" t="textAreaTop" r="textAreaRight" b="textAreaBottom"/>
              <a:pathLst>
                <a:path w="21600" h="26996">
                  <a:moveTo>
                    <a:pt x="3600" y="0"/>
                  </a:moveTo>
                  <a:arcTo wR="3600" hR="3600" stAng="16200000" swAng="-5400000"/>
                  <a:lnTo>
                    <a:pt x="0" y="23396"/>
                  </a:lnTo>
                  <a:arcTo wR="3600" hR="3600" stAng="10800000" swAng="-5400000"/>
                  <a:lnTo>
                    <a:pt x="18000" y="26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Грибы-паразиты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поселяются на растениях, животных и человеке, даже на других грибах и питаются за их счет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паразитируют на растениях: головня, спорынья, ржавчина, фитофтора, трутовики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у животных и человека вызывают стригущий лишай, заболевания кожи, ногтей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88078"/>
            <p:cNvSpPr/>
            <p:nvPr/>
          </p:nvSpPr>
          <p:spPr>
            <a:xfrm>
              <a:off x="7029000" y="4395240"/>
              <a:ext cx="1935720" cy="2420280"/>
            </a:xfrm>
            <a:custGeom>
              <a:avLst/>
              <a:gdLst>
                <a:gd name="textAreaLeft" fmla="*/ 94320 w 1935720"/>
                <a:gd name="textAreaRight" fmla="*/ 1841400 w 1935720"/>
                <a:gd name="textAreaTop" fmla="*/ 94320 h 2420280"/>
                <a:gd name="textAreaBottom" fmla="*/ 2325960 h 2420280"/>
              </a:gdLst>
              <a:ahLst/>
              <a:rect l="textAreaLeft" t="textAreaTop" r="textAreaRight" b="textAreaBottom"/>
              <a:pathLst>
                <a:path w="21600" h="27006">
                  <a:moveTo>
                    <a:pt x="3600" y="0"/>
                  </a:moveTo>
                  <a:arcTo wR="3600" hR="3600" stAng="16200000" swAng="-5400000"/>
                  <a:lnTo>
                    <a:pt x="0" y="23406"/>
                  </a:lnTo>
                  <a:arcTo wR="3600" hR="3600" stAng="10800000" swAng="-5400000"/>
                  <a:lnTo>
                    <a:pt x="18000" y="270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Хищные грибы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 имеют приспособления для захвата  и использования в пищу мелких животных (круглых червей нематод, амеб и др.);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- грибы из семейства зоопагаловых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88360" y="189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для группы №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уя § 33 учебника (стр. 103-104) и дополнительные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нформационные ресурсы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, составьте памятку «Юному грибнику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172360" y="630864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амятка «Юному грибнику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еред тем, как отправиться в лес, нужно усвоить несколько обязательных прави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 Самое грибное время - с середины августа до середины сентяб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 Лучшее время для сбора - с рассвета до 10-11час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 Желательно собирать грибы в корзину (там они меньше портятся, не ломаются и не мнутс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. Собирайте в лесу только те грибы, о которых вы точно знаете, что они съедоб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. Грибы, которые вам неизвестны или вызывают сомнения, не следует употреблять в пищу и пробовать на вкус, тем более в сыром вид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. Никогда не собирайте и не ешьте грибы, которые у основания ножки имеют клубневидное утолщение, окруженное оболочкой (как, например, у бледной поганки и красного мухомора), и не пробуйте их на вку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7. Никогда не собирайте и не ешьте грибы перезрелые, червивые и испорченн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. Не ешьте грибы в сыром виде. Принесенные домой грибы должны быть вновь тщательно просмотрены. Все сомнительные грибы нужно выбросить. Нижнюю часть ножки, загрязненную землей, срезают, а грибы тщательно очищают, со шляпки снимают пленку, покрытую слизью. Грибы должны быть подвергнуты кулинарной обработке в день сбора или не позднее следующего ут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9. Не собирайте грибы, даже заведомо съедобные, в городских парках, скверах, дворах, а также вдоль автомобильных и железных дорог. Грибы накапливают ядовитые вещества и становятся непригодными для пищ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. При первых признаках отравления срочно обращайтесь за медицинской помощью. До прихода врача надо выпить много теплой воды и вызвать рво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1. Не забывайте о правилах поведения в  природе! Относитесь к лесу с уважением! Не оставляйте после себя  мусор. Лес – это особый мир, в котором мы с вами всего лишь г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317080" y="189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для группы №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уя § 33 учебника (стр. 103-104) и дополнительные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нформационные ресурсы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, составьте схему «Роль грибов в природе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244000" y="6308640"/>
            <a:ext cx="360360" cy="360360"/>
          </a:xfrm>
          <a:custGeom>
            <a:avLst/>
            <a:gdLst>
              <a:gd name="textAreaLeft" fmla="*/ 88920 w 360360"/>
              <a:gd name="textAreaRight" fmla="*/ 271440 w 360360"/>
              <a:gd name="textAreaTop" fmla="*/ 88920 h 360360"/>
              <a:gd name="textAreaBottom" fmla="*/ 2714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71" y="5329"/>
                </a:lnTo>
                <a:lnTo>
                  <a:pt x="5329" y="532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71" y="16271"/>
                </a:lnTo>
                <a:lnTo>
                  <a:pt x="16271" y="532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329" y="16271"/>
                </a:lnTo>
                <a:lnTo>
                  <a:pt x="16271" y="1627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329" y="5329"/>
                </a:lnTo>
                <a:lnTo>
                  <a:pt x="5329" y="16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оль грибов в природ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9280" y="981000"/>
            <a:ext cx="8785080" cy="5687640"/>
            <a:chOff x="179280" y="981000"/>
            <a:chExt cx="8785080" cy="5687640"/>
          </a:xfrm>
        </p:grpSpPr>
        <p:cxnSp>
          <p:nvCxnSpPr>
            <p:cNvPr id="177" name="_s9011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12480" y="2115000"/>
              <a:ext cx="1137600" cy="341856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90119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572720" y="3254760"/>
              <a:ext cx="1137600" cy="113940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9012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434040" y="3255120"/>
              <a:ext cx="1137600" cy="113868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9012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294640" y="2115720"/>
              <a:ext cx="1137600" cy="3417480"/>
            </a:xfrm>
            <a:prstGeom prst="bentConnector3">
              <a:avLst>
                <a:gd name="adj1" fmla="val 100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9" name="_s90122"/>
            <p:cNvSpPr/>
            <p:nvPr/>
          </p:nvSpPr>
          <p:spPr>
            <a:xfrm>
              <a:off x="3594960" y="981000"/>
              <a:ext cx="1952280" cy="227520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275200"/>
                <a:gd name="textAreaBottom" fmla="*/ 2180160 h 2275200"/>
              </a:gdLst>
              <a:ahLst/>
              <a:rect l="textAreaLeft" t="textAreaTop" r="textAreaRight" b="textAreaBottom"/>
              <a:pathLst>
                <a:path w="21600" h="25172">
                  <a:moveTo>
                    <a:pt x="3600" y="0"/>
                  </a:moveTo>
                  <a:arcTo wR="3600" hR="3600" stAng="16200000" swAng="-5400000"/>
                  <a:lnTo>
                    <a:pt x="0" y="21572"/>
                  </a:lnTo>
                  <a:arcTo wR="3600" hR="3600" stAng="10800000" swAng="-5400000"/>
                  <a:lnTo>
                    <a:pt x="18000" y="251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Роль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грибов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в природ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90123"/>
            <p:cNvSpPr/>
            <p:nvPr/>
          </p:nvSpPr>
          <p:spPr>
            <a:xfrm>
              <a:off x="179280" y="4393440"/>
              <a:ext cx="1952280" cy="227520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275200"/>
                <a:gd name="textAreaBottom" fmla="*/ 2180160 h 2275200"/>
              </a:gdLst>
              <a:ahLst/>
              <a:rect l="textAreaLeft" t="textAreaTop" r="textAreaRight" b="textAreaBottom"/>
              <a:pathLst>
                <a:path w="21600" h="25172">
                  <a:moveTo>
                    <a:pt x="3600" y="0"/>
                  </a:moveTo>
                  <a:arcTo wR="3600" hR="3600" stAng="16200000" swAng="-5400000"/>
                  <a:lnTo>
                    <a:pt x="0" y="21572"/>
                  </a:lnTo>
                  <a:arcTo wR="3600" hR="3600" stAng="10800000" swAng="-5400000"/>
                  <a:lnTo>
                    <a:pt x="18000" y="251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Участвуют в круговороте веществ в природе, играют роль редуцентов – минерализуют органические остат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90124"/>
            <p:cNvSpPr/>
            <p:nvPr/>
          </p:nvSpPr>
          <p:spPr>
            <a:xfrm>
              <a:off x="2457000" y="4393440"/>
              <a:ext cx="1952280" cy="227520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275200"/>
                <a:gd name="textAreaBottom" fmla="*/ 2180160 h 2275200"/>
              </a:gdLst>
              <a:ahLst/>
              <a:rect l="textAreaLeft" t="textAreaTop" r="textAreaRight" b="textAreaBottom"/>
              <a:pathLst>
                <a:path w="21600" h="25172">
                  <a:moveTo>
                    <a:pt x="3600" y="0"/>
                  </a:moveTo>
                  <a:arcTo wR="3600" hR="3600" stAng="16200000" swAng="-5400000"/>
                  <a:lnTo>
                    <a:pt x="0" y="21572"/>
                  </a:lnTo>
                  <a:arcTo wR="3600" hR="3600" stAng="10800000" swAng="-5400000"/>
                  <a:lnTo>
                    <a:pt x="18000" y="251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Участвуют в образовании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гумуса,  повышают  плодородие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почв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90125"/>
            <p:cNvSpPr/>
            <p:nvPr/>
          </p:nvSpPr>
          <p:spPr>
            <a:xfrm>
              <a:off x="4735080" y="4393440"/>
              <a:ext cx="1952280" cy="2275200"/>
            </a:xfrm>
            <a:custGeom>
              <a:avLst/>
              <a:gdLst>
                <a:gd name="textAreaLeft" fmla="*/ 95040 w 1952280"/>
                <a:gd name="textAreaRight" fmla="*/ 1857240 w 1952280"/>
                <a:gd name="textAreaTop" fmla="*/ 95040 h 2275200"/>
                <a:gd name="textAreaBottom" fmla="*/ 2180160 h 2275200"/>
              </a:gdLst>
              <a:ahLst/>
              <a:rect l="textAreaLeft" t="textAreaTop" r="textAreaRight" b="textAreaBottom"/>
              <a:pathLst>
                <a:path w="21600" h="25172">
                  <a:moveTo>
                    <a:pt x="3600" y="0"/>
                  </a:moveTo>
                  <a:arcTo wR="3600" hR="3600" stAng="16200000" swAng="-5400000"/>
                  <a:lnTo>
                    <a:pt x="0" y="21572"/>
                  </a:lnTo>
                  <a:arcTo wR="3600" hR="3600" stAng="10800000" swAng="-5400000"/>
                  <a:lnTo>
                    <a:pt x="18000" y="251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Микоризные грибы играют ключевую роль в минеральном питании растений, повышают устойчивость растений к суровым условиям на границе выживани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90126"/>
            <p:cNvSpPr/>
            <p:nvPr/>
          </p:nvSpPr>
          <p:spPr>
            <a:xfrm>
              <a:off x="7012800" y="4393440"/>
              <a:ext cx="1951560" cy="2275200"/>
            </a:xfrm>
            <a:custGeom>
              <a:avLst/>
              <a:gdLst>
                <a:gd name="textAreaLeft" fmla="*/ 95040 w 1951560"/>
                <a:gd name="textAreaRight" fmla="*/ 1856520 w 1951560"/>
                <a:gd name="textAreaTop" fmla="*/ 95040 h 2275200"/>
                <a:gd name="textAreaBottom" fmla="*/ 2180160 h 2275200"/>
              </a:gdLst>
              <a:ahLst/>
              <a:rect l="textAreaLeft" t="textAreaTop" r="textAreaRight" b="textAreaBottom"/>
              <a:pathLst>
                <a:path w="21600" h="25181">
                  <a:moveTo>
                    <a:pt x="3600" y="0"/>
                  </a:moveTo>
                  <a:arcTo wR="3600" hR="3600" stAng="16200000" swAng="-5400000"/>
                  <a:lnTo>
                    <a:pt x="0" y="21581"/>
                  </a:lnTo>
                  <a:arcTo wR="3600" hR="3600" stAng="10800000" swAng="-5400000"/>
                  <a:lnTo>
                    <a:pt x="18000" y="251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Вызывают болезни растений и животны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317080" y="26028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1832040" cy="1374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571840" cy="1994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8000" y="1197000"/>
            <a:ext cx="2916360" cy="176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http://amamam.ru/wp-content/uploads/pie/osetinsky_1.jpg"/>
          <p:cNvPicPr/>
          <p:nvPr/>
        </p:nvPicPr>
        <p:blipFill>
          <a:blip r:embed="rId4"/>
          <a:stretch/>
        </p:blipFill>
        <p:spPr>
          <a:xfrm>
            <a:off x="1692360" y="4724280"/>
            <a:ext cx="2673360" cy="200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3789360"/>
            <a:ext cx="2590560" cy="160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Что объединяет эти изображения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093080" y="2852640"/>
            <a:ext cx="1827000" cy="175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796000" y="4681440"/>
            <a:ext cx="3348000" cy="217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132000" y="2492280"/>
            <a:ext cx="31179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для группы №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уя § 33 учебника (стр. 103-104) и дополнительные информационные ресурсы, составьте схему «Значение грибов для челове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360360"/>
          </a:xfrm>
          <a:custGeom>
            <a:avLst/>
            <a:gdLst>
              <a:gd name="textAreaLeft" fmla="*/ 79200 w 360360"/>
              <a:gd name="textAreaRight" fmla="*/ 281160 w 36036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842" y="4758"/>
                </a:lnTo>
                <a:lnTo>
                  <a:pt x="4758" y="475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842" y="16842"/>
                </a:lnTo>
                <a:lnTo>
                  <a:pt x="16842" y="475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758" y="16842"/>
                </a:lnTo>
                <a:lnTo>
                  <a:pt x="16842" y="1684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758" y="4758"/>
                </a:lnTo>
                <a:lnTo>
                  <a:pt x="4758" y="1684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Значение грибов для челове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4000" y="765000"/>
            <a:ext cx="8497440" cy="5905800"/>
            <a:chOff x="324000" y="765000"/>
            <a:chExt cx="8497440" cy="5905800"/>
          </a:xfrm>
        </p:grpSpPr>
        <p:cxnSp>
          <p:nvCxnSpPr>
            <p:cNvPr id="192" name="_s91142"/>
            <p:cNvCxnSpPr>
              <a:stCxn id="193" idx="1"/>
              <a:endCxn id="194" idx="2"/>
            </p:cNvCxnSpPr>
            <p:nvPr/>
          </p:nvCxnSpPr>
          <p:spPr>
            <a:xfrm rot="10800000">
              <a:off x="4572360" y="1459080"/>
              <a:ext cx="607320" cy="277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91143"/>
            <p:cNvCxnSpPr>
              <a:stCxn id="196" idx="3"/>
              <a:endCxn id="194" idx="2"/>
            </p:cNvCxnSpPr>
            <p:nvPr/>
          </p:nvCxnSpPr>
          <p:spPr>
            <a:xfrm flipV="1">
              <a:off x="3965760" y="1459800"/>
              <a:ext cx="607680" cy="277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91144"/>
            <p:cNvCxnSpPr>
              <a:stCxn id="198" idx="1"/>
              <a:endCxn id="194" idx="2"/>
            </p:cNvCxnSpPr>
            <p:nvPr/>
          </p:nvCxnSpPr>
          <p:spPr>
            <a:xfrm rot="10800000">
              <a:off x="4572360" y="1459080"/>
              <a:ext cx="607320" cy="173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91145"/>
            <p:cNvCxnSpPr>
              <a:stCxn id="200" idx="3"/>
              <a:endCxn id="194" idx="2"/>
            </p:cNvCxnSpPr>
            <p:nvPr/>
          </p:nvCxnSpPr>
          <p:spPr>
            <a:xfrm flipV="1">
              <a:off x="3965760" y="1460160"/>
              <a:ext cx="607680" cy="173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91146"/>
            <p:cNvCxnSpPr>
              <a:stCxn id="202" idx="1"/>
              <a:endCxn id="194" idx="2"/>
            </p:cNvCxnSpPr>
            <p:nvPr/>
          </p:nvCxnSpPr>
          <p:spPr>
            <a:xfrm rot="10800000">
              <a:off x="4572360" y="1459800"/>
              <a:ext cx="607320" cy="69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91147"/>
            <p:cNvCxnSpPr>
              <a:stCxn id="204" idx="3"/>
              <a:endCxn id="194" idx="2"/>
            </p:cNvCxnSpPr>
            <p:nvPr/>
          </p:nvCxnSpPr>
          <p:spPr>
            <a:xfrm flipV="1">
              <a:off x="3965760" y="1459800"/>
              <a:ext cx="607680" cy="69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5" name="_s91148"/>
            <p:cNvCxnSpPr>
              <a:stCxn id="206" idx="3"/>
              <a:endCxn id="194" idx="2"/>
            </p:cNvCxnSpPr>
            <p:nvPr/>
          </p:nvCxnSpPr>
          <p:spPr>
            <a:xfrm flipV="1">
              <a:off x="3965760" y="1460520"/>
              <a:ext cx="607680" cy="486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7" name="_s91149"/>
            <p:cNvCxnSpPr>
              <a:stCxn id="208" idx="1"/>
              <a:endCxn id="194" idx="2"/>
            </p:cNvCxnSpPr>
            <p:nvPr/>
          </p:nvCxnSpPr>
          <p:spPr>
            <a:xfrm rot="10800000">
              <a:off x="4572360" y="1459080"/>
              <a:ext cx="607320" cy="3822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9" name="_s91150"/>
            <p:cNvCxnSpPr>
              <a:stCxn id="210" idx="3"/>
              <a:endCxn id="194" idx="2"/>
            </p:cNvCxnSpPr>
            <p:nvPr/>
          </p:nvCxnSpPr>
          <p:spPr>
            <a:xfrm flipV="1">
              <a:off x="3965760" y="1460160"/>
              <a:ext cx="607680" cy="38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91151"/>
            <p:cNvSpPr/>
            <p:nvPr/>
          </p:nvSpPr>
          <p:spPr>
            <a:xfrm>
              <a:off x="2751840" y="7650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Значение грибов для 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91152"/>
            <p:cNvSpPr/>
            <p:nvPr/>
          </p:nvSpPr>
          <p:spPr>
            <a:xfrm>
              <a:off x="324000" y="49338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Используют в микробиологической промышленности для производства органических кислот, ферментов, витамин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91153"/>
            <p:cNvSpPr/>
            <p:nvPr/>
          </p:nvSpPr>
          <p:spPr>
            <a:xfrm>
              <a:off x="5179680" y="49338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редят сельскому и лесному хозяйству (грибы-паразиты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91154"/>
            <p:cNvSpPr/>
            <p:nvPr/>
          </p:nvSpPr>
          <p:spPr>
            <a:xfrm>
              <a:off x="324000" y="59760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Используются в борьбе с насекомыми-вредителями, с нематодами, снижающими урожай  овощей (хищные грибы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91155"/>
            <p:cNvSpPr/>
            <p:nvPr/>
          </p:nvSpPr>
          <p:spPr>
            <a:xfrm>
              <a:off x="324000" y="180684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Употребляются в пищу (белый гриб, рыжик, груздь, масленок, подберезовик, шампиньон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91156"/>
            <p:cNvSpPr/>
            <p:nvPr/>
          </p:nvSpPr>
          <p:spPr>
            <a:xfrm>
              <a:off x="5179680" y="180684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ызывают порчу продуктов питания, кормов, а также тканей, пиломатериалов, кожи, фотопленки, изоляции проводов и др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91157"/>
            <p:cNvSpPr/>
            <p:nvPr/>
          </p:nvSpPr>
          <p:spPr>
            <a:xfrm>
              <a:off x="324000" y="28494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Используются в хлебопечении, виноделии, пивоварении (дрожжи), изготовлении сыров (пенициллы), соевого соу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91158"/>
            <p:cNvSpPr/>
            <p:nvPr/>
          </p:nvSpPr>
          <p:spPr>
            <a:xfrm>
              <a:off x="5179680" y="28494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бразуют   яды, опасные для человека; могут вызывать раков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пухоли, галлюцин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91159"/>
            <p:cNvSpPr/>
            <p:nvPr/>
          </p:nvSpPr>
          <p:spPr>
            <a:xfrm>
              <a:off x="324000" y="38916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Используются для производства антибиотиков, циклоспорина, который  применяют при трансплантация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91160"/>
            <p:cNvSpPr/>
            <p:nvPr/>
          </p:nvSpPr>
          <p:spPr>
            <a:xfrm>
              <a:off x="5179680" y="3891600"/>
              <a:ext cx="3641760" cy="694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Вызывают болезни человека  (стригущий лишай, микозы стоп, ногтей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ест «Грибы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берите один правильный отв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Что из перечисленного ниже характерно для грибов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не имеют клеточного строения, б) не содержат хлорофилл, в) способны к фотосинтезу, г) являются автотрофными организм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Как называют тонкие бесцветные нити, из которых состоит грибница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гифы, б) корневые волоски, в) ситовидные трубки, г) споранг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Что такое микориза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плодовое тело шляпочных грибов, б) грибница, в) заболевание, вызванное паразитическими грибами, г) симбиоз мицелия гриба с корнями деревье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Как размножаются дрожж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спорами, б) почкованием, в) гаметами, г) делением мицелия на ча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Какова функция плодовых тел шляпочных грибов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поглощение воды и минеральных веществ, б) запасание органических веществ, в) фотосинтез, г) образование спор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Укажите гриб, который к паразитам НЕ относя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хлебная ржавчина, б) головня, в) мукор, г) мучнистая ро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Что из перечисленного ниже характерно для всех грибов-сапротрофов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питаются органическими веществами умерших организмов, б) содержат хлоропласты, в) не имеют мицелия, 4) имеют плодовое тел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Назовите ядовитый гриб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рыжик, б) сыроежка, в) бледная поганка, г) волнуш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. Укажите одну из особенностей гриб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есть пластиды, б) клеточная стенка состоит из хитина, в) клетки не содержат ядер, г) нет полового размнож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 Какая болезнь человека вызывается грибам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грипп, б) туберкулез, в) холера, г) лиша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Ключ к тесту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484280"/>
            <a:ext cx="162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 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924360" cy="1924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2800440" cy="3659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95640" y="3645000"/>
            <a:ext cx="5000760" cy="3038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982040" y="136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рожж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97240" y="436572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ледная пога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учить § 33 и ответить на вопросы после параграф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ворческие задания (на выбор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готовить презентацию «Самые удивительные грибы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ставить кроссворд «Грибы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исать сказку «В необычном царстве, в грибном государстве…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рисовать самые опасные ядовитые гри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тельские задания (на выбор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нгвистическое исследование «Тайны происхождения необычных названий грибов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ние зависимости скорости роста плесневых грибов от различных экологических факторов (температуры, влажности, субстра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ова Т. С., Строганов В. И.  Биология. 5 – 6 классы. – М.: Вентана – Граф, 201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йтак Д. И. Биология: растения, бактерии, грибы, лишайники (пособие для учащихся).  – М.: Мнемозина, 199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нциклопедия для детей. Том 2. Биология. – М.: Аванта+, 20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ластер «Способы питания грибов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512120" cy="568980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ластер «Роль грибов в природе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581652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ластер «Значение грибов для человека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81832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2425680" cy="2425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РИБ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52840" cy="29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084720" y="189000"/>
            <a:ext cx="2873520" cy="19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449800" cy="174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050920" y="3573360"/>
            <a:ext cx="2376720" cy="1906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132000" y="620640"/>
            <a:ext cx="2664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21080" cy="246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хожи ли грибы на другие организм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166920" cy="231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3551040" cy="2786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292640"/>
            <a:ext cx="273672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подвиж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тоянно раст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асывают      растворённые питательные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4221000"/>
            <a:ext cx="2627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етеротро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леточных стенк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ь х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пасают гликоген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то отличает грибы от изученных царств живой природ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4127400" cy="248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286000" cy="26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5003640" y="3860280"/>
            <a:ext cx="1440000" cy="574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5373720"/>
            <a:ext cx="136692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08680" y="43657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рангий со спо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1800" y="51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628640"/>
            <a:ext cx="35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гетативное тело гриба (мицелий) образова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нкими ветвящимися нитями – гиф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ма урока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Царство Грибы. Общая характеристика. Многообразие и знач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Цель урока: раскрыть отличительные признаки царства грибов, расширить представления о многообразии грибов, их роли в природе и жизни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пользуя § 33 учебника (стр. 103-104) и дополнительные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нформационные ресурсы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, дополните текст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32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щая характеристика царства гриб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арство грибов насчитывает около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дов. Все грибы имеют в клетках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одно или несколько) и являются ___________. Среди грибов есть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______________ организмы. Грибы, так же как и растения, относительно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постоянно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 __________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клеточные стенки, поглощают питательные вещества ___________________________________________. Грибы, так же как и животные, являются по типу питания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так как не содержат в своих клетках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В их клеточных стенках содержится вещество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из которого состоят покровы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Грибы запасают не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как растения, а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как животные и человек. Представители царства грибов имеют и собственные уникальные признаки. Вегетативное тело гриба, называемое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образовано тонкими ветвящимися трубчатыми нитями. Их называют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Плотно переплетенными  гифами образовано и плодовое тело, в котором образуются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Размножаются грибы бесполым (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_______________, т.е. вегетативно) и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тем. По способу питания грибы могут быть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даже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Грибы играют важную роль в круговороте веществ в прир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бщая характеристика царства грибов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арство грибов насчитывает около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100 000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дов. Все грибы имеют в клетках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ядр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одно или несколько) и являются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эукариот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реди грибов есть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одноклеточ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многоклеточ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рганизмы. Грибы, так же как и растения, относительно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неподвиж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постоянно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растут верхушечной частью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имеют прочны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клеточные стенки, поглощают питательные вещества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из раствора, всасывая их всей поверхностью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те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Грибы, так же как и животные, являются по типу питания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гетеротроф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так как не содержат в своих клетках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хлорофилл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В их клеточных стенках содержится вещество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хити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из которого состоят покровы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раков, пауков, насекомых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Грибы запасают не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крахма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как растения, а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гликоген или жи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как животные и человек. Представители царства грибов имеют и собственные уникальные признаки. Вегетативное тело гриба, называемое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грибнице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мицелие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образовано тонкими ветвящимися трубчатыми нитями. Их называют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гиф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Плотно переплетенными  гифами образовано и плодовое тело, в котором образуются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спо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Размножаются грибы бесполым (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спо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частями мицел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т.е. вегетативно) и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половым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тем. По способу питания грибы могут быть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сапротроф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паразит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симбионтами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даже </a:t>
            </a:r>
            <a:r>
              <a:rPr b="0" i="1" lang="en-US" sz="2000" spc="-1" strike="noStrike" u="sng">
                <a:solidFill>
                  <a:srgbClr val="ffcc66"/>
                </a:solidFill>
                <a:uFillTx/>
                <a:latin typeface="Tahoma"/>
              </a:rPr>
              <a:t>хищник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Грибы играют важную роль в круговороте веществ в прир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абораторная работ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ема:  «Строение плесневых грибов»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познакомиться со строением плесневых грибов; продолжать формировать навыки работы с натуральными объектами и выполнения биологического рису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орудова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ультура мукора, препаровальные иглы, пипетки, предметные и покровные стекла, микроскоп, луп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д рабо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При помощи препаровальной иглы перенесите несколько нитей гриба со спорангиями на сухое предметное стекло и рассмотрите их при малом увеличении. Найдите спорангиеносцы и темные шарики спорангиев на их концах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Нанесите каплю воды на предметное стекло и накройте препарат покровным стеклом. Рассмотрите мицелий и спорангии мукора при малом и большом увеличении. Определите, есть ли в нитях грибницы поперечные перегородки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Зарисуйте внешний вид гриба мукора, отметьте многоядерную без поперечных перегородок грибницу, укажите спорангиеносцы и спорангии со спо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Сделайте вывод о строении плесневого гри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1T18:31:03Z</dcterms:created>
  <dc:creator>user</dc:creator>
  <dc:description/>
  <dc:language>en-US</dc:language>
  <cp:lastModifiedBy>user</cp:lastModifiedBy>
  <dcterms:modified xsi:type="dcterms:W3CDTF">2015-03-14T18:06:52Z</dcterms:modified>
  <cp:revision>68</cp:revision>
  <dc:subject/>
  <dc:title>Слайд 1</dc:title>
</cp:coreProperties>
</file>