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37A-DB32-423C-8CC1-D4F90AA5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79D-747C-4EB8-9172-3F1944B6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F1A-3D60-465D-B59A-66033E62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806-D63C-43A4-AE92-164FA2DB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152-37CC-47AC-BE42-8DE6B740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64F-7064-49FF-A96C-C583EF1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8B5-C170-42BC-9829-58AEE463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4B5-C894-48DC-95E6-1F7A9F78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DC6-048E-455E-82E1-DAC272B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120-403C-4374-A58E-41FC3BF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BB5-BAE8-430A-83D7-46B7C37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01A-2717-48A0-B7DA-57F7F65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353-4461-4DA8-AD2C-842595736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фотоархива ученицы 6 «Б» класса Анцуповой Анаст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прекрасен этот мир, посмотр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92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308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26028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308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308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6000" y="18900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6308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64000" y="6165720"/>
            <a:ext cx="33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1159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08720" y="623736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63817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63817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35640" y="61657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цупова Анастасия, 6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4:02:13Z</dcterms:created>
  <dc:creator>user</dc:creator>
  <dc:description/>
  <dc:language>en-US</dc:language>
  <cp:lastModifiedBy>user</cp:lastModifiedBy>
  <dcterms:modified xsi:type="dcterms:W3CDTF">2015-03-14T17:49:31Z</dcterms:modified>
  <cp:revision>11</cp:revision>
  <dc:subject/>
  <dc:title>Слайд 1</dc:title>
</cp:coreProperties>
</file>