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268D-9D8A-4E07-91AF-BB5379BD90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EAE5-2910-459A-8655-F9E58CCE67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C17-D4B1-4E9D-8760-8BFB1604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C36-F397-4333-AFC8-57853135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FA3-BC19-4185-9C63-E6F1C1A5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97B-2214-4E0A-90ED-7C19CEA9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0AC-4FE9-4E62-A8AF-2532ADA3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AA7-FB13-4553-A71D-B85AD578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50E-FE46-416E-A59B-1B8C09B7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801-8864-4183-988D-D74BCBC9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13E-77F8-4E96-A14B-B703431E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F69-1824-4D7F-B14A-C76C3CE7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D6E-EADB-4309-8092-37F42B49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F92-F70E-44E8-888E-5496E8B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845-AC4C-461C-B6FC-4F02ECFE4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1139760" y="1847880"/>
            <a:ext cx="7480440" cy="23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019320" y="6021360"/>
            <a:ext cx="30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53616"/>
                </a:solidFill>
                <a:latin typeface="Calibri"/>
                <a:ea typeface="Arial"/>
              </a:rPr>
              <a:t>Сав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53616"/>
                </a:solidFill>
                <a:latin typeface="Calibri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84720" y="4292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ект выполнили уче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в класса «МБОУ Савинская ОС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ь: Горбатова Наталья Юрье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427640" y="115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ранить нам славу предков надлеж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ты не гость, не временный посредни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тория тебе принадлежи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ссии прозревающий наследни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Сорок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436680" y="1612800"/>
            <a:ext cx="838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й социальный проект «КНИГА ПАМЯТИ» реализован в 2014 - 2015 учебном г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обучащиеся 2в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артнеры проек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ствен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роки реализ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декабрь-м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облем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шло много времени со Дня Победы нашего народа в Великой Отечественной войне, и учащиеся начальной школы и их молодые родители мало знают об этой войне, не задумываются, какой след оставила война в их семья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Гипоте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ых свидетелей событий военного времени с каждым годом становится все меньше. Это люди преклонного возраста - прадедушки и прабабушки учащихся начальной школы. Возможно, их родственники были участниками Великой Отечественной войны, работали в тылу и внесли вклад в Победу над фашистской Герман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0920" y="1125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у младших школьников навыков проектно - исследов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 преемственности покол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ние у детей чувства патриотизма и уважения к старшему покол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интересовать этим проектом учащихся клас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ять интервью у родителей о жизни родственников в годы вой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формить страницы «Книги памяти» о жизни родственников в годы вой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казать о них на классном часе «Мы помним, гордимся, благодари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бретение навыков поисково-исследовательской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ширение знаний о Великой Отечественной вой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хранение памяти о суровых годах жизни своих пред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овлетворенность от общения с родителями, родственниками, ветеранами войны, одноклассни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Главный 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страниц памяти в свои семейные архивы, из которых  мы составили «Книгу памя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06280" y="12142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ходе работы над проектом 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тали литературные произведения о Великой Отечественной вой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ли конкурс рисунков «Что я знаю о войне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ли конкурс стихов о войне «Никто не забыт, ничто не забыто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рали  информацию о жизни родственников в годы вой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интервью с родителями, родственниками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лись пользоваться ресурсами сети Интернет (сайты «Подвиг народа», «Мемориал», «Победа 1945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формили страницы памяти в семейный архи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формили страницы памяти в Книгу памя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ли конкурс соч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06280" y="5016600"/>
            <a:ext cx="842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ходе поисковой работы мы нашли материалы о 17 участниках  Великой Отечественной войны, родственниках наших одноклассников: Варзиной Софьи, Соколовой Анастасии, Пирогова Сергея, Максимовской Полины, Коробицыной Ксении, Сапсалёва Дмитрия, Смирнова Степана, Скрыль Ольги, Ульяновой Марины, Таскаевой Дарьи, Бозорова Тиму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55640" y="189000"/>
          <a:ext cx="8231040" cy="4338720"/>
        </p:xfrm>
        <a:graphic>
          <a:graphicData uri="http://schemas.openxmlformats.org/drawingml/2006/table">
            <a:tbl>
              <a:tblPr/>
              <a:tblGrid>
                <a:gridCol w="2347920"/>
                <a:gridCol w="5597640"/>
                <a:gridCol w="285840"/>
              </a:tblGrid>
              <a:tr h="221040"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 gridSpan="2"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формация из донесения о безвозвратных потер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1040"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00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ми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гал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ве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44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ч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горови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00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рождения/Возра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.__.19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44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рож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хангельская обл., Елецкий р-н, Зачеголовский с/с, с. Заболотно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днее место служб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С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00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инское з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жан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44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а выбы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и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44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выбы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7.19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264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ичное место захоро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нградская обл., Киришский р-н, д. Велия, южнее, 2 к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480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источника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АМ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фонда источника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4280">
                <a:tc>
                  <a:txBody>
                    <a:bodyPr lIns="124920" rIns="124920" tIns="41760" bIns="417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описи источника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840" rIns="24840" tIns="24840" bIns="248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88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4840" marR="2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4920" rIns="124920" tIns="41760" bIns="41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4920" marR="12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7" name="Рисунок 1" descr="http://obd-memorial.ru/memorial/fullimage?id=1469553&amp;id1=f9881637a6502696d7ee0e64f4ead2f8&amp;path=VS/001/058-0818883-0185/00000442.JPG"/>
          <p:cNvPicPr/>
          <p:nvPr/>
        </p:nvPicPr>
        <p:blipFill>
          <a:blip r:embed="rId1"/>
          <a:stretch/>
        </p:blipFill>
        <p:spPr>
          <a:xfrm>
            <a:off x="6229440" y="2205000"/>
            <a:ext cx="2879640" cy="227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Наталья\Desktop\книга памяти\Кириши\img_1013.jpg"/>
          <p:cNvPicPr/>
          <p:nvPr/>
        </p:nvPicPr>
        <p:blipFill>
          <a:blip r:embed="rId2"/>
          <a:stretch/>
        </p:blipFill>
        <p:spPr>
          <a:xfrm>
            <a:off x="179280" y="4640400"/>
            <a:ext cx="2298960" cy="153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Наталья\Desktop\книга памяти\Кириши\img_1418.jpg"/>
          <p:cNvPicPr/>
          <p:nvPr/>
        </p:nvPicPr>
        <p:blipFill>
          <a:blip r:embed="rId3"/>
          <a:stretch/>
        </p:blipFill>
        <p:spPr>
          <a:xfrm>
            <a:off x="2502000" y="4640400"/>
            <a:ext cx="1728720" cy="2144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Наталья\Desktop\книга памяти\Кириши\img_1019.jpg"/>
          <p:cNvPicPr/>
          <p:nvPr/>
        </p:nvPicPr>
        <p:blipFill>
          <a:blip r:embed="rId4"/>
          <a:stretch/>
        </p:blipFill>
        <p:spPr>
          <a:xfrm>
            <a:off x="4287960" y="4640400"/>
            <a:ext cx="2441520" cy="16272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5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http://obd-memorial.ru/memorial/fullimage?id=9208717&amp;id1=cc2180e744467db711911269f98789ea&amp;path=TV/005/056-0012220-0062/00000375.jpg"/>
          <p:cNvPicPr/>
          <p:nvPr/>
        </p:nvPicPr>
        <p:blipFill>
          <a:blip r:embed="rId6"/>
          <a:stretch/>
        </p:blipFill>
        <p:spPr>
          <a:xfrm>
            <a:off x="6767640" y="4640400"/>
            <a:ext cx="12063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2700360" y="1986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785440" cy="6804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" descr=""/>
          <p:cNvPicPr/>
          <p:nvPr/>
        </p:nvPicPr>
        <p:blipFill>
          <a:blip r:embed="rId2"/>
          <a:stretch/>
        </p:blipFill>
        <p:spPr>
          <a:xfrm>
            <a:off x="7547040" y="-55440"/>
            <a:ext cx="16761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8:35:42Z</dcterms:created>
  <dc:creator>user1</dc:creator>
  <dc:description/>
  <dc:language>en-US</dc:language>
  <cp:lastModifiedBy>natalysav1967@hotmail.com</cp:lastModifiedBy>
  <dcterms:modified xsi:type="dcterms:W3CDTF">2015-03-14T19:59:21Z</dcterms:modified>
  <cp:revision>53</cp:revision>
  <dc:subject/>
  <dc:title>Презентация PowerPoint</dc:title>
</cp:coreProperties>
</file>