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424-4EAB-4ACF-A8CB-2522946D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840-7F51-4A92-AA94-85EF3919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E57-D791-477D-8646-5F03798B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0CF-7134-4909-A804-B67CD4E9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060-219C-455D-BCA9-16E2D695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310-88BD-432B-B83D-2B707E05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304-7642-435E-BCE7-B482CAD2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04B-CADF-4641-A25D-EC08BB51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07D-B822-40BD-A8CC-DFDFD53E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9B47-59CA-4957-9509-6EC00D45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7AF-6DD7-4F31-92BE-5E965242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EA4-4028-4A10-9637-F9FB2409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13C8-0FC2-4860-9787-DF2491123D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747800"/>
          <a:ext cx="8229600" cy="630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28600">
                <a:tc grid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формация из документов, уточняющих поте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ми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луб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457200" y="2349360"/>
          <a:ext cx="8229600" cy="2905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28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м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сил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0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8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рождения/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_.__.19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 р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в. ж.-д., ст. Ем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и место призы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_.__.1937 Няндомский РВК, Архангельская обл., Няндомский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чина выб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б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выб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2.19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источника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А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0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мер фонда источника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мер описи источника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7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мер дела источника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3" name="Rectangle 1"/>
          <p:cNvSpPr/>
          <p:nvPr/>
        </p:nvSpPr>
        <p:spPr>
          <a:xfrm>
            <a:off x="457200" y="2411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1"/>
          <a:stretch/>
        </p:blipFill>
        <p:spPr>
          <a:xfrm>
            <a:off x="5505480" y="-579600"/>
            <a:ext cx="493704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4" descr="C:\Users\Наталья\Desktop\2015_03_13\IMG_0001.jpg"/>
          <p:cNvPicPr/>
          <p:nvPr/>
        </p:nvPicPr>
        <p:blipFill>
          <a:blip r:embed="rId1"/>
          <a:srcRect l="18930" t="13890" r="13531" b="24446"/>
          <a:stretch/>
        </p:blipFill>
        <p:spPr>
          <a:xfrm>
            <a:off x="4572000" y="907920"/>
            <a:ext cx="35370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Rectangle 1"/>
          <p:cNvSpPr/>
          <p:nvPr/>
        </p:nvSpPr>
        <p:spPr>
          <a:xfrm>
            <a:off x="457200" y="2411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5505480" y="-579600"/>
            <a:ext cx="4937040" cy="2786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5" descr="C:\Users\Наталья\Desktop\2015_03_13\IMG_0002.jpg"/>
          <p:cNvPicPr/>
          <p:nvPr/>
        </p:nvPicPr>
        <p:blipFill>
          <a:blip r:embed="rId3"/>
          <a:srcRect l="16897" t="10852" r="4993" b="41955"/>
          <a:stretch/>
        </p:blipFill>
        <p:spPr>
          <a:xfrm>
            <a:off x="1042920" y="895320"/>
            <a:ext cx="337356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Прямоугольник 3"/>
          <p:cNvSpPr/>
          <p:nvPr/>
        </p:nvSpPr>
        <p:spPr>
          <a:xfrm>
            <a:off x="601560" y="4076640"/>
            <a:ext cx="806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лубев Василий Иванович был призван на службу Советской Армии на финско – русскую войну, прошёл до конца без ранений. В 1941 году ушёл в партизаны, где был помощником командира взвода партизанского отряда, участвовал в сражениях и разведывательных мисс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гиб в бою против немецких захватчиков 11февраля 1944года в Западной Белоруссии. Похоронен в деревне Дубрава. Герой Советского Сою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(информация со слов брата Голубева Алексея Ивановича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Описание: http://www.podvignaroda.ru/img/awards/award15-sm.png"/>
          <p:cNvPicPr/>
          <p:nvPr/>
        </p:nvPicPr>
        <p:blipFill>
          <a:blip r:embed="rId1"/>
          <a:stretch/>
        </p:blipFill>
        <p:spPr>
          <a:xfrm>
            <a:off x="7354800" y="2227320"/>
            <a:ext cx="811440" cy="14968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Описание: http://podvignaroda.ru/filter/filterimage?path=VS/214/033-0686196-7247%2b040-7256/00000122_1.jpg&amp;id=29375470&amp;id1=78d9f6e2fc6d50d9589bd3c726781d25"/>
          <p:cNvPicPr/>
          <p:nvPr/>
        </p:nvPicPr>
        <p:blipFill>
          <a:blip r:embed="rId2"/>
          <a:stretch/>
        </p:blipFill>
        <p:spPr>
          <a:xfrm>
            <a:off x="743040" y="2698920"/>
            <a:ext cx="5700600" cy="16207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Описание: http://www.podvignaroda.ru/img/awards/award9-sm.png"/>
          <p:cNvPicPr/>
          <p:nvPr/>
        </p:nvPicPr>
        <p:blipFill>
          <a:blip r:embed="rId3"/>
          <a:stretch/>
        </p:blipFill>
        <p:spPr>
          <a:xfrm>
            <a:off x="7308720" y="4365720"/>
            <a:ext cx="903240" cy="903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4600" y="2468520"/>
            <a:ext cx="8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виг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481640" y="3228840"/>
            <a:ext cx="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1004760" y="4581360"/>
            <a:ext cx="472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ден Отечественной войны I степ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градного документа: 176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а наградного документа: 06.11.19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и: 1515339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1154160" y="482760"/>
            <a:ext cx="6624720" cy="26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стомин Афанасий Иванович 1906г.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 рождения: Архангельская обл., Приозерный р-н, д. Измайлов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и: 15049426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вание: красноармеец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ККА с 07.08.1941 года Место призыва: Плесецкий РВК, Архангельская обл., Плесецкий р-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и: 293754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3204.06.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аль «За боевые заслу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Прямоугольник 8" descr=""/>
          <p:cNvPicPr/>
          <p:nvPr/>
        </p:nvPicPr>
        <p:blipFill>
          <a:blip r:embed="rId4"/>
          <a:stretch/>
        </p:blipFill>
        <p:spPr>
          <a:xfrm>
            <a:off x="5505480" y="-579600"/>
            <a:ext cx="493704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4" descr="C:\Users\Наталья\Desktop\2015_03_13\IMG_0003.jpg"/>
          <p:cNvPicPr/>
          <p:nvPr/>
        </p:nvPicPr>
        <p:blipFill>
          <a:blip r:embed="rId1"/>
          <a:srcRect l="4599" t="21662" r="3772" b="50226"/>
          <a:stretch/>
        </p:blipFill>
        <p:spPr>
          <a:xfrm>
            <a:off x="1692360" y="549360"/>
            <a:ext cx="6565680" cy="2847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457200" y="2411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Прямоугольник 4" descr=""/>
          <p:cNvPicPr/>
          <p:nvPr/>
        </p:nvPicPr>
        <p:blipFill>
          <a:blip r:embed="rId2"/>
          <a:stretch/>
        </p:blipFill>
        <p:spPr>
          <a:xfrm>
            <a:off x="5505480" y="-579600"/>
            <a:ext cx="4937040" cy="2786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5" descr="C:\Users\Наталья\Desktop\2015_03_13\IMG_0004.jpg"/>
          <p:cNvPicPr/>
          <p:nvPr/>
        </p:nvPicPr>
        <p:blipFill>
          <a:blip r:embed="rId3"/>
          <a:srcRect l="11897" t="9192" r="26637" b="34796"/>
          <a:stretch/>
        </p:blipFill>
        <p:spPr>
          <a:xfrm>
            <a:off x="2583000" y="3616200"/>
            <a:ext cx="2305080" cy="297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6" descr="C:\Users\Наталья\Desktop\2015_03_13\IMG_0005.jpg"/>
          <p:cNvPicPr/>
          <p:nvPr/>
        </p:nvPicPr>
        <p:blipFill>
          <a:blip r:embed="rId4"/>
          <a:srcRect l="13220" t="8910" r="26023" b="30678"/>
          <a:stretch/>
        </p:blipFill>
        <p:spPr>
          <a:xfrm>
            <a:off x="5029200" y="3606840"/>
            <a:ext cx="22068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Описание: http://www.podvignaroda.ru/img/awards/award9_2-sm.png"/>
          <p:cNvPicPr/>
          <p:nvPr/>
        </p:nvPicPr>
        <p:blipFill>
          <a:blip r:embed="rId1"/>
          <a:stretch/>
        </p:blipFill>
        <p:spPr>
          <a:xfrm>
            <a:off x="6748560" y="117144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Описание: http://www.podvignaroda.ru/img/awards/award9_2-sm.png"/>
          <p:cNvPicPr/>
          <p:nvPr/>
        </p:nvPicPr>
        <p:blipFill>
          <a:blip r:embed="rId2"/>
          <a:stretch/>
        </p:blipFill>
        <p:spPr>
          <a:xfrm>
            <a:off x="6769080" y="2803680"/>
            <a:ext cx="800280" cy="7905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Описание: http://www.podvignaroda.ru/img/awards/award9_2-sm.png"/>
          <p:cNvPicPr/>
          <p:nvPr/>
        </p:nvPicPr>
        <p:blipFill>
          <a:blip r:embed="rId3"/>
          <a:stretch/>
        </p:blipFill>
        <p:spPr>
          <a:xfrm>
            <a:off x="6804000" y="4432320"/>
            <a:ext cx="800280" cy="790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0"/>
          <p:cNvSpPr/>
          <p:nvPr/>
        </p:nvSpPr>
        <p:spPr>
          <a:xfrm>
            <a:off x="1207800" y="1097640"/>
            <a:ext cx="504684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Сунгуров Михаил Филиппович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д рождения: __.__.1919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 рождения: Архангельская обл., Каргопольский р-н, д. Рябов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№ наградного документа: 80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а наградного документа: 06.04.19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и: 11133883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ден Отечественной войны II степ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унгуров Дмитрий Филипп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д рождения: __.__.1922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 рождения: Архангельская обл., Каргопольский р-н, д. Рябов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№ наградного документа: 80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а наградного документа: 06.04.19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и: 11133882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ден Отечественной войны II степ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Сунгуров Иван Филиппович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д рождения: __.__.1924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 рождения: Архангельская обл., Каргопольский р-н, д. Рябов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№ наградного документа: 85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а наградного документа: 06.04.19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и: 11133883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ден Отечественной войны II степ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1612800" y="36424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372920" y="535284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Прямоугольник 19" descr=""/>
          <p:cNvPicPr/>
          <p:nvPr/>
        </p:nvPicPr>
        <p:blipFill>
          <a:blip r:embed="rId4"/>
          <a:stretch/>
        </p:blipFill>
        <p:spPr>
          <a:xfrm>
            <a:off x="5505480" y="-579600"/>
            <a:ext cx="493704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8:35:42Z</dcterms:created>
  <dc:creator>user1</dc:creator>
  <dc:description/>
  <dc:language>en-US</dc:language>
  <cp:lastModifiedBy>natalysav1967@hotmail.com</cp:lastModifiedBy>
  <dcterms:modified xsi:type="dcterms:W3CDTF">2015-03-14T20:31:47Z</dcterms:modified>
  <cp:revision>54</cp:revision>
  <dc:subject/>
  <dc:title>Презентация PowerPoint</dc:title>
</cp:coreProperties>
</file>