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11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8DF8-8E67-4067-B9CB-696D6656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782B-35E5-40D5-B6FE-A3A73A57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25C0-38FB-455E-B1FF-15C200BAC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7849-7D9C-4E81-AC9E-0797F8C20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1271-6EEF-4EFB-98B6-61E2D9CA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4C8E-5697-4DE5-A762-8ADB4EEF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ACF0-54AA-4197-B1BF-3A66950E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E5E6-F1C7-48C4-8DE5-27A1D9E5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D3CE-98D7-428B-864F-D2A9AB91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E076-DADC-4875-856E-0D413404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A384-94CB-42E4-BBEA-6099A91D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124E-86EE-42C9-B3FF-6B522F89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84B7-245F-48F4-B4FD-94E0EB71C5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5668920" y="-609480"/>
            <a:ext cx="4938840" cy="27860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1" descr="Описание: http://www.podvignaroda.ru/img/awards/award14-sm.png"/>
          <p:cNvPicPr/>
          <p:nvPr/>
        </p:nvPicPr>
        <p:blipFill>
          <a:blip r:embed="rId2"/>
          <a:stretch/>
        </p:blipFill>
        <p:spPr>
          <a:xfrm>
            <a:off x="7826400" y="1557360"/>
            <a:ext cx="647640" cy="136188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2" descr="Описание: http://podvignaroda.ru/filter/filterimage?path=VS/106/033-0686196-0265%2b040-0264/00000291_1.jpg&amp;id=20684565&amp;id1=0d2e9d22fb0be9aa7c16c838ac0a156c"/>
          <p:cNvPicPr/>
          <p:nvPr/>
        </p:nvPicPr>
        <p:blipFill>
          <a:blip r:embed="rId3"/>
          <a:stretch/>
        </p:blipFill>
        <p:spPr>
          <a:xfrm>
            <a:off x="169920" y="2109960"/>
            <a:ext cx="6750000" cy="3711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3" descr="Описание: http://www.podvignaroda.ru/img/awards/award15-sm.png"/>
          <p:cNvPicPr/>
          <p:nvPr/>
        </p:nvPicPr>
        <p:blipFill>
          <a:blip r:embed="rId4"/>
          <a:stretch/>
        </p:blipFill>
        <p:spPr>
          <a:xfrm>
            <a:off x="7731000" y="3166920"/>
            <a:ext cx="74304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Описание: http://podvignaroda.ru/filter/filterimage?path=VS/376/033-0690306-0747%2b012-0746/00000541_4.jpg&amp;id=41764441&amp;id1=57dd9383bdf9cd8c0136d6e47f18ef58"/>
          <p:cNvPicPr/>
          <p:nvPr/>
        </p:nvPicPr>
        <p:blipFill>
          <a:blip r:embed="rId5"/>
          <a:stretch/>
        </p:blipFill>
        <p:spPr>
          <a:xfrm>
            <a:off x="457200" y="3887640"/>
            <a:ext cx="5943600" cy="4381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5" descr="Описание: http://www.podvignaroda.ru/img/awards/award9_2-sm.png"/>
          <p:cNvPicPr/>
          <p:nvPr/>
        </p:nvPicPr>
        <p:blipFill>
          <a:blip r:embed="rId6"/>
          <a:stretch/>
        </p:blipFill>
        <p:spPr>
          <a:xfrm>
            <a:off x="7674120" y="4900680"/>
            <a:ext cx="799920" cy="7905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1285200" y="735480"/>
            <a:ext cx="684504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артынов Павел Степанович 1925г.р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вание: гв. красноармеец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ККА с 07.01.1943 года Место призыва: Сергачский РВК, Горьковская обл., Сергачский р-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иси: 206845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аль «За отвагу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16/н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7.04.19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120600" y="1649160"/>
            <a:ext cx="84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виг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1083960" y="2507400"/>
            <a:ext cx="245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иси: 4176444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аль «За боевые заслуги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237960" y="3392280"/>
            <a:ext cx="80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виг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4481640" y="526068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7"/>
          <p:cNvSpPr/>
          <p:nvPr/>
        </p:nvSpPr>
        <p:spPr>
          <a:xfrm>
            <a:off x="1042920" y="4319640"/>
            <a:ext cx="2286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аградного документа: 80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ата наградного документа: 06.04.198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иси: 15141344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рден Отечественной войны II степен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Прямоугольник 1" descr=""/>
          <p:cNvPicPr/>
          <p:nvPr/>
        </p:nvPicPr>
        <p:blipFill>
          <a:blip r:embed="rId1"/>
          <a:stretch/>
        </p:blipFill>
        <p:spPr>
          <a:xfrm>
            <a:off x="5505480" y="-579600"/>
            <a:ext cx="4937040" cy="2786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Users\Наталья\Desktop\2015_03_13\2015_03_13\IMG_0006.jpg"/>
          <p:cNvPicPr/>
          <p:nvPr/>
        </p:nvPicPr>
        <p:blipFill>
          <a:blip r:embed="rId2"/>
          <a:srcRect l="12304" t="5391" r="7004" b="47045"/>
          <a:stretch/>
        </p:blipFill>
        <p:spPr>
          <a:xfrm>
            <a:off x="1332000" y="620640"/>
            <a:ext cx="6099120" cy="508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Прямоугольник 1" descr=""/>
          <p:cNvPicPr/>
          <p:nvPr/>
        </p:nvPicPr>
        <p:blipFill>
          <a:blip r:embed="rId1"/>
          <a:stretch/>
        </p:blipFill>
        <p:spPr>
          <a:xfrm>
            <a:off x="5505480" y="-579600"/>
            <a:ext cx="4937040" cy="27864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>
            <a:off x="324000" y="1028880"/>
            <a:ext cx="6534000" cy="32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Маланченко Василий Кондратович 1926г.р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вание: красноармеец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РККА с 05.1944 года Место призыва: Речицкий РВК, Белорусская ССР, Гомельская обл., Речицкий р-н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писи: 4285318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иказ подраздел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№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: 8/н от: 19.04.1945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здан: 15 отминбр 3 Украинского фронта /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рхив: ЦАМ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фонд: 3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пись: 69030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ед.хранения: 20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писи: 4285316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едаль «За боевые заслуги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http://www.podvignaroda.ru/img/awards/award15-sm.png"/>
          <p:cNvPicPr/>
          <p:nvPr/>
        </p:nvPicPr>
        <p:blipFill>
          <a:blip r:embed="rId2"/>
          <a:stretch/>
        </p:blipFill>
        <p:spPr>
          <a:xfrm>
            <a:off x="5292720" y="2938320"/>
            <a:ext cx="743040" cy="13716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5" descr="http://podvignaroda.ru/filter/filterimage?path=VS/389/033-0690306-2001%2b012-2009/00000270.jpg&amp;id=42853238&amp;id1=dd7ee3ca02c5d4e8e6b70a57b3d01aa7"/>
          <p:cNvPicPr/>
          <p:nvPr/>
        </p:nvPicPr>
        <p:blipFill>
          <a:blip r:embed="rId3"/>
          <a:stretch/>
        </p:blipFill>
        <p:spPr>
          <a:xfrm>
            <a:off x="6872400" y="2938320"/>
            <a:ext cx="2163600" cy="325152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6"/>
          <p:cNvSpPr/>
          <p:nvPr/>
        </p:nvSpPr>
        <p:spPr>
          <a:xfrm>
            <a:off x="324000" y="4394160"/>
            <a:ext cx="4572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№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градного документа: 75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ата наградного документа: 06.04.1985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№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иси: 15162084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рден Отечественной войны II степе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5" descr="http://podvignaroda.mil.ru/img/awards/award9_2-sm.png"/>
          <p:cNvPicPr/>
          <p:nvPr/>
        </p:nvPicPr>
        <p:blipFill>
          <a:blip r:embed="rId4"/>
          <a:stretch/>
        </p:blipFill>
        <p:spPr>
          <a:xfrm>
            <a:off x="5235480" y="4871880"/>
            <a:ext cx="80028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Прямоугольник 1" descr=""/>
          <p:cNvPicPr/>
          <p:nvPr/>
        </p:nvPicPr>
        <p:blipFill>
          <a:blip r:embed="rId1"/>
          <a:stretch/>
        </p:blipFill>
        <p:spPr>
          <a:xfrm>
            <a:off x="5430960" y="-579600"/>
            <a:ext cx="4938480" cy="27864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4481640" y="-9216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1" descr="Описание: http://podvignaroda.mil.ru/img/awards/award9_2-sm.png"/>
          <p:cNvPicPr/>
          <p:nvPr/>
        </p:nvPicPr>
        <p:blipFill>
          <a:blip r:embed="rId2"/>
          <a:stretch/>
        </p:blipFill>
        <p:spPr>
          <a:xfrm>
            <a:off x="0" y="457200"/>
            <a:ext cx="800280" cy="7905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3"/>
          <p:cNvSpPr/>
          <p:nvPr/>
        </p:nvSpPr>
        <p:spPr>
          <a:xfrm>
            <a:off x="1833480" y="14400"/>
            <a:ext cx="4837320" cy="16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Городний Иван Игнатьеви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Год рождения: __.__.1919</a:t>
            </a:r>
            <a:r>
              <a:rPr b="0" lang="ru-RU" sz="1200" spc="-1" strike="noStrike">
                <a:solidFill>
                  <a:srgbClr val="333333"/>
                </a:solidFill>
                <a:latin typeface="Calibri"/>
                <a:ea typeface="Times New Roman"/>
              </a:rPr>
              <a:t> </a:t>
            </a:r>
            <a:br>
              <a:rPr sz="1200"/>
            </a:br>
            <a:r>
              <a:rPr b="0" lang="ru-RU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место рождения: Украинская ССР, Львовская обл., Городокский р-н, с. Лозина</a:t>
            </a:r>
            <a:r>
              <a:rPr b="0" lang="ru-RU" sz="1200" spc="-1" strike="noStrike">
                <a:solidFill>
                  <a:srgbClr val="333333"/>
                </a:solidFill>
                <a:latin typeface="Calibri"/>
                <a:ea typeface="Times New Roman"/>
              </a:rPr>
              <a:t> </a:t>
            </a:r>
            <a:br>
              <a:rPr sz="1200"/>
            </a:br>
            <a:r>
              <a:rPr b="0" lang="ru-RU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№ наградного документа: 80</a:t>
            </a:r>
            <a:r>
              <a:rPr b="0" lang="ru-RU" sz="1200" spc="-1" strike="noStrike">
                <a:solidFill>
                  <a:srgbClr val="333333"/>
                </a:solidFill>
                <a:latin typeface="Calibri"/>
                <a:ea typeface="Times New Roman"/>
              </a:rPr>
              <a:t> </a:t>
            </a:r>
            <a:br>
              <a:rPr sz="1200"/>
            </a:br>
            <a:r>
              <a:rPr b="0" lang="ru-RU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дата наградного документа: 06.04.19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№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иси: 151152162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Орден Отечественной войны II степени</a:t>
            </a:r>
            <a:r>
              <a:rPr b="0" lang="ru-RU" sz="1200" spc="-1" strike="noStrike">
                <a:solidFill>
                  <a:srgbClr val="333333"/>
                </a:solidFill>
                <a:latin typeface="Calibri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5" descr="http://podvignaroda.mil.ru/img/awards/award9_2-sm.png"/>
          <p:cNvPicPr/>
          <p:nvPr/>
        </p:nvPicPr>
        <p:blipFill>
          <a:blip r:embed="rId3"/>
          <a:stretch/>
        </p:blipFill>
        <p:spPr>
          <a:xfrm>
            <a:off x="5891040" y="808200"/>
            <a:ext cx="800280" cy="79056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4"/>
          <p:cNvSpPr/>
          <p:nvPr/>
        </p:nvSpPr>
        <p:spPr>
          <a:xfrm>
            <a:off x="108000" y="1666800"/>
            <a:ext cx="89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Человек, которым я горжус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Я хочу рассказать вам о моём прадедушке, Городнем Иване Игнатьевич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Моему прадеду досталась нелёгкая судьб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Воспитывался он в большой украинской семье. Всё приходилось делать ему: косить сено, управляться с хозяйством, следить за младшими братьями и сёстрами, потому что прадед был старшим сыно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В 1939 году его призвали в армию, а в 1941 году началась Великая Отечественная война. И ещё четыре года службы в советской арм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Что только не случалось с ним во время войны. Прадед был ранен, принимал участие в обороне Ленинград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Однажды прадеду и его другу было дано задание: пойти через минное поле на линию фронта для передачи чистого белья солдатам и доставить донесение  командиру роты. Дорога лежала через лес, затем – через поле, и открывался вид на небольшую деревню. Но обстановка в деревне показалась подозрительной: стояла тишина, лишь в нескольких домах шёл дым из трубы, деревня казалась брошенной. Зайдя в дом, прадед услышал плач ребёнка. Подойдя к кроватке с малышом, он увидел, что к ножке ребёнка привязана мина. Так как прадед был сапёром, он знал, как надо действовать, и освободил ребён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Много опасностей его подстерегало, но несмотря ни на что, он остался жив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Я горжусь своим прадедушкой.             Ученица 2в класса Максимовская Поли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Прямоугольник 1" descr=""/>
          <p:cNvPicPr/>
          <p:nvPr/>
        </p:nvPicPr>
        <p:blipFill>
          <a:blip r:embed="rId1"/>
          <a:stretch/>
        </p:blipFill>
        <p:spPr>
          <a:xfrm>
            <a:off x="5505480" y="-579600"/>
            <a:ext cx="4937040" cy="27864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" descr="Описание: http://www.podvignaroda.ru/img/awards/award15-sm.png"/>
          <p:cNvPicPr/>
          <p:nvPr/>
        </p:nvPicPr>
        <p:blipFill>
          <a:blip r:embed="rId2"/>
          <a:stretch/>
        </p:blipFill>
        <p:spPr>
          <a:xfrm>
            <a:off x="7812000" y="3843360"/>
            <a:ext cx="743040" cy="13716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2" descr="Описание: http://podvignaroda.ru/filter/filterimage?path=VS/098/033-0686044-2425%2b004-2424/00000226_1.jpg&amp;id=20288747&amp;id1=ae6481d8965e87059d9148205e0e5408"/>
          <p:cNvPicPr/>
          <p:nvPr/>
        </p:nvPicPr>
        <p:blipFill>
          <a:blip r:embed="rId3"/>
          <a:stretch/>
        </p:blipFill>
        <p:spPr>
          <a:xfrm>
            <a:off x="1332000" y="3693960"/>
            <a:ext cx="5832360" cy="18050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4481640" y="-10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250920" y="3609720"/>
            <a:ext cx="1225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двиг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0" y="388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1635120" y="603360"/>
            <a:ext cx="568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стюнин Сергей Киреевич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Год рождения: __.__.1920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т. сержант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ККА с __.__.1940 год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место рождения: Пензенская обл., Сердобский р-н, с. Карповк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№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иси: 127222203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вание: ст. сержант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ККА с 1940 года Место призыва: Сердобский РВК, Пензенская обл., Сердобский р-н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№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иси: 2028874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аль «За боевые заслуги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7T08:35:42Z</dcterms:created>
  <dc:creator>user1</dc:creator>
  <dc:description/>
  <dc:language>en-US</dc:language>
  <cp:lastModifiedBy>natalysav1967@hotmail.com</cp:lastModifiedBy>
  <dcterms:modified xsi:type="dcterms:W3CDTF">2015-03-14T20:21:42Z</dcterms:modified>
  <cp:revision>52</cp:revision>
  <dc:subject/>
  <dc:title>Презентация PowerPoint</dc:title>
</cp:coreProperties>
</file>