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3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E1FB-4078-485D-B34C-944E278A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E4F-0810-456E-868A-4F65135C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515-3681-42C7-8945-930DB828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EE6C-8F9E-41ED-815B-634E8148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2630-3B96-4EBD-8868-DE36CB31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9280-D4EE-44D5-8015-CF02B043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6F7D-2C2B-4A95-A624-436F64AC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3DE0-0DA6-4B22-87A5-F41FCBD1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1CCC-28D6-4C5A-9DBD-680F8831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745A-B611-4B61-8387-F53D0E60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A972-1764-4061-9AAF-2F4E6189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5E1D-701A-4FDE-83A8-B5B0B804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8DC7-42D9-45B3-BAED-2476958F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8258-82DB-441C-BBC9-80FF2871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7D1B-34AF-4B73-86E7-2BC9D002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3D5A-D297-4A8E-8052-20F0B077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E17B-F9DB-4ADD-A393-B25A3B5B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43B49-03CD-483C-87FB-D676020A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41903-AD22-411C-A3CE-0160C77C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24C85-202B-4460-928D-B8452468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53989-178E-4DE8-9333-4D8206F8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DCD29-BE24-459D-B4C8-D17293E8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68E-EC67-416A-9784-628B9273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00C54-3219-4283-AF5C-6EBFD4FF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A8769-0985-4831-B200-814DBB2A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E1286-CE84-407C-97C3-3ABD01F3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304F8-93C1-474C-B620-406AF56B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82DDE-0B18-428F-83AC-5FE63137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8C04B-BDDA-48FA-9CC3-EF0E2E82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BFE5F-2D6E-4966-8407-4BD6BD19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63CBF-CE4A-490F-B955-EAED0DD5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2D66C-A4C7-4E8A-BFCE-0958E2B0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20D11-1F1F-4EC5-A7A5-ECD0D27E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EED7-73AF-4688-9D6D-90BF2B03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856B8-76C4-4E42-B159-8203A100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0B19E-D9B9-4196-8961-36FE775D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6DD2E-0CBE-476D-A9EF-53C82EA5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D5E28-31DE-488F-AF88-F54B8F1F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3D22E-1528-411C-959B-7ECA35B4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C51E9-4FB5-4570-87A9-977280BD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AD313-7431-4286-9D02-A9B32B92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6E495-3559-4AB2-AC88-7CCB4408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EBCC3-A736-47F4-9564-6BAD7068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A7C4E-09F5-4E0E-8269-90D0BF6D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9C0-ABA0-4FCF-9DE5-7ACDB4B4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C828A-8B59-4C3F-BDAE-C215BEFE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78E8A-DA8C-4959-92DC-75BE27F5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0A9E0-155C-4A7F-83B5-F65BF84E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D768D-08B8-44D3-B16E-CE683C12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7F589-4053-45DE-BCD4-FCF52392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9BED4-111F-43D2-823F-F406C805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7121F-2610-4693-AD10-7CD3E3C8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C95CA-ACDF-4E94-9862-0CC46814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486CD-ABDC-4341-9FC8-D48DAD1F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17A95-933B-41C7-ABA6-0E015BAD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D576-981A-4519-A7D5-C4F7D126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C5549-B664-4E65-9687-5EFAE7AE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A3A4-8925-456C-9498-B11DE06F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3281-836E-4A82-A0CD-26657B6C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DF87-DDBD-470A-B2B4-A25BB061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BBEE-19C3-4F5C-8A80-F62F4F2D2B15}" type="slidenum">
              <a:rPr b="0" lang="ru-RU" sz="10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7FD8-E8AE-47D1-B138-9106A6929CC2}" type="slidenum">
              <a:rPr b="0" lang="ru-RU" sz="10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3009-36F3-471F-8CDB-8552C165758A}" type="slidenum">
              <a:rPr b="0" lang="ru-RU" sz="10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8183-21DB-4361-BA5E-35FB66087F41}" type="slidenum">
              <a:rPr b="0" lang="ru-RU" sz="10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175A-EFEE-475A-A7A3-88BA8F471BD9}" type="slidenum">
              <a:rPr b="0" lang="ru-RU" sz="10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843280" y="2349360"/>
            <a:ext cx="288108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Картинка 16 из 17914"/>
          <p:cNvPicPr/>
          <p:nvPr/>
        </p:nvPicPr>
        <p:blipFill>
          <a:blip r:embed="rId1"/>
          <a:stretch/>
        </p:blipFill>
        <p:spPr>
          <a:xfrm>
            <a:off x="1332000" y="1125360"/>
            <a:ext cx="958680" cy="7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9" name="Picture 4" descr="Картинка 42 из 26883"/>
          <p:cNvPicPr/>
          <p:nvPr/>
        </p:nvPicPr>
        <p:blipFill>
          <a:blip r:embed="rId2"/>
          <a:stretch/>
        </p:blipFill>
        <p:spPr>
          <a:xfrm>
            <a:off x="6659640" y="944640"/>
            <a:ext cx="1212840" cy="75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0" name="Picture 2" descr="Картинка 3 из 19427"/>
          <p:cNvPicPr/>
          <p:nvPr/>
        </p:nvPicPr>
        <p:blipFill>
          <a:blip r:embed="rId3"/>
          <a:stretch/>
        </p:blipFill>
        <p:spPr>
          <a:xfrm>
            <a:off x="6443640" y="4254480"/>
            <a:ext cx="1074600" cy="790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1" name="Picture 4" descr="Картинка 4 из 2212"/>
          <p:cNvPicPr/>
          <p:nvPr/>
        </p:nvPicPr>
        <p:blipFill>
          <a:blip r:embed="rId4"/>
          <a:stretch/>
        </p:blipFill>
        <p:spPr>
          <a:xfrm>
            <a:off x="1720800" y="4365720"/>
            <a:ext cx="1238400" cy="838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2" name="Picture 2" descr="Картинка 63 из 128"/>
          <p:cNvPicPr/>
          <p:nvPr/>
        </p:nvPicPr>
        <p:blipFill>
          <a:blip r:embed="rId5"/>
          <a:stretch/>
        </p:blipFill>
        <p:spPr>
          <a:xfrm>
            <a:off x="4067280" y="2401920"/>
            <a:ext cx="1403280" cy="814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1" descr="riksha.jpg"/>
          <p:cNvPicPr/>
          <p:nvPr/>
        </p:nvPicPr>
        <p:blipFill>
          <a:blip r:embed="rId1"/>
          <a:stretch/>
        </p:blipFill>
        <p:spPr>
          <a:xfrm>
            <a:off x="6588000" y="4067280"/>
            <a:ext cx="1067040" cy="819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1643040" y="1197000"/>
            <a:ext cx="103356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708360" y="2673360"/>
            <a:ext cx="139212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Картинка 12 из 586"/>
          <p:cNvPicPr/>
          <p:nvPr/>
        </p:nvPicPr>
        <p:blipFill>
          <a:blip r:embed="rId1"/>
          <a:stretch/>
        </p:blipFill>
        <p:spPr>
          <a:xfrm>
            <a:off x="6300720" y="2637000"/>
            <a:ext cx="1263600" cy="1263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Картинка 33 из 586"/>
          <p:cNvPicPr/>
          <p:nvPr/>
        </p:nvPicPr>
        <p:blipFill>
          <a:blip r:embed="rId2"/>
          <a:stretch/>
        </p:blipFill>
        <p:spPr>
          <a:xfrm>
            <a:off x="4067280" y="2708280"/>
            <a:ext cx="1157040" cy="11588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1619280" y="270828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Картинка 12 из 4189"/>
          <p:cNvPicPr/>
          <p:nvPr/>
        </p:nvPicPr>
        <p:blipFill>
          <a:blip r:embed="rId1"/>
          <a:stretch/>
        </p:blipFill>
        <p:spPr>
          <a:xfrm>
            <a:off x="3635280" y="2492280"/>
            <a:ext cx="1793880" cy="13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Картинка 12 из 586"/>
          <p:cNvPicPr/>
          <p:nvPr/>
        </p:nvPicPr>
        <p:blipFill>
          <a:blip r:embed="rId1"/>
          <a:stretch/>
        </p:blipFill>
        <p:spPr>
          <a:xfrm>
            <a:off x="3924360" y="1557360"/>
            <a:ext cx="1081080" cy="1079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Картинка 33 из 586"/>
          <p:cNvPicPr/>
          <p:nvPr/>
        </p:nvPicPr>
        <p:blipFill>
          <a:blip r:embed="rId2"/>
          <a:stretch/>
        </p:blipFill>
        <p:spPr>
          <a:xfrm>
            <a:off x="3924360" y="3500280"/>
            <a:ext cx="112860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1" descr="для светы1.jpg"/>
          <p:cNvPicPr/>
          <p:nvPr/>
        </p:nvPicPr>
        <p:blipFill>
          <a:blip r:embed="rId1"/>
          <a:stretch/>
        </p:blipFill>
        <p:spPr>
          <a:xfrm>
            <a:off x="500040" y="3000240"/>
            <a:ext cx="7889760" cy="178596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3"/>
          <p:cNvSpPr/>
          <p:nvPr/>
        </p:nvSpPr>
        <p:spPr>
          <a:xfrm>
            <a:off x="3500280" y="1285920"/>
            <a:ext cx="357480" cy="4287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716400" y="3071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7788960" y="3071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7"/>
          <p:cNvSpPr/>
          <p:nvPr/>
        </p:nvSpPr>
        <p:spPr>
          <a:xfrm>
            <a:off x="4502880" y="3071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3276720" y="2463840"/>
            <a:ext cx="27003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2232000" cy="1454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2"/>
          <a:stretch/>
        </p:blipFill>
        <p:spPr>
          <a:xfrm>
            <a:off x="5796000" y="4005360"/>
            <a:ext cx="189864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2"/>
          <p:cNvSpPr/>
          <p:nvPr/>
        </p:nvSpPr>
        <p:spPr>
          <a:xfrm>
            <a:off x="2916360" y="69228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Arial"/>
              </a:rPr>
              <a:t>Бегунок Др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2449440" cy="1857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5580000" y="3429000"/>
            <a:ext cx="18496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2" descr="4181_6.jpg"/>
          <p:cNvPicPr/>
          <p:nvPr/>
        </p:nvPicPr>
        <p:blipFill>
          <a:blip r:embed="rId1">
            <a:lum bright="-8000"/>
          </a:blip>
          <a:stretch/>
        </p:blipFill>
        <p:spPr>
          <a:xfrm>
            <a:off x="1763640" y="134136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4" descr="IMG_0267.jpg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003640" y="3452760"/>
            <a:ext cx="181296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http://steampunker.ru/uploads/images/e/5/d/5/163/f9282658dc.jpg"/>
          <p:cNvPicPr/>
          <p:nvPr/>
        </p:nvPicPr>
        <p:blipFill>
          <a:blip r:embed="rId1"/>
          <a:stretch/>
        </p:blipFill>
        <p:spPr>
          <a:xfrm>
            <a:off x="3708360" y="1989000"/>
            <a:ext cx="1498680" cy="19497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2"/>
          <p:cNvSpPr/>
          <p:nvPr/>
        </p:nvSpPr>
        <p:spPr>
          <a:xfrm>
            <a:off x="3429000" y="64296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Arial"/>
              </a:rPr>
              <a:t>«Пау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Картинка 150 из 251"/>
          <p:cNvPicPr/>
          <p:nvPr/>
        </p:nvPicPr>
        <p:blipFill>
          <a:blip r:embed="rId1"/>
          <a:stretch/>
        </p:blipFill>
        <p:spPr>
          <a:xfrm>
            <a:off x="3348000" y="2367000"/>
            <a:ext cx="20574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965240" y="1268280"/>
            <a:ext cx="1586160" cy="9892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3" descr="0_e6a42_70f599c0_orig.jpg"/>
          <p:cNvPicPr/>
          <p:nvPr/>
        </p:nvPicPr>
        <p:blipFill>
          <a:blip r:embed="rId2"/>
          <a:stretch/>
        </p:blipFill>
        <p:spPr>
          <a:xfrm>
            <a:off x="6012000" y="981000"/>
            <a:ext cx="1290600" cy="106704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5" descr="f_506100.jpg"/>
          <p:cNvPicPr/>
          <p:nvPr/>
        </p:nvPicPr>
        <p:blipFill>
          <a:blip r:embed="rId3"/>
          <a:stretch/>
        </p:blipFill>
        <p:spPr>
          <a:xfrm>
            <a:off x="6372360" y="3346560"/>
            <a:ext cx="1074600" cy="10396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6" descr="b14d6f2820.jpg"/>
          <p:cNvPicPr/>
          <p:nvPr/>
        </p:nvPicPr>
        <p:blipFill>
          <a:blip r:embed="rId4"/>
          <a:stretch/>
        </p:blipFill>
        <p:spPr>
          <a:xfrm>
            <a:off x="2195640" y="3357720"/>
            <a:ext cx="124596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1" descr="Изображение 053.1.jpg"/>
          <p:cNvPicPr/>
          <p:nvPr/>
        </p:nvPicPr>
        <p:blipFill>
          <a:blip r:embed="rId1"/>
          <a:stretch/>
        </p:blipFill>
        <p:spPr>
          <a:xfrm>
            <a:off x="3708360" y="3068640"/>
            <a:ext cx="2162160" cy="121932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2"/>
          <p:cNvSpPr/>
          <p:nvPr/>
        </p:nvSpPr>
        <p:spPr>
          <a:xfrm>
            <a:off x="642960" y="1214280"/>
            <a:ext cx="2571840" cy="500400"/>
          </a:xfrm>
          <a:prstGeom prst="rect">
            <a:avLst/>
          </a:prstGeom>
          <a:solidFill>
            <a:srgbClr val="ffffff"/>
          </a:solidFill>
          <a:ln w="42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0T11:23:28Z</dcterms:created>
  <dc:creator>Пользователь</dc:creator>
  <dc:description/>
  <dc:language>en-US</dc:language>
  <cp:lastModifiedBy>Светлана</cp:lastModifiedBy>
  <dcterms:modified xsi:type="dcterms:W3CDTF">2015-03-14T17:06:42Z</dcterms:modified>
  <cp:revision>147</cp:revision>
  <dc:subject/>
  <dc:title>Слайд 1</dc:title>
</cp:coreProperties>
</file>