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8825-53FF-4057-B631-160FCEEC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F108-ACBE-42F1-B85B-BC070C6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6C9E-4CE2-41CC-B783-A48A580A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5ECF-EF7C-4EE0-81A1-021FC303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6207-5088-4835-83D2-08422C01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AC5D-F309-4C53-87C4-2565502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2F06-6CBA-4885-87DF-AC16DF07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95CE-3F2D-404F-BCA8-9A67D105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3EA1-48BD-40A6-8EA0-DFAF67A8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AD38-DF8D-4B68-8461-938FF99A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BAF1-2EC7-4CD7-A9B0-5592DDB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9A73-6226-4B8C-8482-03DF6F7F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0C4-4969-4B8A-AD01-8F8568B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F84A-7D90-4D1E-ABA8-A7248D8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966-DF36-45FC-ACFE-B0408797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6AC2-927B-4FED-95D2-1A698D12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D7F-61D8-453A-9CA7-925F5907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72E6-BF37-4A2C-9505-A02796CF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4B25-FFA5-4A40-B8D5-84A19617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302C-C31E-44FD-ABBF-14382430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D7A4-F565-4197-B28F-B798685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1310-C8AB-4D7E-8F29-DE9425B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53AB-AF80-4990-8AFE-D36DBA6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B831-7DDC-4DA7-95F5-30EFF17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89B9-229F-42CB-8002-A2F36A2A2D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4AD2-77B5-4A17-9B8E-DF1B43AD48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Леонардо ди сер Пьеро да Винч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2438280" cy="3686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корострельная пуш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3424320" cy="511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Тан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му принадлежит проект "танка" - конструкции, приводимой в движение восемью воинами, находившимися внутри, и снабженной двадцатью пушк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4319640" cy="2516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оенный бараба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056360" cy="388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Ему принадлежат десятки изобретений. Он придумывал оружия, станки облегчающие ручной труд, и многое другое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скусств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воря о таком великом человеке не возможно не затронуть творческую часть его личности! У Леонардо да Винчи есть работы по живописи и планы по архитектур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600"/>
                            </p:stCondLst>
                            <p:childTnLst>
                              <p:par>
                                <p:cTn id="3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Живописец и мыслите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ртине «Тайная вечеря» и «Джоконда» он особенно проявил себя! Каждый элемент этих картин требовал у создателя углубленного изучения! Для их создания он вел записную книжку! «Дневник» этих кар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Тайная вечер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3895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Джокон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995560" cy="453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наших дней дошли некоторые рукописи Леонардо да Винчи! Которые по сей день расшифровуютс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Учен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мастерской Леонардо вышли такие ученики («леонардески»), к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мброджо де Пред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ованни Больтрафф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ранческо Мель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дреа Солар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ампетри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нардино Лу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заре да Се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500"/>
                            </p:stCondLst>
                            <p:childTnLst>
                              <p:par>
                                <p:cTn id="5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онардо да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апреля 1452 - 2 мая 15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 свою жизнь проявил себя как самый многоразвитый человек за всю истор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называли чародеем, служителем дьявола, итальянским Фаустом и божественным духом. Он опередил своё время на несколько веков. Окружённый легендами ещё при жизни, великий Леонардо — символ безграничных устремлений человеческого разу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2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Его по настоящему признали лишь после смерти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485 году, после страшной эпидемии чумы в Милане, Леонардо предложил властям проект идеального города с определёнными параметрами, планировкой и канализационной системой. Миланский герцог Лодовико Сфорца отклонил проект. Прошли века, и власти Лондона признали план Леонардо совершенной основой для дальнейшей застройки города. В современной Норвегии находится действующий мост, созданный по проекту Леонардо да Винчи. Испытания парашютов и дельтапланов, выполненных по эскизам мастера, подтвердили, что только несовершенство материалов не позволило ему подняться в небо. С появлением авиации самая заветная мечта великого флорентийца стала реальностью. В римском аэропорту, носящем имя Леонардо да Винчи, установлена исполинская, уходящая в небо статуя учёного с моделью вертолёта в руках. «Не оборачивайся тот, кто устремлён к звезде», — писал божественный Леонард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280"/>
                            </p:stCondLst>
                            <p:childTnLst>
                              <p:par>
                                <p:cTn id="5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онардо да Винчи великий художник начало эпохи возрождения - созерцатель и мастер, инженер и техник, музыкант и император, ученый и художник. Он во многом опережал свое время, открывая многие законы в науке, математике, механике, астрономии, космографии, геологии, географии, океанографии, гидравлике, гидростатике, гидродинамики, по различным отраслям физики, ботанике, зоологии, анатомии, перспективе живописи, по грамматике, по язы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ловечество потихоньку осваивает наследство оставленное им, каждый раз поражаясь его гениальной прозорлив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дбор информации и оформления: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Вишняков Алексей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оверенно и одобрено: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овикова Елена Юрьевн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астерская Верроккь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ская Верроккьо (одна из самых знаменитых) находилась в интеллектуальном центре тогдашней Италии, городе Флоренции, что позволило Леонардо обучиться гуманитарным наукам, а также приобрести некоторые технические навыки. Он изучил черчение, химию, металлургию, работу с металлом, гипсом и кожей. Помимо этого юный подмастерье занимался рисованием, скульптурой и моделиров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нженер и математи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67280" y="765000"/>
            <a:ext cx="4619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ые достижения ждали Леонардо в инженерии. Но единственное его изобретение которое было признано ещё при жизни это  колесцовый замок для пистоле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66760" y="836640"/>
            <a:ext cx="4838760" cy="54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Так же он создал проект пуш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253040" cy="558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очень интересовала проблема полёта! В Милане он делал много рисунков и изучал летательный механизм птиц разных пород и летучих мышей. Кроме наблюдений он проводил и опыты, но они все были неудачными. Леонардо очень хотел построить летательный аппар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1640" y="-360"/>
            <a:ext cx="41259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были созданы чертежи современного пропеллера, и парашю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н так же создал набросок собственной летательной машины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5185080" cy="4522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 летательного аппара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1143000"/>
            <a:ext cx="6696000" cy="4944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7:22:34Z</dcterms:created>
  <dc:creator>22</dc:creator>
  <dc:description/>
  <dc:language>en-US</dc:language>
  <cp:lastModifiedBy>22</cp:lastModifiedBy>
  <dcterms:modified xsi:type="dcterms:W3CDTF">2010-02-08T16:03:25Z</dcterms:modified>
  <cp:revision>5</cp:revision>
  <dc:subject/>
  <dc:title>Леонардо ди сер Пьеро да Винчи</dc:title>
</cp:coreProperties>
</file>