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C508-C2C9-45B9-A171-C9A1651E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6F4F-874D-454E-B26C-E8193F64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26AF-CA0B-4E64-9051-F99B1EE0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EB0A-2E79-40CF-AA86-D5D6AAF3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7191-6BA8-4DA7-9151-39E9ABD0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4E41-BBF0-4278-8C47-EFFAA6C1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4194-A8C5-45A4-BB33-5027A56F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88A-695E-43DB-BA2F-DC93979D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85C-6557-40C0-80AD-95FCA47E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7568-2D03-43F3-8F66-868F0225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6C55-EE5A-42F9-888F-A8E6A854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DF05-E34E-497D-9011-6FDCD0F6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49E1-2EB0-4661-9E55-C7C90D334F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Полезные раст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МБДОУ № 259 г.о.Сам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ищева Любовь Пет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уванчи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%D0%BE%D0%B4%D1%83%D0%B2%D0%B0%D0%BD%D1%87%D0%B8%D0%BA-%D1%84%D0%BE%D1%82%D0%BE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05480"/>
            <a:ext cx="3657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орожн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podorojnik"/>
          <p:cNvPicPr/>
          <p:nvPr/>
        </p:nvPicPr>
        <p:blipFill>
          <a:blip r:embed="rId1"/>
          <a:stretch/>
        </p:blipFill>
        <p:spPr>
          <a:xfrm>
            <a:off x="4191120" y="228600"/>
            <a:ext cx="447984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стоте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chistotel-foto2"/>
          <p:cNvPicPr/>
          <p:nvPr/>
        </p:nvPicPr>
        <p:blipFill>
          <a:blip r:embed="rId1"/>
          <a:stretch/>
        </p:blipFill>
        <p:spPr>
          <a:xfrm>
            <a:off x="380880" y="1447920"/>
            <a:ext cx="8229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апи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cat1275478312_1102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ярышни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boyarka"/>
          <p:cNvPicPr/>
          <p:nvPr/>
        </p:nvPicPr>
        <p:blipFill>
          <a:blip r:embed="rId1"/>
          <a:stretch/>
        </p:blipFill>
        <p:spPr>
          <a:xfrm>
            <a:off x="1752480" y="1600200"/>
            <a:ext cx="6019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машка аптеч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1501343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Bankoboev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lechebnye_travy"/>
          <p:cNvPicPr/>
          <p:nvPr/>
        </p:nvPicPr>
        <p:blipFill>
          <a:blip r:embed="rId1"/>
          <a:stretch/>
        </p:blipFill>
        <p:spPr>
          <a:xfrm>
            <a:off x="457200" y="264960"/>
            <a:ext cx="845820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1"/>
          <p:cNvPicPr/>
          <p:nvPr/>
        </p:nvPicPr>
        <p:blipFill>
          <a:blip r:embed="rId1"/>
          <a:stretch/>
        </p:blipFill>
        <p:spPr>
          <a:xfrm>
            <a:off x="2057400" y="228600"/>
            <a:ext cx="5153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krshapochka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1296801_original"/>
          <p:cNvPicPr/>
          <p:nvPr/>
        </p:nvPicPr>
        <p:blipFill>
          <a:blip r:embed="rId1"/>
          <a:stretch/>
        </p:blipFill>
        <p:spPr>
          <a:xfrm>
            <a:off x="457200" y="304920"/>
            <a:ext cx="808020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9501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1362339483_1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96522958_large_0_63a4d_89b695a4_XL"/>
          <p:cNvPicPr/>
          <p:nvPr/>
        </p:nvPicPr>
        <p:blipFill>
          <a:blip r:embed="rId1"/>
          <a:stretch/>
        </p:blipFill>
        <p:spPr>
          <a:xfrm>
            <a:off x="457200" y="228600"/>
            <a:ext cx="8153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1alenkii440-280"/>
          <p:cNvPicPr/>
          <p:nvPr/>
        </p:nvPicPr>
        <p:blipFill>
          <a:blip r:embed="rId1"/>
          <a:stretch/>
        </p:blipFill>
        <p:spPr>
          <a:xfrm>
            <a:off x="533520" y="304920"/>
            <a:ext cx="8153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5-03-14T07:49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