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146B-04B8-41F6-87F6-AEA2BA3AA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93BD-8C96-405C-B4C9-158F0F906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5F08-95D4-4F7F-A820-CE871B95C6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43D0-CDB0-4442-941A-76BA1B5B2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A441-A25F-4DD3-A29B-D692A29003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D6D-3059-4852-B88B-55E6DCB4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F8F-F514-4405-BCD2-E2D6A99F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F9F-3A9B-405D-BDFC-BD8E012A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3D4-5B56-4F7D-8044-F9FB9F60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A62-74F3-4099-89A1-9AD7061A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7CD-4C72-485F-8249-7BB8DFE4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E25-C731-4EAF-809E-AFC8F863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D3D-D28F-45B1-AC62-2E4B291B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500-D6F5-46BD-B28E-B0BCC865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37C-55C5-485B-B5C5-E3DD563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7AD4-8305-45DE-AD5E-C7183A2C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1BB-35F8-4342-B7CA-B3581737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6129-26F6-4A64-B341-F4993F26E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ideboom.com/presentations/981589/&#1046;&#1080;&#1078;&#1080;&#1085;&#1072;-&#1043;&#1076;&#1077;-&#1086;&#1073;&#1077;&#1076;&#1072;&#1083;%2C-&#1074;&#1086;&#1088;&#1086;&#1073;&#1077;&#1081;" TargetMode="External"/><Relationship Id="rId2" Type="http://schemas.openxmlformats.org/officeDocument/2006/relationships/hyperlink" Target="http://www.o-detstve.ru/userlist/s-zhizhina" TargetMode="External"/><Relationship Id="rId3" Type="http://schemas.openxmlformats.org/officeDocument/2006/relationships/hyperlink" Target="http://www.o-detstve.ru/userlist/s-zhizhina" TargetMode="External"/><Relationship Id="rId4" Type="http://schemas.openxmlformats.org/officeDocument/2006/relationships/hyperlink" Target="http://www.o-detstve.ru/userlist/&#1040;&#1085;&#1085;&#1072;%20&#1053;&#1080;&#1082;&#1086;&#1083;&#1072;&#1077;&#1074;&#1085;&#1072;" TargetMode="External"/><Relationship Id="rId5" Type="http://schemas.openxmlformats.org/officeDocument/2006/relationships/hyperlink" Target="http://www.o-detstve.ru/userlist/&#1040;&#1085;&#1085;&#1072;%20&#1053;&#1080;&#1082;&#1086;&#1083;&#1072;&#1077;&#1074;&#1085;&#1072;" TargetMode="External"/><Relationship Id="rId6" Type="http://schemas.openxmlformats.org/officeDocument/2006/relationships/hyperlink" Target="http://www.o-detstve.ru/userlist/&#1069;&#1083;&#1100;&#1085;&#1072;&#1088;&#1072;%20&#1058;&#1072;&#1083;&#1103;&#1090;&#1086;&#1074;&#1085;&#1072;%20&#1040;&#1073;&#1076;&#1091;&#1083;&#1083;&#1072;&#1077;&#1074;&#1072;" TargetMode="External"/><Relationship Id="rId7" Type="http://schemas.openxmlformats.org/officeDocument/2006/relationships/hyperlink" Target="http://www.o-detstve.ru/userlist/&#1069;&#1083;&#1100;&#1085;&#1072;&#1088;&#1072;%20&#1058;&#1072;&#1083;&#1103;&#1090;&#1086;&#1074;&#1085;&#1072;%20&#1040;&#1073;&#1076;&#1091;&#1083;&#1083;&#1072;&#1077;&#1074;&#1072;" TargetMode="External"/><Relationship Id="rId8" Type="http://schemas.openxmlformats.org/officeDocument/2006/relationships/hyperlink" Target="http://www.o-detstve.ru/userlist/&#1048;&#1088;&#1080;&#1085;&#1072;%20&#1042;&#1072;&#1083;&#1077;&#1088;&#1100;&#1077;&#1074;&#1085;&#1072;%20&#1056;&#1086;&#1075;&#1086;&#1074;&#1072;" TargetMode="External"/><Relationship Id="rId9" Type="http://schemas.openxmlformats.org/officeDocument/2006/relationships/hyperlink" Target="http://www.o-detstve.ru/userlist/&#1048;&#1088;&#1080;&#1085;&#1072;%20&#1042;&#1072;&#1083;&#1077;&#1088;&#1100;&#1077;&#1074;&#1085;&#1072;%20&#1056;&#1086;&#1075;&#1086;&#1074;&#1072;" TargetMode="External"/><Relationship Id="rId10" Type="http://schemas.openxmlformats.org/officeDocument/2006/relationships/hyperlink" Target="http://www.o-detstve.ru/userlist/msid" TargetMode="External"/><Relationship Id="rId11" Type="http://schemas.openxmlformats.org/officeDocument/2006/relationships/hyperlink" Target="http://www.o-detstve.ru/userlist/msid" TargetMode="External"/><Relationship Id="rId12" Type="http://schemas.openxmlformats.org/officeDocument/2006/relationships/hyperlink" Target="http://www.o-detstve.ru/userlist/s-zhizhina" TargetMode="External"/><Relationship Id="rId13" Type="http://schemas.openxmlformats.org/officeDocument/2006/relationships/hyperlink" Target="http://www.o-detstve.ru/userlist/s-zhizhina" TargetMode="External"/><Relationship Id="rId14" Type="http://schemas.openxmlformats.org/officeDocument/2006/relationships/hyperlink" Target="http://www.o-detstve.ru/userlist/&#1053;&#1072;&#1090;&#1072;&#1083;&#1100;&#1103;%20&#1042;&#1083;&#1072;&#1076;&#1080;&#1084;&#1080;&#1088;&#1086;&#1074;&#1085;&#1072;%20&#1051;&#1072;&#1087;&#1080;&#1085;&#1072;" TargetMode="External"/><Relationship Id="rId15" Type="http://schemas.openxmlformats.org/officeDocument/2006/relationships/hyperlink" Target="http://www.o-detstve.ru/userlist/&#1053;&#1072;&#1090;&#1072;&#1083;&#1100;&#1103;%20&#1042;&#1083;&#1072;&#1076;&#1080;&#1084;&#1080;&#1088;&#1086;&#1074;&#1085;&#1072;%20&#1051;&#1072;&#1087;&#1080;&#1085;&#1072;" TargetMode="External"/><Relationship Id="rId16" Type="http://schemas.openxmlformats.org/officeDocument/2006/relationships/hyperlink" Target="http://www.o-detstve.ru/userlist/Elly_39" TargetMode="External"/><Relationship Id="rId17" Type="http://schemas.openxmlformats.org/officeDocument/2006/relationships/hyperlink" Target="http://www.o-detstve.ru/userlist/Elly_39" TargetMode="External"/><Relationship Id="rId18" Type="http://schemas.openxmlformats.org/officeDocument/2006/relationships/hyperlink" Target="http://www.o-detstve.ru/userlist/s-zhizhina" TargetMode="External"/><Relationship Id="rId19" Type="http://schemas.openxmlformats.org/officeDocument/2006/relationships/hyperlink" Target="http://www.o-detstve.ru/userlist/s-zhizhina" TargetMode="External"/><Relationship Id="rId20" Type="http://schemas.openxmlformats.org/officeDocument/2006/relationships/hyperlink" Target="http://www.o-detstve.ru/userlist/&#1045;&#1083;&#1077;&#1085;&#1072;%20&#1042;&#1072;&#1083;&#1077;&#1088;&#1100;&#1077;&#1074;&#1085;&#1072;%20&#1055;&#1091;&#1096;&#1082;&#1086;&#1074;&#1072;" TargetMode="External"/><Relationship Id="rId21" Type="http://schemas.openxmlformats.org/officeDocument/2006/relationships/hyperlink" Target="http://www.o-detstve.ru/userlist/&#1045;&#1083;&#1077;&#1085;&#1072;%20&#1042;&#1072;&#1083;&#1077;&#1088;&#1100;&#1077;&#1074;&#1085;&#1072;%20&#1055;&#1091;&#1096;&#1082;&#1086;&#1074;&#1072;" TargetMode="External"/><Relationship Id="rId22" Type="http://schemas.openxmlformats.org/officeDocument/2006/relationships/hyperlink" Target="http://www.o-detstve.ru/userlist/s-zhizhina" TargetMode="External"/><Relationship Id="rId23" Type="http://schemas.openxmlformats.org/officeDocument/2006/relationships/hyperlink" Target="http://www.o-detstve.ru/userlist/s-zhizhina" TargetMode="External"/><Relationship Id="rId24" Type="http://schemas.openxmlformats.org/officeDocument/2006/relationships/hyperlink" Target="http://www.o-detstve.ru/userlist/&#1085;&#1072;&#1089;&#1090;&#1103;-&#1082;&#1088;&#1091;&#1075;" TargetMode="External"/><Relationship Id="rId25" Type="http://schemas.openxmlformats.org/officeDocument/2006/relationships/hyperlink" Target="http://www.o-detstve.ru/userlist/&#1085;&#1072;&#1089;&#1090;&#1103;-&#1082;&#1088;&#1091;&#1075;" TargetMode="External"/><Relationship Id="rId26" Type="http://schemas.openxmlformats.org/officeDocument/2006/relationships/hyperlink" Target="http://www.o-detstve.ru/userlist/&#1057;&#1074;&#1077;&#1090;&#1083;&#1072;&#1085;&#1072;_&#1040;&#1083;&#1077;&#1082;&#1089;&#1072;&#1085;&#1076;&#1088;&#1086;&#1074;&#1085;&#1072;" TargetMode="External"/><Relationship Id="rId27" Type="http://schemas.openxmlformats.org/officeDocument/2006/relationships/hyperlink" Target="http://www.o-detstve.ru/userlist/&#1057;&#1074;&#1077;&#1090;&#1083;&#1072;&#1085;&#1072;_&#1040;&#1083;&#1077;&#1082;&#1089;&#1072;&#1085;&#1076;&#1088;&#1086;&#1074;&#1085;&#1072;" TargetMode="External"/><Relationship Id="rId28" Type="http://schemas.openxmlformats.org/officeDocument/2006/relationships/hyperlink" Target="https://direct.yandex.ru/?partner" TargetMode="External"/><Relationship Id="rId29" Type="http://schemas.openxmlformats.org/officeDocument/2006/relationships/hyperlink" Target="http://an.yandex.ru/count/8b3KkjvbfGe40000ZhP8Bb05XPrg3PK2cm5kGxS2Am68lsvtsGQ9idTqMW6OgbIzlfwn0G0019sLxFMMlEnw706wyZN2Q3ly7Z4EfeW8YglaIJczeX1IJAe1fQcDWm6HlbPLVmoFjLN1IGQVkcCfmG-J0fbWGeoGtMsWa19whv3TRPIRs0kdXbIefZCG1wIm00009gmohl8qi_M8OoiH1R2oNHmC0h41ie1GkPNizRlnaxC27hraC071__________yFmlOWEe1FuCKy0SG1nOyFVXW0?test-tag=207685025&amp;stat-id=1073741841" TargetMode="External"/><Relationship Id="rId30" Type="http://schemas.openxmlformats.org/officeDocument/2006/relationships/hyperlink" Target="http://an.yandex.ru/count/8b3KkjvbfGe40000ZhP8Bb05XPrg3PK2cm5kGxS2Am68lsvtsGQ9idTqMW6OgbIzlfwn0G0019sLxFMMlEnw706wyZN2Q3ly7Z4EfeW8YglaIJczeX1IJAe1fQcDWm6HlbPLVmoFjLN1IGQVkcCfmG-J0fbWGeoGtMsWa19whv3TRPIRs0kdXbIefZCG1wIm00009gmohl8qi_M8OoiH1R2oNHmC0h41ie1GkPNizRlnaxC27hraC071__________yFmlOWEe1FuCKy0SG1nOyFVXW0?test-tag=207685025&amp;stat-id=1073741841" TargetMode="External"/><Relationship Id="rId31" Type="http://schemas.openxmlformats.org/officeDocument/2006/relationships/hyperlink" Target="http://an.yandex.ru/count/8b3KkajFPca40000ZhP8Bb05XPrg3PK2cm5kGxS2Am68lsvtsGQ9idTqMW6OgbIzlfwn0G0019sLxFMMlEnw706wyZN2Q3ly7Z4EfeW8YglaIJczeX1IJAe7fQcDWm6HlbPLVmoFjLN1IGQVkcCfmG-J0fbWGeoGtMsWa19whv3TRPIRs0kdXbIefZCG1wIm00009gmohl8qi_M8OoiH1R2oNHmC0h41ie1GkPNizRlnaxC27hraC071__________yFmlOWEe1FuCKy0SG1nOyFVXW0?test-tag=207685025&amp;stat-id=1073741841" TargetMode="External"/><Relationship Id="rId32" Type="http://schemas.openxmlformats.org/officeDocument/2006/relationships/hyperlink" Target="http://an.yandex.ru/count/8b3Kkd-M2vy40000ZhP8Bb05XPrg3PK2cm5kGxS2Am4oYBlIed01YRJBnmS2cF__________3vwn0G0019sYEYqFbhpiUXm1kl8rmcWx_1un3fhmhCzXuz0fiGkc5egrVJER0RsvC8pW0Qe1fQKI3mIHlbPLVmoFlyMIIWMVllICPWIJ0fa9GeoWp5K1eA1qjm6leCnL0PIMBIcdZXUeiEgaQW6ai90402QkyZIpzOXZAn45iB9T70m2iG6oW52veZej3xlnaxC27hraC071__________yFmlOWEe1FuCKy0SMF3taR?test-tag=207685025&amp;stat-id=1073741841" TargetMode="External"/><Relationship Id="rId33" Type="http://schemas.openxmlformats.org/officeDocument/2006/relationships/hyperlink" Target="http://an.yandex.ru/count/8b3KkatYTRW40000ZhP8Bb05XPrg3PK2cm5kGxS2Am4oYBlIed01YRJBnmS2cF__________3vwn0G0019sYEYqFbhpiUXm1kl8rmcWx_1un3fhmhCzXuz0fiGkc5egrVJER0RsvC8pW0QeVfQKI3mIHlbPLVmoFlyMIIWMVllICPWIJ0fa9GeoWp5K1eA1qjm6leCnL0PIMBIcdZXUeiEgaQW6ai90402QkyZIpzOXZAn45iB9T70m2iG6oW52veZej3xlnaxC27hraC071__________yFmlOWEe1FuCKy0SMF3taR?test-tag=207685025&amp;stat-id=1073741841" TargetMode="External"/><Relationship Id="rId34" Type="http://schemas.openxmlformats.org/officeDocument/2006/relationships/hyperlink" Target="http://an.yandex.ru/count/8b3KkjF0VTO40000ZhP8Bb05XPrg3PK2cm5kGxS2Am4oYBlIed01YRJBnmS2cF__________3vwn0G0019sYEYqFbhpiUXm1kl8rmcWx_1un3fhmhCzXuz0fiGkc5egrVJER0RsvC8pW0QeXfQKI3mIHlbPLVmoFlyMIIWMVllICPWIJ0fa9GeoWp5K1eA1qjm6leCnL0PIMBIcdZXUeiEgaQW6ai90402QkyZIpzOXZAn45iB9T70m2iG6oW52veZej3xlnaxC27hraC071__________yFmlOWEe1FuCKy0SMF3taR?test-tag=207685025&amp;stat-id=1073741841" TargetMode="External"/><Relationship Id="rId35" Type="http://schemas.openxmlformats.org/officeDocument/2006/relationships/hyperlink" Target="http://an.yandex.ru/count/8b3KkYaAYVO40000ZhP8Bb05XPrg3PK2cm5kGxS2Am4oYBlIed01YRJBnmS2cF__________3vwn0G0019sYEYqFbhpiUXm1kl8rmcWx_1un3fhmhCzXuz0fiGkc5egrVJER0RsvC8pW0QeZfQKI3mIHlbPLVmoFlyMIIWMVllICPWIJ0fa9GeoWp5K1eA1qjm6leCnL0PIMBIcdZXUeiEgaQW6ai90402QkyZIpzOXZAn45iB9T70m2iG6oW52veZej3xlnaxC27hraC071__________yFmlOWEe1FuCKy0SMF3taR?test-tag=207685025&amp;stat-id=1073741841" TargetMode="External"/><Relationship Id="rId36" Type="http://schemas.openxmlformats.org/officeDocument/2006/relationships/hyperlink" Target="http://an.yandex.ru/count/8b3Kkd-M2vy40000ZhP8Bb05XPrg3PK2cm5kGxS2Am4oYBlIed01YRJBnmS2cF__________3vwn0G0019sYEYqFbhpiUXm1kl8rmcWx_1un3fhmhCzXuz0fiGkc5egrVJER0RsvC8pW0Qe1fQKI3mIHlbPLVmoFlyMIIWMVllICPWIJ0fa9GeoWp5K1eA1qjm6leCnL0PIMBIcdZXUeiEgaQW6ai90402QkyZIpzOXZAn45iB9T70m2iG6oW52veZej3xlnaxC27hraC071__________yFmlOWEe1FuCKy0SMF3taR?test-tag=207685025&amp;stat-id=1073741841" TargetMode="External"/><Relationship Id="rId37" Type="http://schemas.openxmlformats.org/officeDocument/2006/relationships/hyperlink" Target="http://an.yandex.ru/count/8b3Kkgku4Ru40000ZhP8Bb05XPrg3PK2cm5kGxS2Am4oYBlIed01YRJBnmS2cF__________3vwn0G0019sYEYqFbhpiUXm1kl8rmcWx_1un3fhmhCzXuz0fiGkc5egrVJER0RsvC8pW0Qe7fQKI3mIHlbPLVmoFlyMIIWMVllICPWIJ0fa9GeoWp5K1eA1qjm6leCnL0PIMBIcdZXUeiEgaQW6ai90402QkyZIpzOXZAn45iB9T70m2iG6oW52veZej3xlnaxC27hraC071__________yFmlOWEe1FuCKy0SMF3taR?test-tag=207685025&amp;stat-id=1073741841" TargetMode="External"/><Relationship Id="rId38" Type="http://schemas.openxmlformats.org/officeDocument/2006/relationships/hyperlink" Target="http://an.yandex.ru/count/8b3KkWGs2Je40000ZhP8Bb05XPrg3PK2cm5kGxS2Am4pYBGfMN86YQWGQFIOgbIzlfwn0G0019sfIXO7bhpiUXm1kl8rmcWx_1un3gPjYg-8NLczePZRUAe1fPHK-v6-LbL_38-rLS591f-wOod13vC2cM12Z902Kw2G4dgla09Jb9EM3AUFDwYhHkrjfB00000ch3AkyZIpzOXZAn45iB9T70m2iG6oW52vgKeM1xlnaxC27hraC071__________yFmlOWEe1FuCKy0SMF3tmO?test-tag=207685025&amp;stat-id=1073741841" TargetMode="External"/><Relationship Id="rId39" Type="http://schemas.openxmlformats.org/officeDocument/2006/relationships/hyperlink" Target="http://an.yandex.ru/count/8b3KkWGs2Je40000ZhP8Bb05XPrg3PK2cm5kGxS2Am4pYBGfMN86YQWGQFIOgbIzlfwn0G0019sfIXO7bhpiUXm1kl8rmcWx_1un3gPjYg-8NLczePZRUAe1fPHK-v6-LbL_38-rLS591f-wOod13vC2cM12Z902Kw2G4dgla09Jb9EM3AUFDwYhHkrjfB00000ch3AkyZIpzOXZAn45iB9T70m2iG6oW52vgKeM1xlnaxC27hraC071__________yFmlOWEe1FuCKy0SMF3tmO?test-tag=207685025&amp;stat-id=1073741841" TargetMode="External"/><Relationship Id="rId40" Type="http://schemas.openxmlformats.org/officeDocument/2006/relationships/hyperlink" Target="http://an.yandex.ru/count/8b3KkZATG_840000ZhP8Bb05XPrg3PK2cm5kGxS2Am4pYBGfMN86YQWGQFIOgbIzlfwn0G0019sfIXO7bhpiUXm1kl8rmcWx_1un3gPjYg-8NLczePZRUAe7fPHK-v6-LbL_38-rLS591f-wOod13vC2cM12Z902Kw2G4dgla09Jb9EM3AUFDwYhHkrjfB00000ch3AkyZIpzOXZAn45iB9T70m2iG6oW52vgKeM1xlnaxC27hraC071__________yFmlOWEe1FuCKy0SMF3tmO?test-tag=207685025&amp;stat-id=1073741841" TargetMode="External"/><Relationship Id="rId41" Type="http://schemas.openxmlformats.org/officeDocument/2006/relationships/hyperlink" Target="http://www.o-detstve.ru/forteachers/kindergarten/presentation.html" TargetMode="External"/><Relationship Id="rId42" Type="http://schemas.openxmlformats.org/officeDocument/2006/relationships/hyperlink" Target="http://www.o-detstve.ru/forteachers/kindergarten/presentation/4310.html" TargetMode="External"/><Relationship Id="rId43" Type="http://schemas.openxmlformats.org/officeDocument/2006/relationships/hyperlink" Target="http://www.o-detstve.ru/forteachers/kindergarten/presentation/15072.html" TargetMode="External"/><Relationship Id="rId44" Type="http://schemas.openxmlformats.org/officeDocument/2006/relationships/hyperlink" Target="http://www.o-detstve.ru/forteachers/kindergarten/presentation/15072.html" TargetMode="External"/><Relationship Id="rId45" Type="http://schemas.openxmlformats.org/officeDocument/2006/relationships/hyperlink" Target="http://www.o-detstve.ru/forteachers/kindergarten/presentation/15072.html" TargetMode="External"/><Relationship Id="rId46" Type="http://schemas.openxmlformats.org/officeDocument/2006/relationships/hyperlink" Target="http://www.o-detstve.ru/forteachers/kindergarten/presentation/15072.html" TargetMode="External"/><Relationship Id="rId47" Type="http://schemas.openxmlformats.org/officeDocument/2006/relationships/hyperlink" Target="http://www.o-detstve.ru/forteachers/kindergarten/presentation/15072.html" TargetMode="External"/><Relationship Id="rId48" Type="http://schemas.openxmlformats.org/officeDocument/2006/relationships/hyperlink" Target="http://www.o-detstve.ru/forteachers/kindergarten/presentation/14901.html" TargetMode="External"/><Relationship Id="rId49" Type="http://schemas.openxmlformats.org/officeDocument/2006/relationships/hyperlink" Target="http://www.o-detstve.ru/forteachers/kindergarten/presentation/15072.html" TargetMode="External"/><Relationship Id="rId50" Type="http://schemas.openxmlformats.org/officeDocument/2006/relationships/hyperlink" Target="http://www.o-detstve.ru/forteachers/kindergarten/presentation/15072.html" TargetMode="External"/><Relationship Id="rId51" Type="http://schemas.openxmlformats.org/officeDocument/2006/relationships/hyperlink" Target="http://www.o-detstve.ru/forteachers/kindergarten/presentation/15072.html" TargetMode="External"/><Relationship Id="rId52" Type="http://schemas.openxmlformats.org/officeDocument/2006/relationships/hyperlink" Target="http://www.o-detstve.ru/forteachers/kindergarten/presentation/15072.html" TargetMode="External"/><Relationship Id="rId53" Type="http://schemas.openxmlformats.org/officeDocument/2006/relationships/hyperlink" Target="http://www.o-detstve.ru/forteachers/kindergarten/presentation/15072.html" TargetMode="External"/><Relationship Id="rId54" Type="http://schemas.openxmlformats.org/officeDocument/2006/relationships/hyperlink" Target="http://www.o-detstve.ru/forteachers/kindergarten/presentation/14964.html" TargetMode="External"/><Relationship Id="rId5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92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Творчество Самуила Яковлевича Маршака известно не одному поколению детей. Его стихи и сказки всегда вызывали неподдельный интерес у детей. Прививая дошкольникам интерес к литературе, прежде всего, обращаемся к произведениям С. Маршака. Его поэтический язык понятен, доступен малышам. Дети легко запоминают строки стихотворений. Темы произведений привлекательны для детей: животные, игрушки, природа, - всё это понятно и любимо до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Игровое пособие по произведению С.Маршака «Где обедал, воробей?» позволяет вести образовательную деятельность по нескольким област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ознавательное развит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социально – коммуникативное развит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художественно – эстетическое развит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речевое разви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особие содержит литературный и игровой материал для детей дошкольного возраста. Составлено таким образом, что даёт детям право выбора той или иной игровой деятельности. Пособие можно использовать в процессе ННОД по темам «Дикие животные», «Животные Африки», «Зоопарк» и др. Яркие картинки, звук привлекают внимание детей и делают образовательный процесс интересным и продуктивным. При желании, можно использовать отдельные фрагменты, в зависимости от содержания НН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иложени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гровое пособие «Гд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личная работа, Светлана Михайловна! Желаем удачи и победы в конкурсе! Пятерка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-zhizhina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3.04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0:58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ветлана Геннадьевна, спасибо за отзыв и Вашу оценку моей работ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нна Николаевн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3.04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1:1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чественная и полезная работа, спасибо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Эльнара Талятовна Абдуллае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5.04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1:4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ветлана Михайловна, познакомилась ещё с одной, не менее интересной, вашей работой на страницах нашего конкурса. Для презентации выбрано близкое и понятное детям творчество Маршака, в содержании использовано много игровых заданий, включён звуковой ряд, разнообразные анимационные эффекты, качественные картинки. Пособие, действительно, интерактивное, динамичное, но у меня возникли некоторые вопросы к использованию игр. В описании к работе вы пишите, что дидактические игры составлены по содержанию произведения Маршака "Где обедал воробей", однако, не для всех игр базой является это произведение. Чтобы поиграть в игру "Какое животное есть в сказках", "Угадай зверей", "Отгадай загадки" совсем не обязательно читать детям данный литературный текст, они не имеют прямой зависимости от него, а касаются лишь косвенно. Целесообразнее развернуть презентацию в сторону изучения самого произведения, а для закрепления дать игры или на его основе изучить животных, а потом поиграть. У меня сложилось ощущение, что слайды презентации не объединены одной целью. Цели к играм прописаны, а к самому пособию нет. Продолжайте вдохновляться и совершенствовать правильно определить, что ели слон и медведь в стихотворении, выбрав одну картинку из трёх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ширять представления об окружающем мире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вивать внимание, память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гра:«Третий лишний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рать картинку животного, которого не было в зоопарке, выбрав одну картинку из трёх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ширять представления об окружающем мире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вивать внимание, память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гра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«Животные Африки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авильно определить животное, которое живёт в Африке, выбрав одну картинку из трёх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ширять представления об окружающем мире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вивать внимание, память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гра: «Животные наших лесов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воё мастерство в нелёгком деле создания электронных учебных пособий. Спасибо. Знакомясь с конкурсными работами совершенствуюсь и сама. Желаю удачи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Ирина Валерьевна Рого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03.05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0:0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ветлана Михайловна, с интересом познакомилась с вашим интерактивным пособием! Вы удачно использовали в презентации озвучку голосом, систему гиперссылок для навигации, триггеры для выбора правильных ответов, реалистичные изображения животных. На мой взгляд, необходимо уделить внимание методической разработанности пособ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si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05.05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08:08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ветлана Михайловна, спасибо за очень интересное и полезное пособие! Думаю детям понравится выполнять разнообразные задания, которые они могут сами выбирать и по своему желанию прекращать или продолжать игру. Ваше пособие подкреплено яркими и качественными визуальными образами, звуковыми эффектами. Обязательно возьму в свою копилку. Пять баллов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-zhizhina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06.05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8:4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ятно, что моя работа интересна, вдвойне приятно, если она будет полезна для педагогов и их детей. Мои воспитанники с удовольствием выполняют задания, многие взяли для домашнего пользования. Спасибо за отзывы и замечания!!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Наталья Владимировна Лапин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08.05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09:2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ветлана Михайловна! Согласна со мнением коллег: замечательная работа! Пять баллов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Elly_39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0.05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5:1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личная работа +5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s-zhizhina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2.05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5:1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асибо за отзывы и оценк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Елена Валерьевна Пушко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30.08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9:5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важаемая Светлана Михайловна, очень понравилась Ваша работа! Спасибо за хорошее электронное пособие для наших дошкольников! Забавный воробышек, качественные фото зверей в зоопарке, интересные игровые задания! Спасибо! Удачи в конкурсе и с наступающим учебным годом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s-zhizhina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30.08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2:2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асибо. Удачи в новом учебном году, новых профессиональных достижений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настя-круг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30.08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3:2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ветлана Михайловна, спасибо за презентацию, она меня очень даже устраивает, а методически можно доработать что угодно. Удачи вам в конкурс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Светлана_Александровн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ишет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2.09.20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8:4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здравляю со званием лауреата, удачи и дальнейших успехов в творчестве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Яндекс.Директ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 Детский сад и ясли от 1,5 до 8лет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рудит - Частный Детский сад и ясли от 1,5 до 8 лет во всех районах СПб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eruditclub.ru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Адрес и телефон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Консультация по трудовым спо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лучите консультацию юриста по трудовым спорам прямо сейчас. Бесплатно!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Бесплатная консультация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Заявления в суд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Адвокат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ros-jur.ru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Адрес и телефон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Частный детский сад м. Звёздная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етский сад для детей от 1 г. 8 мес. Детям комфортно, родителям спокойно!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alisa-studia.ru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Адрес и телефо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ругие публикации раздела «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Рубрика «Презентации к занятиям в ДОУ»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Презентация «В стране дорожных знаков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зентация направлена на формирование основ безопасного поведения детей дошкольного возраста на улицах города путем внедрения мультимедийных технологий в образовательный процесс детского сад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мотров статьи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899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комментариев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редний балл: 5 из 5 звезд (голосов: 12, сумма баллов: 6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Презентация «В Третьяковской галерее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нная презентация знакомит детей с Третьяковской галереей, с произведениями мастеров русской школы живописи (натюрморт, пейзаж, портрет, произведениями исторического и бытового жанров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мотров статьи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52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комментариев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редний балл: 5 из 5 звезд (голосов: 6, сумма баллов: 3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Презентация «Гимнастика пробуждения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ель: помочь снять сонное состояние, пробудить его в интересной форме. Можно использовать как в ОУ любого назначения, так и родителями в семь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мотров статьи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332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комментариев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редний балл: 5 из 5 звезд (голосов: 5, сумма баллов: 25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вторизац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мя пользователя Пароль Запомнить мен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287000" y="8534520"/>
            <a:ext cx="456264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7855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Segoe Print"/>
              </a:rPr>
              <a:t>С журавлем поел пше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9120" y="1571760"/>
            <a:ext cx="3756240" cy="50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г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ли братья на ходу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щут корму по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егу ли, на ходу ли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 с ходулей не сойти. 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(журав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Admin\Pictures\та\Безымянный5.gif"/>
          <p:cNvPicPr/>
          <p:nvPr/>
        </p:nvPicPr>
        <p:blipFill>
          <a:blip r:embed="rId2"/>
          <a:stretch/>
        </p:blipFill>
        <p:spPr>
          <a:xfrm>
            <a:off x="228600" y="2371680"/>
            <a:ext cx="4829040" cy="448632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4572000"/>
            <a:ext cx="42037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г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пко сбит и ладно сложе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кладках весь из толстой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до носит грозный 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Африканский 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56880" y="714240"/>
            <a:ext cx="68281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Segoe Print"/>
              </a:rPr>
              <a:t>Погостил у носорог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Segoe Print"/>
              </a:rPr>
              <a:t>Отрубей поел немн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1143000" cy="164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Admin\Pictures\та\Безымянный6.gif"/>
          <p:cNvPicPr/>
          <p:nvPr/>
        </p:nvPicPr>
        <p:blipFill>
          <a:blip r:embed="rId2"/>
          <a:stretch/>
        </p:blipFill>
        <p:spPr>
          <a:xfrm>
            <a:off x="4248000" y="2101680"/>
            <a:ext cx="4876920" cy="440064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:\Users\Admin\Pictures\та\Безымянный7.gif"/>
          <p:cNvPicPr/>
          <p:nvPr/>
        </p:nvPicPr>
        <p:blipFill>
          <a:blip r:embed="rId1"/>
          <a:stretch/>
        </p:blipFill>
        <p:spPr>
          <a:xfrm>
            <a:off x="82440" y="1724040"/>
            <a:ext cx="4962600" cy="4438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142640" y="999720"/>
            <a:ext cx="72867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egoe Print"/>
              </a:rPr>
              <a:t>Побывал я на пиру у хвостатых кенгу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57480" y="2214360"/>
            <a:ext cx="404172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г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Австралии они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ыгунчики отлич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сумку им носить – не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ение привычное.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(кенгу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542916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571760"/>
            <a:ext cx="4040280" cy="492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г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любит ягоды и мё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мой в берлоге он жи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– симпатичный, правда, вед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хнатый увалень…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медве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56880" y="928800"/>
            <a:ext cx="6899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Был на праздничном обе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У мохнатого медвед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Admin\Pictures\та\Безымянный8.gif"/>
          <p:cNvPicPr/>
          <p:nvPr/>
        </p:nvPicPr>
        <p:blipFill>
          <a:blip r:embed="rId2"/>
          <a:stretch/>
        </p:blipFill>
        <p:spPr>
          <a:xfrm>
            <a:off x="4429080" y="2438280"/>
            <a:ext cx="4695840" cy="416268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Users\Admin\Pictures\та\Безымянный9.gif"/>
          <p:cNvPicPr/>
          <p:nvPr/>
        </p:nvPicPr>
        <p:blipFill>
          <a:blip r:embed="rId1"/>
          <a:stretch/>
        </p:blipFill>
        <p:spPr>
          <a:xfrm>
            <a:off x="1030320" y="1639800"/>
            <a:ext cx="4925880" cy="4395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28440" y="259920"/>
            <a:ext cx="764388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egoe Print"/>
              </a:rPr>
              <a:t>А зубастый крокод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egoe Print"/>
              </a:rPr>
              <a:t>Чуть меня не проглот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19280" y="4005000"/>
            <a:ext cx="375444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аг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лежит в воде д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 зеленое брев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ит Африканский Н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ш зубастый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0" y="5143680"/>
            <a:ext cx="1143000" cy="14284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0" descr="C:\Users\Admin\Pictures\та\Безымянный13.gif"/>
          <p:cNvPicPr/>
          <p:nvPr/>
        </p:nvPicPr>
        <p:blipFill>
          <a:blip r:embed="rId1"/>
          <a:stretch/>
        </p:blipFill>
        <p:spPr>
          <a:xfrm>
            <a:off x="210960" y="5494320"/>
            <a:ext cx="4695840" cy="41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C:\Users\Admin\Pictures\та\Безымянный11.gif"/>
          <p:cNvPicPr/>
          <p:nvPr/>
        </p:nvPicPr>
        <p:blipFill>
          <a:blip r:embed="rId2"/>
          <a:stretch/>
        </p:blipFill>
        <p:spPr>
          <a:xfrm>
            <a:off x="4421160" y="1405080"/>
            <a:ext cx="4695840" cy="4162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C:\Users\Admin\Pictures\та\Безымянный10.gif"/>
          <p:cNvPicPr/>
          <p:nvPr/>
        </p:nvPicPr>
        <p:blipFill>
          <a:blip r:embed="rId3"/>
          <a:stretch/>
        </p:blipFill>
        <p:spPr>
          <a:xfrm>
            <a:off x="210960" y="1370160"/>
            <a:ext cx="4695840" cy="4162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99"/>
                </a:solidFill>
                <a:uFillTx/>
                <a:latin typeface="Consolas"/>
              </a:rPr>
              <a:t>Внимание!!! Пока мы гуляли по зоопарку, клетки открылись, и детеныши разбежались по разным клеткам. Пожалуйста, помогите им отыскать своих родител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4"/>
          <a:stretch/>
        </p:blipFill>
        <p:spPr>
          <a:xfrm>
            <a:off x="2346480" y="3273480"/>
            <a:ext cx="1639800" cy="143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C:\Users\Admin\Pictures\та\Безымянный9.gif"/>
          <p:cNvPicPr/>
          <p:nvPr/>
        </p:nvPicPr>
        <p:blipFill>
          <a:blip r:embed="rId5"/>
          <a:stretch/>
        </p:blipFill>
        <p:spPr>
          <a:xfrm>
            <a:off x="1925640" y="1370160"/>
            <a:ext cx="2220840" cy="196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C:\Users\Admin\Pictures\та\Безымянный1.gif"/>
          <p:cNvPicPr/>
          <p:nvPr/>
        </p:nvPicPr>
        <p:blipFill>
          <a:blip r:embed="rId6"/>
          <a:stretch/>
        </p:blipFill>
        <p:spPr>
          <a:xfrm>
            <a:off x="1814400" y="4632480"/>
            <a:ext cx="2752920" cy="2138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C:\Users\Admin\Pictures\та\Безымянный5.gif"/>
          <p:cNvPicPr/>
          <p:nvPr/>
        </p:nvPicPr>
        <p:blipFill>
          <a:blip r:embed="rId7"/>
          <a:stretch/>
        </p:blipFill>
        <p:spPr>
          <a:xfrm>
            <a:off x="4249800" y="2655720"/>
            <a:ext cx="2287440" cy="212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C:\Users\Admin\Pictures\та\Безымянный8.gif"/>
          <p:cNvPicPr/>
          <p:nvPr/>
        </p:nvPicPr>
        <p:blipFill>
          <a:blip r:embed="rId8"/>
          <a:stretch/>
        </p:blipFill>
        <p:spPr>
          <a:xfrm>
            <a:off x="6429240" y="1909800"/>
            <a:ext cx="2687760" cy="238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C:\Users\Admin\Pictures\та\Безымянный12.gif"/>
          <p:cNvPicPr/>
          <p:nvPr/>
        </p:nvPicPr>
        <p:blipFill>
          <a:blip r:embed="rId9"/>
          <a:stretch/>
        </p:blipFill>
        <p:spPr>
          <a:xfrm>
            <a:off x="4567320" y="4689360"/>
            <a:ext cx="4695840" cy="416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:\Users\Admin\Pictures\та\Безымянный7.gif"/>
          <p:cNvPicPr/>
          <p:nvPr/>
        </p:nvPicPr>
        <p:blipFill>
          <a:blip r:embed="rId10"/>
          <a:stretch/>
        </p:blipFill>
        <p:spPr>
          <a:xfrm>
            <a:off x="6488280" y="4689360"/>
            <a:ext cx="24494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1676160" cy="1069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937040" y="334800"/>
            <a:ext cx="1774800" cy="1481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4145040" y="2712960"/>
            <a:ext cx="187164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4"/>
          <a:stretch/>
        </p:blipFill>
        <p:spPr>
          <a:xfrm>
            <a:off x="324000" y="3432240"/>
            <a:ext cx="1504800" cy="112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C:\Users\Admin\Pictures\та\Безымянный4.gif"/>
          <p:cNvPicPr/>
          <p:nvPr/>
        </p:nvPicPr>
        <p:blipFill>
          <a:blip r:embed="rId5"/>
          <a:stretch/>
        </p:blipFill>
        <p:spPr>
          <a:xfrm>
            <a:off x="5827680" y="4224240"/>
            <a:ext cx="3056040" cy="26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C:\Users\Admin\Pictures\та\Безымянный2.gif"/>
          <p:cNvPicPr/>
          <p:nvPr/>
        </p:nvPicPr>
        <p:blipFill>
          <a:blip r:embed="rId6"/>
          <a:stretch/>
        </p:blipFill>
        <p:spPr>
          <a:xfrm>
            <a:off x="1801800" y="4224240"/>
            <a:ext cx="2911320" cy="256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Admin\Pictures\та\Безымянный3.gif"/>
          <p:cNvPicPr/>
          <p:nvPr/>
        </p:nvPicPr>
        <p:blipFill>
          <a:blip r:embed="rId7"/>
          <a:stretch/>
        </p:blipFill>
        <p:spPr>
          <a:xfrm>
            <a:off x="2095560" y="2133720"/>
            <a:ext cx="2322360" cy="203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C:\Users\Admin\Pictures\та\Безымянный6.gif"/>
          <p:cNvPicPr/>
          <p:nvPr/>
        </p:nvPicPr>
        <p:blipFill>
          <a:blip r:embed="rId8"/>
          <a:stretch/>
        </p:blipFill>
        <p:spPr>
          <a:xfrm>
            <a:off x="5989680" y="1658880"/>
            <a:ext cx="26938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-42141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гра «Какое животное есть во всех этих сказках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ыбрать изображение животного, которое есть в сказках, иллюстрации к которым представлены на слайде, выбрав одну картинку из трё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сширять представления об окружающем ми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формировать интерес к сказк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звивать внимание,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гра «Угадай зве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равильно определить животное, часть которого изображена на слайде, выбрав одну картинку из трё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сширять представления об окружающем ми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звивать мышление, внимание,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гра «Отгадай загад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формировать умения отгадывать загад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сширять представления об окружающем ми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звивать мышление, внимание,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особие состоит из текста стихотворения С.Маршака «Где обедал, воробей?» и дидактических игр по его содерж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гра:«Где побывал воробей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равильно определить место, о котором говорится в стихотворении, выбрав одну картинку из трё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сширять представления об окружающем ми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звивать внимание,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гра: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«Что ели звер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формировать умения отгадывать загад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сширять представления об окружающем ми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звивать мышление, внимание,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гра: «Чей детёныш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равильно определить животное, детёныш которого изображён,выбрав одну картинку из трё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сширять представления об окружающем ми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звивать внимание,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Segoe Print"/>
                <a:ea typeface="DejaVu Sans"/>
              </a:rPr>
              <a:t>Где обедал, воробей</a:t>
            </a:r>
            <a:r>
              <a:rPr b="0" lang="en-US" sz="4000" spc="-1" strike="noStrike">
                <a:solidFill>
                  <a:srgbClr val="ffff00"/>
                </a:solidFill>
                <a:latin typeface="Segoe Print"/>
                <a:ea typeface="DejaVu Sans"/>
              </a:rPr>
              <a:t>?</a:t>
            </a:r>
            <a:br>
              <a:rPr sz="4000"/>
            </a:br>
            <a:r>
              <a:rPr b="1" lang="ru-RU" sz="2800" spc="-1" strike="noStrike">
                <a:solidFill>
                  <a:srgbClr val="ffff00"/>
                </a:solidFill>
                <a:latin typeface="Segoe Print"/>
              </a:rPr>
              <a:t>В зоопарке у зв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Электронно-методическая разработка для детей 4-5 лет 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Где обедал воробе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ГБДОУ №29 Василеостровского района Санкт-Петербург Воспитатель: Ерилина Т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962520" cy="3695760"/>
          </a:xfrm>
          <a:prstGeom prst="rect">
            <a:avLst/>
          </a:prstGeom>
          <a:ln w="0">
            <a:noFill/>
          </a:ln>
        </p:spPr>
      </p:pic>
    </p:spTree>
  </p:cSld>
  <p:transition advTm="7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Текст 6"/>
          <p:cNvSpPr/>
          <p:nvPr/>
        </p:nvSpPr>
        <p:spPr>
          <a:xfrm>
            <a:off x="2627280" y="333360"/>
            <a:ext cx="404172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105e"/>
                </a:solidFill>
                <a:latin typeface="Segoe Print"/>
                <a:ea typeface="Shruti"/>
              </a:rPr>
              <a:t>Пообедал я спер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105e"/>
                </a:solidFill>
                <a:latin typeface="Segoe Print"/>
                <a:ea typeface="Shruti"/>
              </a:rPr>
              <a:t>за решеткою у ль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6443640" y="4437000"/>
            <a:ext cx="228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ы рукой его не трон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ива есть, но он не ко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т копыт, а есть кл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на лапах коготки. </a:t>
            </a:r>
            <a:r>
              <a:rPr b="1" lang="ru-RU" sz="1600" spc="-1" strike="noStrike">
                <a:solidFill>
                  <a:srgbClr val="5e2d37"/>
                </a:solidFill>
                <a:latin typeface="Calibri"/>
              </a:rPr>
              <a:t>(л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Admin\Pictures\та\Безымянный1.gif"/>
          <p:cNvPicPr/>
          <p:nvPr/>
        </p:nvPicPr>
        <p:blipFill>
          <a:blip r:embed="rId2"/>
          <a:stretch/>
        </p:blipFill>
        <p:spPr>
          <a:xfrm>
            <a:off x="455760" y="1522440"/>
            <a:ext cx="550548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476280"/>
            <a:ext cx="77770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0066"/>
                </a:solidFill>
                <a:latin typeface="Segoe Print"/>
              </a:rPr>
              <a:t>Подкрепился у лис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857560" y="2708280"/>
            <a:ext cx="2971800" cy="364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аг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вост пушистый бережё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зверюшек  стережёт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нают, рыжую в лесу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чень хитрую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Admin\Pictures\та\Безымянный2.gif"/>
          <p:cNvPicPr/>
          <p:nvPr/>
        </p:nvPicPr>
        <p:blipFill>
          <a:blip r:embed="rId2"/>
          <a:stretch/>
        </p:blipFill>
        <p:spPr>
          <a:xfrm>
            <a:off x="609480" y="1752480"/>
            <a:ext cx="4953240" cy="436248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00040" y="3643200"/>
            <a:ext cx="406872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г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льдин рыбёшку ищ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ловец – каких не сыщеш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чего же зверь хорош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дкий сильный этот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(мор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640" y="549360"/>
            <a:ext cx="675648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6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У моржа попил       вод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164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C:\Users\Admin\Pictures\та\Безымянный3.gif"/>
          <p:cNvPicPr/>
          <p:nvPr/>
        </p:nvPicPr>
        <p:blipFill>
          <a:blip r:embed="rId2"/>
          <a:stretch/>
        </p:blipFill>
        <p:spPr>
          <a:xfrm>
            <a:off x="4238640" y="2286000"/>
            <a:ext cx="4981680" cy="436248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4039920" cy="46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г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 – как хвост, под ним – р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столбом н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 огромный, словно д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это? Конечно ...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(сл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520" y="304920"/>
            <a:ext cx="677232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3300"/>
                </a:solidFill>
                <a:latin typeface="Segoe Print"/>
              </a:rPr>
              <a:t>Ел морковку у сл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Admin\Pictures\та\Безымянный4.gif"/>
          <p:cNvPicPr/>
          <p:nvPr/>
        </p:nvPicPr>
        <p:blipFill>
          <a:blip r:embed="rId2"/>
          <a:stretch/>
        </p:blipFill>
        <p:spPr>
          <a:xfrm>
            <a:off x="4191120" y="2695680"/>
            <a:ext cx="4829040" cy="41623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3T12:52:58Z</dcterms:created>
  <dc:creator>татьяна</dc:creator>
  <dc:description/>
  <dc:language>en-US</dc:language>
  <cp:lastModifiedBy>Admin</cp:lastModifiedBy>
  <dcterms:modified xsi:type="dcterms:W3CDTF">2015-03-14T09:39:0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