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F53-462A-4DF2-B3F7-58B7A5AE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760-80D6-4C2F-89D7-F1B91EA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23E-6A51-4846-8D74-6E0EAEA3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A1D-EC94-4719-AC43-C67FB9D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4EF-B39F-4CE6-9934-45AE391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176-33E3-474E-9ED7-6B6C53C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5E2-1B2A-4C02-91BC-736E672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27C-35FD-4029-9FCB-6875C56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ECD-B348-4261-88FF-E5A3D16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87A-B813-47B3-9413-1AC3174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DD8-8CBA-4EB9-9727-620C23F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394-9DA7-4E3F-8DF3-7A1799E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659-66A9-4057-8438-9563B3C1F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593200" cy="640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6120" y="2122200"/>
            <a:ext cx="4368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Удивительный мир ск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Подготовила: Золотухина О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МБОУ СОШ ст. Дряз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84360" y="2289600"/>
            <a:ext cx="338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герои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нцузской сказки, которая получила с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звище благода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ному уб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ная ша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2997360"/>
            <a:ext cx="3311280" cy="180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56000" y="228780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ой к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нцузской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любил обув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как его за это прозв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т в сапо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5329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2813040"/>
            <a:ext cx="3311640" cy="19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10672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оиня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азки узн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лучше праздн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и неро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день р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эта героин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547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367200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68360" y="29901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3213000"/>
            <a:ext cx="468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Кто из героев русской народной сказки был хлебобулочным издели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64252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489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374328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20" y="333360"/>
            <a:ext cx="8809200" cy="626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92360" y="22510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Кто из сказочных геро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чень любил погов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Одна голова хорош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луч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мей Горыны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9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84360" y="2813040"/>
            <a:ext cx="331164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79640" y="202428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В какой русской народной сказке брат не послушался сестры, один раз нарушил санитарно-гигие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и жестоко за это поплати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стрица Алёнушка и братец Ива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2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340000" y="3213000"/>
            <a:ext cx="3456000" cy="172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61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2106720"/>
            <a:ext cx="43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герои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нцузской 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заним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валифицированным трудом,чистила печки и убиралась в д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ее за это прозвали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л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166760"/>
            <a:ext cx="8207280" cy="528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3673440" cy="176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5:27:24Z</dcterms:created>
  <dc:creator>User</dc:creator>
  <dc:description/>
  <dc:language>en-US</dc:language>
  <cp:lastModifiedBy>User</cp:lastModifiedBy>
  <dcterms:modified xsi:type="dcterms:W3CDTF">2015-01-08T16:38:08Z</dcterms:modified>
  <cp:revision>2</cp:revision>
  <dc:subject/>
  <dc:title>Слайд 1</dc:title>
</cp:coreProperties>
</file>