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946-18F3-4B95-A23D-9E02DB17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E28-65A4-4E03-9032-1A7E3888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7E9-8E40-45AA-A44C-98B20921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A21-0BFD-4D02-A16F-8279558B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918-DA72-4BB5-9E9B-4D8AB331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E2B-CA92-420C-9A2D-05DC4CDC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641-E923-4285-9B43-13720951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248-7205-48A3-B2CD-43CE94E0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006-4F93-4FFB-B492-040E583E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677-BF0A-47FA-B560-F479803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482-C63C-4DCD-B981-EC9F6EB7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BDF-4A80-4233-9E4F-6466CC79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ED6F-3643-40F2-A43D-1E7314124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iki.vspu.ru/_media/workroom/ia21-2010/karpov_veliyeva_semenova/22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s.allvrn.ru/uploads/albums/9c/6b/0ab59df22a6dd5fb063266f8a804-600x600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astmaster.ru/uploads/posts/2009-11/1257656999_rxuscaftwyxpigz.jpe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xrest.ru/images/collection/00744/268/original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xrest.ru/images/collection/00168/592/original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kontorakuka.ru/countries/northamerica/brazil/jpeg/amaz11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s4576.vkontakte.ru/u103990832/139816560/x_fc79f9fe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a5.sphotos.ak.fbcdn.net/hphotos-ak-snc7/305171_269180819775275_187554077937950_1127340_3158197_n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papers.ru/wallpapers/Plants/9768/download/1280x720_&#1056;&#1072;&#1079;&#1085;&#1086;&#1094;&#1074;&#1077;&#1090;&#1085;&#1072;&#1103;-&#1083;&#1080;&#1089;&#1090;&#1074;&#1072;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ybkovskaya.ru/wp-content/uploads/2012/01/pomoshhniki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0igr.net/datas/obschestvoznanie/Trudovoe-vospitanie/0004-004-CHto-takoe-trudovoe-vospitani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5952.vkontakte.ru/u12737042/-14/x_65c81af8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dolonki.com.ua/images/advices_36_1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itnichonok.ru/sites/sitnichonok.ru/files/images/2012/04/1281521572_uborka_1_%5B1%5D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900igr.net/datas/obschestvoznanie/Trudovoe-vospitanie/0006-006-V-trudovom-vospitanii-shkolnikov-vydeljajut-tri-osnovnykh-napravlenija-k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asi.net/uploads/podbor/z3907/istorijh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33abc.ru/images/interesnoe/kompyuterniye_igry_dlya_detey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2/74/569/74569418_large_1_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g0.liveinternet.ru/images/attach/c/1/63/980/63980441_list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Алла Николаевна\Pictures\MP Navigator EX\осень.jpg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 и экологическое воспитание детей на уроках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6760" y="3142800"/>
            <a:ext cx="82868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для меня – огонь, вода, ветер, камень, растение, животные – все это части разбитого единого существа. А человек в природе – это разум, накопляющий силу, чтобы собрать всю природу в единстве.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 Пришв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iki.vspu.ru/_media/workroom/ia21-2010/karpov_veliyeva_semenova/2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0"/>
            <a:ext cx="54295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2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уро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071720"/>
            <a:ext cx="86439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 путешеств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 сказ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-исследование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Здоровья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КВН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экскурс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 празд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uploads.allvrn.ru/uploads/albums/9c/6b/0ab59df22a6dd5fb063266f8a804-600x6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4480" y="2857680"/>
            <a:ext cx="56419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fastmaster.ru/uploads/posts/2009-11/1257656999_rxuscaftwyxpigz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00040" y="1213920"/>
            <a:ext cx="80726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ний букет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: загадки об осени 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тихов об осени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погодой дн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: почему холодно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: примета октября –золотой листопад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е песни «Падают листья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 «Согреемся»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 С чьей ветки детки?»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- обобщение . Стих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природного материал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оробьи- Ворон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–экскурсия «Золотая осен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xrest.ru/images/collection/00744/268/original.jpg">
            <a:hlinkClick r:id="rId1"/>
          </p:cNvPr>
          <p:cNvPicPr/>
          <p:nvPr/>
        </p:nvPicPr>
        <p:blipFill>
          <a:blip r:embed="rId2"/>
          <a:stretch/>
        </p:blipFill>
        <p:spPr>
          <a:xfrm rot="1130400">
            <a:off x="6609960" y="279000"/>
            <a:ext cx="2165400" cy="263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92844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каких птиц есть «детский сад»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каких птиц не перья, а чешу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звери лет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6858000" y="1643040"/>
            <a:ext cx="57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http://www.xrest.ru/images/collection/00168/592/original.jpg">
            <a:hlinkClick r:id="rId3"/>
          </p:cNvPr>
          <p:cNvPicPr/>
          <p:nvPr/>
        </p:nvPicPr>
        <p:blipFill>
          <a:blip r:embed="rId4"/>
          <a:stretch/>
        </p:blipFill>
        <p:spPr>
          <a:xfrm rot="20650800">
            <a:off x="279360" y="2998800"/>
            <a:ext cx="3489480" cy="2540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http://www.kontorakuka.ru/countries/northamerica/brazil/jpeg/amaz11.jpg">
            <a:hlinkClick r:id="rId5"/>
          </p:cNvPr>
          <p:cNvPicPr/>
          <p:nvPr/>
        </p:nvPicPr>
        <p:blipFill>
          <a:blip r:embed="rId6"/>
          <a:stretch/>
        </p:blipFill>
        <p:spPr>
          <a:xfrm rot="778800">
            <a:off x="4641480" y="3757680"/>
            <a:ext cx="34066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://cs4576.vkontakte.ru/u103990832/139816560/x_fc79f9fe.jpg">
            <a:hlinkClick r:id="rId1"/>
          </p:cNvPr>
          <p:cNvPicPr/>
          <p:nvPr/>
        </p:nvPicPr>
        <p:blipFill>
          <a:blip r:embed="rId2"/>
          <a:stretch/>
        </p:blipFill>
        <p:spPr>
          <a:xfrm rot="19794600">
            <a:off x="281160" y="3249360"/>
            <a:ext cx="3714480" cy="269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a5.sphotos.ak.fbcdn.net/hphotos-ak-snc7/305171_269180819775275_187554077937950_1127340_3158197_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97560" y="357120"/>
            <a:ext cx="2746440" cy="3571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56760" y="857160"/>
            <a:ext cx="63579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светофо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зелёному друг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благодарит и серди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http://wpapers.ru/wallpapers/Plants/9768/download/1280x720_%D0%A0%D0%B0%D0%B7%D0%BD%D0%BE%D1%86%D0%B2%D0%B5%D1%82%D0%BD%D0%B0%D1%8F-%D0%BB%D0%B8%D1%81%D1%82%D0%B2%D0%B0.jpg">
            <a:hlinkClick r:id="rId5"/>
          </p:cNvPr>
          <p:cNvPicPr/>
          <p:nvPr/>
        </p:nvPicPr>
        <p:blipFill>
          <a:blip r:embed="rId6"/>
          <a:stretch/>
        </p:blipFill>
        <p:spPr>
          <a:xfrm rot="1252200">
            <a:off x="4376520" y="3303720"/>
            <a:ext cx="44020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тихи для обсу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1424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. Ладонн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карь в лес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зяйка белочка в лесу орехи собир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а в лесу там каждый сук и каждый кустик зна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жды в лес противный тип пришёл с большой  котомк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брежно сбил ногою гриб и выругался громк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л гнуть орешину- сломал , зажал под мышкой ветк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шёл один орех – сорвал , сорвал  второй и трет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бросил куст и как медведь пошёл себе довольны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бедной белке и смотреть на это было больн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ираем правила вежливост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сови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760" y="10713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и не ломайте, деревья не калечьте , ни травинку ни лист зря не рв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 можно поиграть,  пошуметь, листьями  побросаться , венки сплести. Подумаешь - много зелени - ещё выраст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mg-fotki.yandex.ru/get/5606/59733898.8d9/0_8f18e_f66bfcf7_XL"/>
          <p:cNvPicPr/>
          <p:nvPr/>
        </p:nvPicPr>
        <p:blipFill>
          <a:blip r:embed="rId1"/>
          <a:stretch/>
        </p:blipFill>
        <p:spPr>
          <a:xfrm>
            <a:off x="2714760" y="3714840"/>
            <a:ext cx="400032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блемн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785520"/>
            <a:ext cx="69292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 вопро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задач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убка деревь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лки мусо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воздух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коньерство и заповедн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первоцве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тьё машин на берегу реки Мечётк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masaustu-resimleri.com/d/5395-2/Sonbahar+Resimleri.jpg"/>
          <p:cNvPicPr/>
          <p:nvPr/>
        </p:nvPicPr>
        <p:blipFill>
          <a:blip r:embed="rId1"/>
          <a:stretch/>
        </p:blipFill>
        <p:spPr>
          <a:xfrm rot="1339800">
            <a:off x="4962600" y="1612800"/>
            <a:ext cx="37846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люд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0040" y="7855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ть интерес к объекту наблю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 рассмотреть объек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знания детей об объек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900igr.net/data/chelovek/Pravila-v-lesu.files/0004-012-Ne-razorjajte-muravejniki.jpg"/>
          <p:cNvPicPr/>
          <p:nvPr/>
        </p:nvPicPr>
        <p:blipFill>
          <a:blip r:embed="rId1"/>
          <a:stretch/>
        </p:blipFill>
        <p:spPr>
          <a:xfrm rot="21343800">
            <a:off x="236520" y="2930040"/>
            <a:ext cx="4003560" cy="2667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hetnatuurstation.nl/upload/lichtkrant/156.jpg"/>
          <p:cNvPicPr/>
          <p:nvPr/>
        </p:nvPicPr>
        <p:blipFill>
          <a:blip r:embed="rId2"/>
          <a:stretch/>
        </p:blipFill>
        <p:spPr>
          <a:xfrm rot="423600">
            <a:off x="4994280" y="3022200"/>
            <a:ext cx="4000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tdznak.ru/images/albums/polygraphy8/o4en_tonkie_linii_izobrajeniy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логия и компью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4200" y="1071360"/>
            <a:ext cx="8444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рол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ы при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 природных я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ведении живот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иродных катаклиз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рисунками: сайт «Каля-Мал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571680"/>
            <a:ext cx="75722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ривычки к труду дети не обучатся ни письму, ни музыке, ни гимнастике…, ни стыду – самой наибольшей человеческой добродете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ит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rybkovskaya.ru/wp-content/uploads/2012/01/pomoshhniki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2857680"/>
            <a:ext cx="3476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900igr.net/datas/obschestvoznanie/Trudovoe-vospitanie/0004-004-CHto-takoe-trudovoe-vospita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машние поручения дет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714240"/>
            <a:ext cx="9144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борка кварти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вести порядок на своем столе, в своей комна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ботится о младших де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ить за чистотой обу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носить мус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мить домашних животных ,птиц , рыб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лять с собакой , кош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упать несложные покупки  (хлеб, молоко , соль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рать свои мелкие ве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cs5952.vkontakte.ru/u12737042/-14/x_65c81af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3643200"/>
            <a:ext cx="4286160" cy="2705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dolonki.com.ua/images/advices_36_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240" y="44290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е советы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кайте ребёнка как можно раньше в простые виды тру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Каждый член семьи и ребёнок должен иметь обязанности по обслуживанию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Дайте ребё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оручение 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 он отвеч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Научите, помогите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те не раз как на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ызывайте у ребё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удовлетвор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ему радость труда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а в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ics.livejournal.com/vsemoi/pic/000erg2b"/>
          <p:cNvPicPr/>
          <p:nvPr/>
        </p:nvPicPr>
        <p:blipFill>
          <a:blip r:embed="rId1"/>
          <a:stretch/>
        </p:blipFill>
        <p:spPr>
          <a:xfrm>
            <a:off x="3683160" y="1643040"/>
            <a:ext cx="54608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999720"/>
            <a:ext cx="5214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Внимательно оцените работу , поощряйте за старательность и  прилежание  .Э то укрепляет в ребёнке веру в свои си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Учите ребёнка уважать труд других людей , бережно относится к результатам их тру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Рассказывайте детям о своей работе и работе своих друзей , знаком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Чаще поощряйте детей за самостоятельность  , инициативу  ,качество выполненной работы .Если не всё получилось- не раздражайтесь , а терпеливо объясняйте ещё ра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Не наказывайте за плохой труд , а дайте возможность исправить ошиб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357120" y="2142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е советы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itnichonok.ru/sites/sitnichonok.ru/files/images/2012/04/1281521572_uborka_1_%5B1%5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7840"/>
            <a:ext cx="385776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45957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900igr.net/datas/obschestvoznanie/Trudovoe-vospitanie/0006-006-V-trudovom-vospitanii-shkolnikov-vydeljajut-tri-osnovnykh-napravlenija-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адай профессию»  (по движения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твёртое лишне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быстрее и точне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он» ( а------м , ш---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ый кружо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колотый кувши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vasi.net/uploads/podbor/z3907/istorij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43160"/>
            <a:ext cx="2498760" cy="371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33abc.ru/images/interesnoe/kompyuterniye_igry_dlya_dete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2571840"/>
            <a:ext cx="27860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рудовые 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5840" y="785520"/>
            <a:ext cx="8858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ружн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 организова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 в порядке своё рабочее мес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бережлив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, люби и охраняй родную прир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img0.liveinternet.ru/images/attach/c/2/74/569/74569418_large_1_1.jpg">
            <a:hlinkClick r:id="rId1"/>
          </p:cNvPr>
          <p:cNvPicPr/>
          <p:nvPr/>
        </p:nvPicPr>
        <p:blipFill>
          <a:blip r:embed="rId2"/>
          <a:stretch/>
        </p:blipFill>
        <p:spPr>
          <a:xfrm rot="21117600">
            <a:off x="663120" y="3868200"/>
            <a:ext cx="3397320" cy="2568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img0.liveinternet.ru/images/attach/c/1/63/980/63980441_list.jpg">
            <a:hlinkClick r:id="rId3"/>
          </p:cNvPr>
          <p:cNvPicPr/>
          <p:nvPr/>
        </p:nvPicPr>
        <p:blipFill>
          <a:blip r:embed="rId4"/>
          <a:stretch/>
        </p:blipFill>
        <p:spPr>
          <a:xfrm rot="526200">
            <a:off x="6079680" y="3794040"/>
            <a:ext cx="27781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6:48:16Z</dcterms:created>
  <dc:creator>Алла Николаевна</dc:creator>
  <dc:description/>
  <dc:language>en-US</dc:language>
  <cp:lastModifiedBy>Алла Николаевна</cp:lastModifiedBy>
  <dcterms:modified xsi:type="dcterms:W3CDTF">2012-10-18T06:56:29Z</dcterms:modified>
  <cp:revision>47</cp:revision>
  <dc:subject/>
  <dc:title>Трудовое и экологическое воспитание детей на уроках.</dc:title>
</cp:coreProperties>
</file>