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826-7399-42E1-B2AB-A77E2FEE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48D-B9B9-43B1-9985-D035B8C4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315-AA09-49A6-97E4-DD0CDD80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DE8-E552-429A-8C71-33F7BE4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DE78-1D1A-4772-AE67-E08881F3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0877-00F3-41F5-9C2B-1BFD04DE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55D9-CA24-4FEB-9E3E-67BFAB0F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272E-9554-448B-BC2F-202F5663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0D06-5782-4177-A18B-3260003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D4B7-2FED-4C78-9AAE-2C791D9F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559C-2500-4880-B6DF-9DD8591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D3F-DE50-4576-BD38-A1EF0AE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7DE9-62D4-4D2C-9A2A-E026CCB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7D9-C7EA-4D6C-A968-F88FAFF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D9D6-DBEA-4A5C-9340-9DAD856F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26D3-0CF4-41DE-A230-5B60DD12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1D0-5935-4C0A-BCD4-E102C36F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27D7-5DF5-4074-A7C6-704D8242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B6FB-AA5C-446F-BA1D-9E1EBB6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15B3-910C-4C06-A05C-1FD53597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5DE2-4A43-446B-864E-4CDE4DBA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6013-62AA-4662-829A-E9FFE2B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685-605F-414F-8C1B-00E89BE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E817-1004-47D8-848F-7BEF778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FEF8-E4E3-47AB-9300-3932EAFD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6ED6-8775-4F8C-9812-41FE776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BEC2-D9B8-41BD-81C0-FAB6DC7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3988-BCEB-4AD6-9D29-001F9626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1695-B246-4566-B1B6-D1ECD8F8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3BFB-1C00-43BE-BBD3-ED0D2F2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D4F0-BB52-4019-9519-6BEF29FE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86BE-563C-432F-9028-6A7BE38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8CB3-8410-4F14-B996-E5ADD6E0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3AF-E0BF-4B1C-8BE2-F9CA294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B587-8395-45C4-B2BD-51509A2A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F365-B3B2-4582-9494-C65ECFC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61CD-D5F5-49DD-AA2E-DC6D6761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71DC-1557-452B-82CD-775BD7D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BCA5-2C59-4937-9028-2CB602C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D82E-E360-4F7F-B37B-9D53850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1E19-E49E-4047-8950-45EFABD0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7F4F-2483-44E9-84B2-063DBE1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EABF2-C262-4314-AAE2-3D5FB240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911-63AB-4901-BD5C-1F4AA01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FC9-C725-446E-8122-02431594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949-7B32-481E-BF86-ECF440C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582-9A76-4AB4-A0D0-D2A83FF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C93-33E6-4230-B67F-1394ECF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AAFA-FE73-4BEA-B80D-03369226D7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67D-8A36-407E-9ED4-0526E52D82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AC9D-62F6-4880-8DB7-1B9AF9943D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F9F3-7B35-4970-B94B-C6C39A4CD6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163600" y="291960"/>
            <a:ext cx="5969160" cy="3700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 Верещагин  Дмитри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ащийся 6 «Б«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1499760"/>
            <a:ext cx="4748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ыявить влияние биологического пола человека на его речевое поведени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105520" y="207180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учить научные статьи отечественных и зарубежных лингвистов об отличительных особенностях мужской и женской реч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сти исследование среди одноклассников и выявить различия в их реч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D:\Мои документы\Яшина В. В\IMG_001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ужская и женская реч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ужская и женская речь - условное название лексических предпочтений и некоторых других особенностей употребления языка в зависимости от пола говорящего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личительные особенности мужской и женской реч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2060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ужчины лучше общаются, когда знают цель разгово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ужчины больше говорят о спорте, политике, работе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ужчины больше любят говорить о своих успехах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ужчины используют больше существительных и глагол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ля женщин важен процесс общения для мужчин - результа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лабость многих женщин - поболтать о доме, обновах, мод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 женщины- о своих неудач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Женщины в своей речи чаще употребляют  прилагательные и нареч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ля женской речи характерно использование слов с уменьшительно-ласкательными суффикс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личительные особенности мужской и женской реч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Женщина реже, чем мужчина ,перебивает собеседн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Женщина слушает внимательно, намного дольше, чем мужчи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 разговоре женщины чаще мужчин улыбаются и смотрят в глаза. Мужчины, разговаривая, часто смотрят в сторон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:\Мои документы\Яшина В. В\IMG_0016.JPG"/>
          <p:cNvPicPr/>
          <p:nvPr/>
        </p:nvPicPr>
        <p:blipFill>
          <a:blip r:embed="rId2"/>
          <a:stretch/>
        </p:blipFill>
        <p:spPr>
          <a:xfrm>
            <a:off x="826920" y="333360"/>
            <a:ext cx="78962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7:48:29Z</dcterms:created>
  <dc:creator>Zavuch</dc:creator>
  <dc:description/>
  <dc:language>en-US</dc:language>
  <cp:lastModifiedBy>Елена</cp:lastModifiedBy>
  <dcterms:modified xsi:type="dcterms:W3CDTF">2015-03-14T08:19:02Z</dcterms:modified>
  <cp:revision>13</cp:revision>
  <dc:subject/>
  <dc:title>Сопоставление особенностей мужской и женской речи</dc:title>
</cp:coreProperties>
</file>