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10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411-178D-47BF-AD7A-94D63E96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C6D-6B93-4413-BA06-C54ABDEE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2C4-CBD8-4123-8365-E96EA344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9F5-D66D-4BC8-AE0D-320F9DE2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5AA5-581E-4DE7-B34A-4571A594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500F-81BD-4827-AD2F-3168C1CF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7BEB-8CA3-4319-A07C-DE34DB04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00F9-D562-464B-B3D1-7F0CAD37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0F0B-065F-40D7-BE9C-5A3F732E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FDAC-9DCC-475D-9C58-3EB07DD6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8C1B-2274-4C27-B63C-37203DFC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4E2-32F2-49AB-AB44-45AE852C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28B0-F3A9-490C-8D52-1212EC9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9BFE-E623-45EB-83D1-64B1C6C1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314F-0EFC-403A-8DA9-4D22BC81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2F11-CF92-415C-9547-6BF632E3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A5B1-166A-4505-A61C-25FDA908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3F1-2CF1-4978-B1B2-1682BB88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C22-40D6-4AC1-999C-DC421192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339-F98B-4729-A5A9-713C8C0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738-3BC0-4E99-A21B-0BF130AC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D00-F3DF-431C-BB1B-4C229EAA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8AA-FDE4-4E6A-B71A-19A32C89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6CA-8D4C-411D-93FE-013E8DFF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3F69-1C67-4E11-9F12-32AE8607BF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FABD-27DD-4EFD-A643-9D544F8333B4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5398920" cy="43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176"/>
                </a:solidFill>
                <a:latin typeface="Times New Roman"/>
              </a:rPr>
              <a:t>Культура ведения публичного спора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4" name="Picture 6" descr="MCj02307470000[1]"/>
          <p:cNvPicPr/>
          <p:nvPr/>
        </p:nvPicPr>
        <p:blipFill>
          <a:blip r:embed="rId1"/>
          <a:stretch/>
        </p:blipFill>
        <p:spPr>
          <a:xfrm>
            <a:off x="4140360" y="3489480"/>
            <a:ext cx="47163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изнаки дискуссии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Дискуссионная тема с наличием противоположных точек зрени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Веду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Публицистический или научный стиль реч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Аргументация в речи спорящих с целью доказательства своей точки зрени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Для активного и плодотворного участия в дискуссии необходимо: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424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383a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быть компетентным в обсуждаемом вопросе;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383a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уметь работать с информацией на разных носителях, чтобы оперативно дополнить свои знания недостающей информацией;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383a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иметь навыки общения в группах, участия в полилоге;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383a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быть толерантным к чужому мнению, не навязывая собственного мнения, стараясь понять позицию партнеров;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383a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уметь принимать совместные, коллективные решения.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2195640" y="2492280"/>
            <a:ext cx="5113080" cy="86544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Классификация дискуссионных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занятий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684360" y="981000"/>
            <a:ext cx="2232000" cy="86544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структурированные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дискусси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3492360" y="981000"/>
            <a:ext cx="2232000" cy="86544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дискуссии с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элементами игров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моделирования 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6300720" y="981000"/>
            <a:ext cx="2232000" cy="86544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проектные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дискусси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Line 8"/>
          <p:cNvSpPr/>
          <p:nvPr/>
        </p:nvSpPr>
        <p:spPr>
          <a:xfrm flipH="1" flipV="1">
            <a:off x="1908000" y="1773000"/>
            <a:ext cx="1151280" cy="8636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4643280" y="1844640"/>
            <a:ext cx="0" cy="7207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 flipV="1">
            <a:off x="6443640" y="1699920"/>
            <a:ext cx="865080" cy="8650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611280" y="4221000"/>
            <a:ext cx="2232000" cy="86544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командные дискуссии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(«дебаты»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3419640" y="4221000"/>
            <a:ext cx="2232000" cy="86544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групповые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дискуссии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(«круглый стол»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6227640" y="4221000"/>
            <a:ext cx="2232000" cy="86544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парные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дискуссии </a:t>
            </a:r>
            <a:br>
              <a:rPr sz="1800"/>
            </a:b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(«вертушка»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Line 14"/>
          <p:cNvSpPr/>
          <p:nvPr/>
        </p:nvSpPr>
        <p:spPr>
          <a:xfrm flipH="1">
            <a:off x="1763640" y="3284640"/>
            <a:ext cx="1728720" cy="10080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Line 15"/>
          <p:cNvSpPr/>
          <p:nvPr/>
        </p:nvSpPr>
        <p:spPr>
          <a:xfrm>
            <a:off x="4716360" y="3357720"/>
            <a:ext cx="0" cy="863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Line 16"/>
          <p:cNvSpPr/>
          <p:nvPr/>
        </p:nvSpPr>
        <p:spPr>
          <a:xfrm>
            <a:off x="5292720" y="3357720"/>
            <a:ext cx="2158920" cy="7920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Структурированная (регламентированная) дискуссия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Малые группы изучают какую-либо проблему (вопрос).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63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Состав группы: 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63600" indent="-363600">
              <a:lnSpc>
                <a:spcPct val="80000"/>
              </a:lnSpc>
              <a:spcBef>
                <a:spcPts val="649"/>
              </a:spcBef>
              <a:buClr>
                <a:srgbClr val="8383a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ведущий – организует обсуждение проблемы, привлекая членов группы.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63600" indent="-363600">
              <a:lnSpc>
                <a:spcPct val="80000"/>
              </a:lnSpc>
              <a:spcBef>
                <a:spcPts val="649"/>
              </a:spcBef>
              <a:buClr>
                <a:srgbClr val="8383a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аналитик – задает вопросы участникам в ходе обсуждения, подвергая сомнению высказываемые взгляды и идеи.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63600" indent="-363600">
              <a:lnSpc>
                <a:spcPct val="80000"/>
              </a:lnSpc>
              <a:spcBef>
                <a:spcPts val="649"/>
              </a:spcBef>
              <a:buClr>
                <a:srgbClr val="8383a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протоколист – фиксирует все то, что относится к проблеме, он же представляет позицию группы в заключительной части урока.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63600" indent="-363600">
              <a:lnSpc>
                <a:spcPct val="80000"/>
              </a:lnSpc>
              <a:spcBef>
                <a:spcPts val="649"/>
              </a:spcBef>
              <a:buClr>
                <a:srgbClr val="8383a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Times New Roman"/>
              </a:rPr>
              <a:t>наблюдатель – дает оценку участия каждого члена группы.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marL="363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Этапы проведения структурированной дискусс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Ориентировка (введение в тему)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становка макропроблемы. Проблемная ситуация. Разбивка на микропроблемы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Определение проблемных задач. Рекомендации по организации самостоятельной деятельности учащихся по отбору материал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редварительное обсуждение одной из микропроблем во всех группах сотрудничест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Коллективное обсуждение: открытые вопросы, проблемные ситуаци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Этапы проведения структурированной дискусс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Этап самостоятельной работы в группах по отбору и осмыслению материала по проблем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дготовка сравнительного анализа и выводов по обсуждаемой проблеме с использованием различных информационных источников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редставление промежуточных результатов обсуждения в малых группах перед всем коллективом и обсуждение результатов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Общая дискуссия. Подведение итогов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Дискуссия с элементами игрового моделирования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Смысл этого занятия, в отличие от предыдущего, заключается в том, чтобы взглянуть на поставленную проблему не просто с позиций современного человека, а под углом зрения представителей определенного социального лагеря (так, в дискуссии «Стоит ли уезжать из России?» участвуют писатели, эмигрировавшие из СССР в 60-80 гг. 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XX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века,  и те, кто в советское время остался в стране)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ектная дискусс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91712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Она основана на методе подготовки и защиты проекта по определенной теме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2" name="Picture 10" descr="MCj04154920000[1]"/>
          <p:cNvPicPr/>
          <p:nvPr/>
        </p:nvPicPr>
        <p:blipFill>
          <a:blip r:embed="rId1"/>
          <a:stretch/>
        </p:blipFill>
        <p:spPr>
          <a:xfrm>
            <a:off x="4859280" y="3213000"/>
            <a:ext cx="34941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труктура доказательств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Тезис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– основное положение, которое доказывается в споре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Аргументы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– доводы, положения, при помощи которых обосновывается тезис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4284720" y="2997360"/>
            <a:ext cx="0" cy="1368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Типы аргументов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Факты (статистические, научные, из жизни, из литературы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сылки на авторитеты (пословицы, поговорки, афоризмы, крылатые выражения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сылки за заведомо истинные суждения (аксиомы, законы, правила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8375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Спорь с человеком умнее тебя: он тебя победит..., но из самого твоего поражения ты можешь извлечь пользу для себя. Спорь с человеком ума равного: за кем бы ни осталась победа – ты по крайней мере испытаешь удовольствие борьбы. Спорь с человеком ума слабейшего... спорь не из желания победы; но ты можешь быть ему полезным. Спорь даже с глупцом; ни славы, ни выгоды ты не добудешь, но отчего иногда не позабавиться?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И.С. Тургенев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пособы доказательств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383ad"/>
                </a:solidFill>
                <a:latin typeface="Times New Roman"/>
              </a:rPr>
              <a:t>Прямое</a:t>
            </a:r>
            <a:r>
              <a:rPr b="0" lang="ru-RU" sz="4000" spc="-1" strike="noStrike">
                <a:solidFill>
                  <a:srgbClr val="8383ad"/>
                </a:solidFill>
                <a:latin typeface="Times New Roman"/>
              </a:rPr>
              <a:t> – тезис обосновывается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625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Times New Roman"/>
              </a:rPr>
              <a:t>аргументами.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625320" indent="-442800">
              <a:spcBef>
                <a:spcPts val="799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Тезис: данное растение – кактус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25320" indent="-442800">
              <a:spcBef>
                <a:spcPts val="799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Факт: все кактусы – зеленые растени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25320" indent="-442800">
              <a:spcBef>
                <a:spcPts val="799"/>
              </a:spcBef>
              <a:buClr>
                <a:srgbClr val="8383a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ледовательно, и данное растение содержит хлорофилл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пособы доказательств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383ad"/>
                </a:solidFill>
                <a:latin typeface="Times New Roman"/>
              </a:rPr>
              <a:t>Косвенное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8383ad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Times New Roman"/>
              </a:rPr>
              <a:t>Метод «от противного»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8383ad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Times New Roman"/>
              </a:rPr>
              <a:t>Метод исключения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8383ad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Times New Roman"/>
              </a:rPr>
              <a:t>Приведение к абсурду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Косвенное доказательство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74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442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Метод «от противного»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- чтобы доказать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442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тезис, следует опровергнуть антитезис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501920" indent="-522360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AutoNum type="arabicPeriod"/>
              <a:tabLst>
                <a:tab algn="l" pos="442800"/>
                <a:tab algn="l" pos="54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Тезис: </a:t>
            </a:r>
            <a:r>
              <a:rPr b="0" i="1" lang="ru-RU" sz="2400" spc="-1" strike="noStrike">
                <a:solidFill>
                  <a:srgbClr val="8383ad"/>
                </a:solidFill>
                <a:latin typeface="Times New Roman"/>
              </a:rPr>
              <a:t>слово "борьба" по происхождению старославянское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2" marL="1501920" indent="-522360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AutoNum type="arabicPeriod"/>
              <a:tabLst>
                <a:tab algn="l" pos="442800"/>
                <a:tab algn="l" pos="54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Антитезис: </a:t>
            </a:r>
            <a:r>
              <a:rPr b="0" i="1" lang="ru-RU" sz="2400" spc="-1" strike="noStrike">
                <a:solidFill>
                  <a:srgbClr val="8383ad"/>
                </a:solidFill>
                <a:latin typeface="Times New Roman"/>
              </a:rPr>
              <a:t>слово "борьба" не является общеславянским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2" marL="1501920" indent="-522360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AutoNum type="arabicPeriod"/>
              <a:tabLst>
                <a:tab algn="l" pos="442800"/>
                <a:tab algn="l" pos="54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Опровержение антитезиса: если бы слово не было общеславянским, оно бы не употреблялось во всех славянских языках. Но слово "борьба" зафиксировано в украинском, белорусском, болгарском и других славянских языках. Следовательно, правилен тезис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442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44280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Косвенное доказательство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8200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Метод исключения 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– истинность тезиса доказывается с помощью выявления ложности всех возможных альтернатив, кроме одной – тезис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425600" indent="-457200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реступление совершили либо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, либо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, либо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2" marL="1425600" indent="-457200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Доказано, что ни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, ни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на совершали его, так как у них есть алиби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2" marL="1425600" indent="-457200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ледовательно, преступление совершил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(у которого нет алиби)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Косвенное доказательство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Приведение к абсурду 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– если допустить, что верен антитезис, получается абсурд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- Стало быть, по-вашему, убеждений нет? </a:t>
            </a:r>
            <a:br>
              <a:rPr sz="2800"/>
            </a:b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- Нет, и не существует. </a:t>
            </a:r>
            <a:br>
              <a:rPr sz="2800"/>
            </a:b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- Это ваше убеждение? </a:t>
            </a:r>
            <a:br>
              <a:rPr sz="2800"/>
            </a:b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- Да. </a:t>
            </a:r>
            <a:br>
              <a:rPr sz="2800"/>
            </a:b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- Как же вы говорите, что их нет? Вот вам одно на первый случай.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авила ведения спор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1342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8120" indent="-438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Определите предмет обсуждения и не теряйте его в процессе спора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38120" indent="-438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Четко определите свою позицию и будьте убеждены в том, что утверждаете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38120" indent="-438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родумайте доказательство и аргументацию своей позиции, ответы на возможные возражения оппонентов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38120" indent="-438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Готовясь к обсуждению, уточните значение терминов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38120" indent="-438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Обращайте внимание на тактику оппонента. Соразмеряйте свои способности с его силами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38120" indent="-438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Умейте слушать, относитесь с уважением к доводам спорящего, не оскорбляйте его резкими словам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38120" indent="-438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ладейте невербальным языком общения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38120" indent="-4381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сихологически будьте готовы к различным нападка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пор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Всякое столкновение мнений, при котором каждая из сторон отстаивает свою правоту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48" name="Picture 1024" descr="MCj04262200000[1]"/>
          <p:cNvPicPr/>
          <p:nvPr/>
        </p:nvPicPr>
        <p:blipFill>
          <a:blip r:embed="rId1"/>
          <a:stretch/>
        </p:blipFill>
        <p:spPr>
          <a:xfrm>
            <a:off x="4859280" y="3429000"/>
            <a:ext cx="37926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иды споров по цели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Из-за истины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Из-за убеждения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Для победы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Ради спора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1" name="Picture 1024" descr="MCj02307520000[1]"/>
          <p:cNvPicPr/>
          <p:nvPr/>
        </p:nvPicPr>
        <p:blipFill>
          <a:blip r:embed="rId5"/>
          <a:stretch/>
        </p:blipFill>
        <p:spPr>
          <a:xfrm>
            <a:off x="4879800" y="2276640"/>
            <a:ext cx="34927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Виды споров по количеству участников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Спор-монолог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Спор-диалог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Спор-полилог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4" name="Picture 1" descr="MCj00889660000[1]"/>
          <p:cNvPicPr/>
          <p:nvPr/>
        </p:nvPicPr>
        <p:blipFill>
          <a:blip r:embed="rId4"/>
          <a:stretch/>
        </p:blipFill>
        <p:spPr>
          <a:xfrm>
            <a:off x="5292720" y="2637000"/>
            <a:ext cx="267192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Виды споров по форме проведения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Устные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Письменные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7" name="Picture 13" descr="MCj00889380000[1]"/>
          <p:cNvPicPr/>
          <p:nvPr/>
        </p:nvPicPr>
        <p:blipFill>
          <a:blip r:embed="rId3"/>
          <a:stretch/>
        </p:blipFill>
        <p:spPr>
          <a:xfrm>
            <a:off x="5651640" y="1989000"/>
            <a:ext cx="19969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Дискуссионная речь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Речь, возникающая во время спора, когда сталкиваются противоположные или разнообразные мнения и ставятся определенные цели – выяснить истину, убедить (переубедить) оппонента и др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Виды дискуссионно-речевой коммуникац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ДЕБАТЫ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– острое обсуждение какого-либо общественно или политически важного вопроса, обмен мнения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ДИСПУТ 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– организованное коллективное обсуждение важной проблемы (нравственной, политической, литературной и др.) с наличием разнообразных точек зрения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ПОЛЕМИКА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– острый спор, который предполагает однозначное решение того или иного вопрос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Виды дискуссионно-речевой коммуникац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ДИСКУССИЯ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– корректное по форме публичное обсуждение какого-либо спорного вопроса с целью достижения взаимоприемлемого решения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Picture 1024" descr="MCj01983390000[1]"/>
          <p:cNvPicPr/>
          <p:nvPr/>
        </p:nvPicPr>
        <p:blipFill>
          <a:blip r:embed="rId2"/>
          <a:stretch/>
        </p:blipFill>
        <p:spPr>
          <a:xfrm>
            <a:off x="5580000" y="3579840"/>
            <a:ext cx="30798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8:31:02Z</dcterms:created>
  <dc:creator>Аня</dc:creator>
  <dc:description/>
  <dc:language>en-US</dc:language>
  <cp:lastModifiedBy>cab125</cp:lastModifiedBy>
  <dcterms:modified xsi:type="dcterms:W3CDTF">2015-03-14T12:34:39Z</dcterms:modified>
  <cp:revision>16</cp:revision>
  <dc:subject/>
  <dc:title>Культура полемической речи</dc:title>
</cp:coreProperties>
</file>