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35.jpeg" ContentType="image/jpeg"/>
  <Override PartName="/ppt/media/image47.png" ContentType="image/png"/>
  <Override PartName="/ppt/media/image17.png" ContentType="image/png"/>
  <Override PartName="/ppt/media/image5.png" ContentType="image/png"/>
  <Override PartName="/ppt/media/image28.png" ContentType="image/pn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4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37.jpeg" ContentType="image/jpeg"/>
  <Override PartName="/ppt/media/image11.jpeg" ContentType="image/jpeg"/>
  <Override PartName="/ppt/media/image24.png" ContentType="image/png"/>
  <Override PartName="/ppt/media/image25.png" ContentType="image/png"/>
  <Override PartName="/ppt/media/image26.jpeg" ContentType="image/jpeg"/>
  <Override PartName="/ppt/media/image42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5.jpeg" ContentType="image/jpeg"/>
  <Override PartName="/ppt/media/image1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19.png" ContentType="image/png"/>
  <Override PartName="/ppt/media/image7.png" ContentType="image/png"/>
  <Override PartName="/ppt/media/image14.jpeg" ContentType="image/jpeg"/>
  <Override PartName="/ppt/media/image54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36.jpeg" ContentType="image/jpeg"/>
  <Override PartName="/ppt/media/image57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8.jpeg" ContentType="image/jpeg"/>
  <Override PartName="/ppt/media/image49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20.jpeg" ContentType="image/jpeg"/>
  <Override PartName="/ppt/media/image5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8D72F-BBE0-4189-A041-8159BC6D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4D17A-A7B4-46BA-8BA3-C2FB1DBF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4BFC7-1430-40AC-B100-DC745AEC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AAA79-5B2C-48B5-BC35-74BF8CCB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E8E0-B513-467F-8788-1493D1D9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206F-A6F1-4A50-A6AD-B906CFE8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2B01-2931-4D84-9FAA-C022D044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55CA-6C94-4BC0-AFE4-4F76F09B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BE9C-4ABA-4821-8DF6-20B01235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63A6-8483-41F2-905B-B0F3BEFC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97D8-5EA5-4579-AD5A-D31FEEE5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A959E-62D8-4B3D-B369-82B12100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B2D4-736A-4CBB-B03E-0C2D6AA6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0AFE-133A-4B8D-96DB-A074B90E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EF22-C83D-4316-852A-7F2E08C9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71A8-D9EF-46BE-A88F-86F1197F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FF0D-A784-44D7-A6AD-3D08B33A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E0F41-B546-4CA1-A150-F9A2CF81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287E6-6339-4632-84BF-D257AF44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16E79-E12B-47C4-8BD8-46CF7392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D5585-6F15-4BAD-A075-8B69B8F2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5E93F-7C5A-45E1-9D61-71826DFA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C77DE-8752-4CD5-B88F-16543E26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76F23-FCE9-47B9-9524-38112247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EF5F-9F30-4D46-98AE-E834823E0F0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7FF4-2DF7-4E36-AB37-2EC594BF62B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static.diary.ru/userdir/5/3/8/7/538797/24659775.jpg&amp;imgrefurl=http://www.diary.ru/~deutsch/p35818475.htm&amp;usg=__zIuW1ZVN4KzH_2NUejz1_Ap52P0=&amp;h=480&amp;w=800&amp;sz=7&amp;hl=ru&amp;start=13&amp;um=1&amp;tbnid=nsFnBNcanGmztM:&amp;tbnh=86&amp;tbnw=143&amp;prev=/images%3Fq%3D%25D1%2584%25D0%25BB%25D0%25B0%25D0%25B3%26gbv%3D2%26um%3D1%26hl%3Dru%26newwindow%3D1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ru/imgres?imgurl=http://www.strani.ru/st/ev/uk/ukflagb.gif&amp;imgrefurl=http://www.strani.ru/st/ev/uk/fl.htm&amp;usg=__-zzFYg4lVNPoB4NWrZcQvXX08-E=&amp;h=302&amp;w=603&amp;sz=6&amp;hl=ru&amp;start=14&amp;um=1&amp;tbnid=E1fmlC9mKynwjM:&amp;tbnh=68&amp;tbnw=135&amp;prev=/images%3Fq%3D%25D1%2584%25D0%25BB%25D0%25B0%25D0%25B3%26gbv%3D2%26um%3D1%26hl%3Dru%26newwindow%3D1%26sa%3DG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cc"/>
                </a:solidFill>
                <a:latin typeface="Tahoma"/>
              </a:rPr>
              <a:t>Quiz game</a:t>
            </a:r>
            <a:endParaRPr b="0" lang="en-US" sz="7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nglish-speaking countr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Авторы учителя английского языка ОСШ № 2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Замалетдинова Н.Ю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1219320" cy="933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428840" cy="1076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3"/>
          <a:stretch/>
        </p:blipFill>
        <p:spPr>
          <a:xfrm>
            <a:off x="468360" y="5373720"/>
            <a:ext cx="1238040" cy="923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4"/>
          <a:stretch/>
        </p:blipFill>
        <p:spPr>
          <a:xfrm>
            <a:off x="7020000" y="549360"/>
            <a:ext cx="1390680" cy="923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8208720" cy="214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What colour are 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the famous London buses?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double_decker"/>
          <p:cNvPicPr/>
          <p:nvPr/>
        </p:nvPicPr>
        <p:blipFill>
          <a:blip r:embed="rId1"/>
          <a:stretch/>
        </p:blipFill>
        <p:spPr>
          <a:xfrm>
            <a:off x="2843280" y="2349360"/>
            <a:ext cx="3297240" cy="4105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512720" cy="1135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3"/>
          <a:stretch/>
        </p:blipFill>
        <p:spPr>
          <a:xfrm>
            <a:off x="6877080" y="260280"/>
            <a:ext cx="1809720" cy="12067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Arial"/>
              </a:rPr>
              <a:t>RED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166760" y="2579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29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What is the name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of the street where 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Sherlock Holmes lived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7" name="Picture 11" descr=""/>
          <p:cNvPicPr/>
          <p:nvPr/>
        </p:nvPicPr>
        <p:blipFill>
          <a:blip r:embed="rId1"/>
          <a:stretch/>
        </p:blipFill>
        <p:spPr>
          <a:xfrm>
            <a:off x="5464080" y="3141720"/>
            <a:ext cx="3679920" cy="338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1773000"/>
            <a:ext cx="4486320" cy="17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ffcc"/>
                </a:solidFill>
                <a:latin typeface="Arial"/>
              </a:rPr>
              <a:t>Baker Street</a:t>
            </a:r>
            <a:endParaRPr b="0" lang="en-US" sz="57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4710240" y="0"/>
            <a:ext cx="4433760" cy="6647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3981600" y="2286000"/>
            <a:ext cx="5162400" cy="4572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97080" y="692280"/>
            <a:ext cx="8723160" cy="40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What is the name 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of the Queen 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in 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the UK 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now?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queenelizabethii"/>
          <p:cNvPicPr/>
          <p:nvPr/>
        </p:nvPicPr>
        <p:blipFill>
          <a:blip r:embed="rId1"/>
          <a:stretch/>
        </p:blipFill>
        <p:spPr>
          <a:xfrm>
            <a:off x="3203640" y="2781360"/>
            <a:ext cx="2733480" cy="3419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1914480" cy="1439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1871640" cy="1382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4"/>
          <a:stretch/>
        </p:blipFill>
        <p:spPr>
          <a:xfrm>
            <a:off x="7451640" y="404640"/>
            <a:ext cx="1038240" cy="1362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5"/>
          <a:stretch/>
        </p:blipFill>
        <p:spPr>
          <a:xfrm>
            <a:off x="7451640" y="4508640"/>
            <a:ext cx="1000080" cy="12855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8229600" cy="115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Elizabeth I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Name the sight on the pictur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2004840" cy="2403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3"/>
          <a:stretch/>
        </p:blipFill>
        <p:spPr>
          <a:xfrm>
            <a:off x="3564000" y="3141720"/>
            <a:ext cx="1735200" cy="2681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"/>
          <p:cNvPicPr/>
          <p:nvPr/>
        </p:nvPicPr>
        <p:blipFill>
          <a:blip r:embed="rId4"/>
          <a:stretch/>
        </p:blipFill>
        <p:spPr>
          <a:xfrm>
            <a:off x="1332000" y="3860640"/>
            <a:ext cx="1181160" cy="88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haroni"/>
              </a:rPr>
              <a:t>Big Ben</a:t>
            </a:r>
            <a:r>
              <a:rPr b="1" lang="en-US" sz="5400" spc="-1" strike="noStrike">
                <a:solidFill>
                  <a:srgbClr val="660033"/>
                </a:solidFill>
                <a:latin typeface="Arial"/>
                <a:ea typeface="Aharoni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Объект 15" descr=""/>
          <p:cNvPicPr/>
          <p:nvPr/>
        </p:nvPicPr>
        <p:blipFill>
          <a:blip r:embed="rId1"/>
          <a:stretch/>
        </p:blipFill>
        <p:spPr>
          <a:xfrm>
            <a:off x="4284720" y="2205000"/>
            <a:ext cx="2303280" cy="3821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http://im1-tub-ru.yandex.net/i?id=303599011-42-72&amp;n=21"/>
          <p:cNvPicPr/>
          <p:nvPr/>
        </p:nvPicPr>
        <p:blipFill>
          <a:blip r:embed="rId2"/>
          <a:stretch/>
        </p:blipFill>
        <p:spPr>
          <a:xfrm>
            <a:off x="324000" y="1844640"/>
            <a:ext cx="3816360" cy="4464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http://upload.wikimedia.org/wikipedia/en/thumb/9/90/Big-ben-modern.jpg/220px-Big-ben-modern.jpg"/>
          <p:cNvPicPr/>
          <p:nvPr/>
        </p:nvPicPr>
        <p:blipFill>
          <a:blip r:embed="rId3"/>
          <a:stretch/>
        </p:blipFill>
        <p:spPr>
          <a:xfrm>
            <a:off x="6754680" y="2637000"/>
            <a:ext cx="2095560" cy="2987640"/>
          </a:xfrm>
          <a:prstGeom prst="rect">
            <a:avLst/>
          </a:prstGeom>
          <a:ln w="0">
            <a:noFill/>
          </a:ln>
        </p:spPr>
      </p:pic>
    </p:spTree>
  </p:cSld>
  <p:transition advTm="22000"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68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68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6227640" y="4292640"/>
            <a:ext cx="1800360" cy="1195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2"/>
          <a:stretch/>
        </p:blipFill>
        <p:spPr>
          <a:xfrm>
            <a:off x="3857760" y="295272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3"/>
          <a:stretch/>
        </p:blipFill>
        <p:spPr>
          <a:xfrm>
            <a:off x="900000" y="4149720"/>
            <a:ext cx="1343160" cy="8953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91520" cy="207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What is the capital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of the USA?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2343240" cy="1573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5508720" y="2421000"/>
            <a:ext cx="2070000" cy="1247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3"/>
          <a:stretch/>
        </p:blipFill>
        <p:spPr>
          <a:xfrm>
            <a:off x="3132000" y="4149720"/>
            <a:ext cx="2300400" cy="1476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Washington, D.C.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3640" y="907560"/>
            <a:ext cx="8218440" cy="358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What does the abbreviation The UK mean?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4716360" y="2781360"/>
            <a:ext cx="3959280" cy="3168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62800" cy="27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How many states </a:t>
            </a:r>
            <a:br>
              <a:rPr sz="6000"/>
            </a:b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are there in </a:t>
            </a:r>
            <a:br>
              <a:rPr sz="6000"/>
            </a:b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the USA?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ahoma"/>
              </a:rPr>
              <a:t>50 states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6012000" y="4456080"/>
            <a:ext cx="2220840" cy="1362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826920" y="3979800"/>
            <a:ext cx="2089440" cy="1447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3419640" y="2349360"/>
            <a:ext cx="2082600" cy="1568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435880" cy="451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ahoma"/>
              </a:rPr>
              <a:t>Who was the first </a:t>
            </a:r>
            <a:br>
              <a:rPr sz="6600"/>
            </a:br>
            <a:r>
              <a:rPr b="1" lang="en-US" sz="6600" spc="-1" strike="noStrike">
                <a:solidFill>
                  <a:srgbClr val="ffffcc"/>
                </a:solidFill>
                <a:latin typeface="Tahoma"/>
              </a:rPr>
              <a:t>president of the </a:t>
            </a:r>
            <a:br>
              <a:rPr sz="6600"/>
            </a:br>
            <a:r>
              <a:rPr b="1" lang="en-US" sz="6600" spc="-1" strike="noStrike">
                <a:solidFill>
                  <a:srgbClr val="ffffcc"/>
                </a:solidFill>
                <a:latin typeface="Tahoma"/>
              </a:rPr>
              <a:t>USA?</a:t>
            </a:r>
            <a:br>
              <a:rPr sz="6600"/>
            </a:b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george-washington-picture"/>
          <p:cNvPicPr/>
          <p:nvPr/>
        </p:nvPicPr>
        <p:blipFill>
          <a:blip r:embed="rId1"/>
          <a:stretch/>
        </p:blipFill>
        <p:spPr>
          <a:xfrm>
            <a:off x="2124000" y="2927520"/>
            <a:ext cx="4748400" cy="39304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George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Washingt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35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Which is the flag of the USA now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447640" cy="1440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2"/>
          <a:stretch/>
        </p:blipFill>
        <p:spPr>
          <a:xfrm>
            <a:off x="5364000" y="1844640"/>
            <a:ext cx="2314800" cy="1538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/>
          <p:cNvPicPr/>
          <p:nvPr/>
        </p:nvPicPr>
        <p:blipFill>
          <a:blip r:embed="rId3"/>
          <a:stretch/>
        </p:blipFill>
        <p:spPr>
          <a:xfrm>
            <a:off x="2771640" y="4149720"/>
            <a:ext cx="2548080" cy="1440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8"/>
          <p:cNvSpPr/>
          <p:nvPr/>
        </p:nvSpPr>
        <p:spPr>
          <a:xfrm>
            <a:off x="3225600" y="1337400"/>
            <a:ext cx="4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7911000" y="1204560"/>
            <a:ext cx="5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5435640" y="3652200"/>
            <a:ext cx="4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2448000" cy="13683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6"/>
          <p:cNvSpPr/>
          <p:nvPr/>
        </p:nvSpPr>
        <p:spPr>
          <a:xfrm>
            <a:off x="5378040" y="1268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40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50 stars and 13 strip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statue of liberty"/>
          <p:cNvPicPr/>
          <p:nvPr/>
        </p:nvPicPr>
        <p:blipFill>
          <a:blip r:embed="rId1"/>
          <a:stretch/>
        </p:blipFill>
        <p:spPr>
          <a:xfrm>
            <a:off x="1258920" y="1781280"/>
            <a:ext cx="6769080" cy="50767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35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Name the sight on the pictur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251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The Statue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of Libert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1"/>
          <a:stretch/>
        </p:blipFill>
        <p:spPr>
          <a:xfrm>
            <a:off x="6588000" y="2852640"/>
            <a:ext cx="1301760" cy="1728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"/>
          <p:cNvPicPr/>
          <p:nvPr/>
        </p:nvPicPr>
        <p:blipFill>
          <a:blip r:embed="rId2"/>
          <a:stretch/>
        </p:blipFill>
        <p:spPr>
          <a:xfrm>
            <a:off x="3564000" y="4149720"/>
            <a:ext cx="1800000" cy="1355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"/>
          <p:cNvPicPr/>
          <p:nvPr/>
        </p:nvPicPr>
        <p:blipFill>
          <a:blip r:embed="rId3"/>
          <a:stretch/>
        </p:blipFill>
        <p:spPr>
          <a:xfrm>
            <a:off x="539640" y="3284640"/>
            <a:ext cx="2016360" cy="1519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266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What is the name 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of the present American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President?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539640" y="414972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2"/>
          <a:stretch/>
        </p:blipFill>
        <p:spPr>
          <a:xfrm>
            <a:off x="7093080" y="2637000"/>
            <a:ext cx="1171440" cy="1419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3"/>
          <a:stretch/>
        </p:blipFill>
        <p:spPr>
          <a:xfrm>
            <a:off x="5076720" y="4365720"/>
            <a:ext cx="1086120" cy="1428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4"/>
          <a:stretch/>
        </p:blipFill>
        <p:spPr>
          <a:xfrm>
            <a:off x="2771640" y="2924280"/>
            <a:ext cx="1428840" cy="87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4508640" y="189000"/>
            <a:ext cx="1839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3" descr="obama"/>
          <p:cNvPicPr/>
          <p:nvPr/>
        </p:nvPicPr>
        <p:blipFill>
          <a:blip r:embed="rId1"/>
          <a:stretch/>
        </p:blipFill>
        <p:spPr>
          <a:xfrm>
            <a:off x="3132000" y="2637000"/>
            <a:ext cx="2535480" cy="31683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Barack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Obama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79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The United Kingdom of Great Britain and Northen Ireland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362800" cy="437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Arial"/>
              </a:rPr>
              <a:t>What does the abbreviation The USA mean?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The United States of America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348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cc"/>
                </a:solidFill>
                <a:latin typeface="Arial"/>
              </a:rPr>
              <a:t>What is the capital of the UK</a:t>
            </a:r>
            <a:r>
              <a:rPr b="0" lang="ru-RU" sz="76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7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4788000" y="4292640"/>
            <a:ext cx="1400040" cy="80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"/>
          <p:cNvPicPr/>
          <p:nvPr/>
        </p:nvPicPr>
        <p:blipFill>
          <a:blip r:embed="rId2"/>
          <a:stretch/>
        </p:blipFill>
        <p:spPr>
          <a:xfrm>
            <a:off x="7885080" y="3716280"/>
            <a:ext cx="895320" cy="1343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"/>
          <p:cNvPicPr/>
          <p:nvPr/>
        </p:nvPicPr>
        <p:blipFill>
          <a:blip r:embed="rId3"/>
          <a:stretch/>
        </p:blipFill>
        <p:spPr>
          <a:xfrm>
            <a:off x="250920" y="5734080"/>
            <a:ext cx="1419120" cy="942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4"/>
          <a:stretch/>
        </p:blipFill>
        <p:spPr>
          <a:xfrm>
            <a:off x="2771640" y="5805360"/>
            <a:ext cx="1352520" cy="895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"/>
          <p:cNvPicPr/>
          <p:nvPr/>
        </p:nvPicPr>
        <p:blipFill>
          <a:blip r:embed="rId5"/>
          <a:stretch/>
        </p:blipFill>
        <p:spPr>
          <a:xfrm>
            <a:off x="1619280" y="4149720"/>
            <a:ext cx="1285920" cy="857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"/>
          <p:cNvPicPr/>
          <p:nvPr/>
        </p:nvPicPr>
        <p:blipFill>
          <a:blip r:embed="rId6"/>
          <a:stretch/>
        </p:blipFill>
        <p:spPr>
          <a:xfrm>
            <a:off x="6300720" y="5734080"/>
            <a:ext cx="1305000" cy="866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Arial"/>
              </a:rPr>
              <a:t>London</a:t>
            </a:r>
            <a:endParaRPr b="0" lang="en-US" sz="7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6588000" y="4292640"/>
            <a:ext cx="191448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108000" y="4292640"/>
            <a:ext cx="2201760" cy="1658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73240" cy="1380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4"/>
          <a:stretch/>
        </p:blipFill>
        <p:spPr>
          <a:xfrm>
            <a:off x="6659640" y="333360"/>
            <a:ext cx="1770120" cy="1770120"/>
          </a:xfrm>
          <a:prstGeom prst="rect">
            <a:avLst/>
          </a:prstGeom>
          <a:ln w="0">
            <a:noFill/>
          </a:ln>
        </p:spPr>
      </p:pic>
      <p:pic>
        <p:nvPicPr>
          <p:cNvPr id="144" name="Объект 8" descr=""/>
          <p:cNvPicPr/>
          <p:nvPr/>
        </p:nvPicPr>
        <p:blipFill>
          <a:blip r:embed="rId5"/>
          <a:stretch/>
        </p:blipFill>
        <p:spPr>
          <a:xfrm>
            <a:off x="2411280" y="1341360"/>
            <a:ext cx="4038840" cy="432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246597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653000"/>
            <a:ext cx="2333880" cy="1403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ukflag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2205000"/>
            <a:ext cx="2730600" cy="1374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%D0%A4%D0%BB%D0%B0%D0%B3%2520%D0%AF%D0%BC%D0%B0%D0%B9%D0%BA%D0%B8"/>
          <p:cNvPicPr/>
          <p:nvPr/>
        </p:nvPicPr>
        <p:blipFill>
          <a:blip r:embed="rId5"/>
          <a:stretch/>
        </p:blipFill>
        <p:spPr>
          <a:xfrm>
            <a:off x="826920" y="2205000"/>
            <a:ext cx="2082960" cy="1568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271682228"/>
          <p:cNvPicPr/>
          <p:nvPr/>
        </p:nvPicPr>
        <p:blipFill>
          <a:blip r:embed="rId6"/>
          <a:srcRect l="5872" t="11647" r="3547" b="6942"/>
          <a:stretch/>
        </p:blipFill>
        <p:spPr>
          <a:xfrm>
            <a:off x="5796000" y="4508640"/>
            <a:ext cx="2448000" cy="1658880"/>
          </a:xfrm>
          <a:prstGeom prst="rect">
            <a:avLst/>
          </a:prstGeom>
          <a:ln w="0">
            <a:noFill/>
          </a:ln>
        </p:spPr>
      </p:pic>
      <p:sp>
        <p:nvSpPr>
          <p:cNvPr id="149" name="Oval 7"/>
          <p:cNvSpPr/>
          <p:nvPr/>
        </p:nvSpPr>
        <p:spPr>
          <a:xfrm>
            <a:off x="3059280" y="1916280"/>
            <a:ext cx="50472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3132000" y="4076640"/>
            <a:ext cx="50508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8317080" y="1773360"/>
            <a:ext cx="50472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8317080" y="4076640"/>
            <a:ext cx="50472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Which is the flag of the UK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ukflagb"/>
          <p:cNvPicPr/>
          <p:nvPr/>
        </p:nvPicPr>
        <p:blipFill>
          <a:blip r:embed="rId1"/>
          <a:stretch/>
        </p:blipFill>
        <p:spPr>
          <a:xfrm>
            <a:off x="2340000" y="2133720"/>
            <a:ext cx="4537080" cy="2284200"/>
          </a:xfrm>
          <a:prstGeom prst="rect">
            <a:avLst/>
          </a:prstGeom>
          <a:ln w="0">
            <a:noFill/>
          </a:ln>
        </p:spPr>
      </p:pic>
      <p:sp>
        <p:nvSpPr>
          <p:cNvPr id="155" name="Oval 5"/>
          <p:cNvSpPr/>
          <p:nvPr/>
        </p:nvSpPr>
        <p:spPr>
          <a:xfrm>
            <a:off x="6948360" y="1413000"/>
            <a:ext cx="50508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2T09:52:30Z</dcterms:created>
  <dc:creator>Admin</dc:creator>
  <dc:description/>
  <dc:language>en-US</dc:language>
  <cp:lastModifiedBy>PC_NAIL</cp:lastModifiedBy>
  <dcterms:modified xsi:type="dcterms:W3CDTF">2015-03-14T19:16:46Z</dcterms:modified>
  <cp:revision>11</cp:revision>
  <dc:subject/>
  <dc:title>Своя игра</dc:title>
</cp:coreProperties>
</file>