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4FBA-22A8-4C08-8179-D8E12150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9ED-8668-4400-83D8-8FAB2FFB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D94-8856-4891-8EA5-15028E28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871-495D-49CA-902D-DA5D296E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C590-4A54-49AB-87C5-40E4BA8E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1BA2-4D81-4C04-998A-7F31C0C6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1D26-B20B-4316-9677-970B864D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FAC5-E219-42DF-99E8-9C184BDE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5660-06DE-4F07-A855-B67FB6CD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B2C0-9B50-467C-9C9D-E37586A6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AF06-8433-41B4-AF15-0941C8FF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EAC-94CA-4E4D-910F-79B691ED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B42C-5EE9-4B24-BB18-EBFE8805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B1D3-2AA7-43F0-A690-F61ADCB7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F806-3008-428B-BB26-B5C278C6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2534-49BD-4B61-BCCF-504447CC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D385-D016-4457-B6CA-DC25C214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2A16-7DF0-4F5A-B6BB-B31AF3A1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0E3A-9BD1-4F21-92B2-BE96D381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FB91-C334-4DD5-B5A3-47AD9E3F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24BE-E439-40F4-A093-6E22383D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D53-77EB-4324-8BAD-E640E74E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015F-EFEA-49BB-A4C0-EB0FF8FD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B372-31B8-4C55-9E1D-A6B2D2F2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34C0-D66C-41E9-8C5D-9AB71DD2DF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3E70-EA4B-4621-876A-4FE1586B0E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84872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                         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                           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                             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         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«Туган ягым»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                              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азан шәһәре 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                   175нче урта мәктәбенең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6 а сыйныфы укучысы                                                              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                       Ахтямова Адил</a:t>
            </a:r>
            <a:r>
              <a:rPr b="0" lang="tt-RU" sz="2800" spc="-1" strike="noStrike">
                <a:solidFill>
                  <a:srgbClr val="333399"/>
                </a:solidFill>
                <a:latin typeface="Tahoma"/>
              </a:rPr>
              <a:t>ә</a:t>
            </a:r>
            <a:br>
              <a:rPr sz="2800"/>
            </a:br>
            <a:r>
              <a:rPr b="0" lang="tt-RU" sz="2800" spc="-1" strike="noStrike">
                <a:solidFill>
                  <a:srgbClr val="333399"/>
                </a:solidFill>
                <a:latin typeface="Tahoma"/>
              </a:rPr>
              <a:t>Җитәкче: Ахтямова ГМ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36720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1267920"/>
            <a:ext cx="8496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333399"/>
                </a:solidFill>
                <a:latin typeface="Tahoma"/>
              </a:rPr>
              <a:t>Татарстаныбызның горурлыгы- нефть,  газ, КамАЗ, завод-фабрикалар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6920" y="3789000"/>
            <a:ext cx="10861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082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зан- Татарстанның башкаласы. Синнән дә гүзәл шәһәр юк, мөгаен. Серле Казаныбыз күренешләре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5516640"/>
            <a:ext cx="777240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51080" y="476280"/>
            <a:ext cx="653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213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3357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2754360" cy="3645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2771640" y="3213000"/>
            <a:ext cx="2592360" cy="3645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5292720" y="3284640"/>
            <a:ext cx="3851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3573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03640" y="0"/>
            <a:ext cx="2808360" cy="3573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940360" y="0"/>
            <a:ext cx="3203640" cy="3645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059280" y="3573360"/>
            <a:ext cx="3097080" cy="3284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0" y="3573360"/>
            <a:ext cx="3059280" cy="3284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5940360" y="3500280"/>
            <a:ext cx="320364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920" y="-7468200"/>
            <a:ext cx="541440" cy="80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Туган илем – алтын бише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      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Туган илем – туган өе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       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Туган илем – туган теле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      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Туган ил бер генә, кадерен бел генә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      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ң татлы тел – туган те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       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леннән аерылган – канаты каерылга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-10437120"/>
            <a:ext cx="1447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765000"/>
            <a:ext cx="7772400" cy="53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e4a8"/>
                </a:solidFill>
                <a:latin typeface="Tahoma"/>
              </a:rPr>
              <a:t>Туган илем-алтын арышлар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e4a8"/>
                </a:solidFill>
                <a:latin typeface="Tahoma"/>
              </a:rPr>
              <a:t>Туган ил ул- зифа камышла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e4a8"/>
                </a:solidFill>
                <a:latin typeface="Tahoma"/>
              </a:rPr>
              <a:t>Туган ил ул- иркен болыннар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e4a8"/>
                </a:solidFill>
                <a:latin typeface="Tahoma"/>
              </a:rPr>
              <a:t>Болыннарда нәни колынна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Татарстан- минем туган ил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Россиянең матур җирендә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Халык аңа үзе исем кушка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Бәхет теләп гомер гомергә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e4a8"/>
                </a:solidFill>
                <a:latin typeface="Tahoma"/>
              </a:rPr>
              <a:t>Карлары бар аның, язлары ба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e4a8"/>
                </a:solidFill>
                <a:latin typeface="Tahoma"/>
              </a:rPr>
              <a:t>Ташкыннары аның ни тор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e4a8"/>
                </a:solidFill>
                <a:latin typeface="Tahoma"/>
              </a:rPr>
              <a:t>Еракларга киткән тургайлар д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e4a8"/>
                </a:solidFill>
                <a:latin typeface="Tahoma"/>
              </a:rPr>
              <a:t>Сагынып кайта туган йорты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5726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атарстан карта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333399"/>
                </a:solidFill>
                <a:latin typeface="Tahoma"/>
              </a:rPr>
              <a:t>Минем туган илем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МО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потому что здесь моя семья, мои друзья, мой дом, моя улица, моя школа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МАЛА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потому что это маленькая частичка моей необъятной стра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РОДИН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потому что здесь живут родные моему сердцу люд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лемдә җәйләр дә ямьле, </a:t>
            </a:r>
            <a:r>
              <a:rPr b="0" lang="tt-RU" sz="4400" spc="-1" strike="noStrike">
                <a:solidFill>
                  <a:srgbClr val="333399"/>
                </a:solidFill>
                <a:latin typeface="Tahoma"/>
              </a:rPr>
              <a:t>  көзләр дә- алты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4105440" cy="42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88000" y="2708280"/>
            <a:ext cx="39592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82245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333399"/>
                </a:solidFill>
                <a:latin typeface="Tahoma"/>
              </a:rPr>
              <a:t>Кышлар да кар- буранлы, салкын, ә язлар- ягымлы- назл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3889080" cy="4500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4391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333399"/>
                </a:solidFill>
                <a:latin typeface="Tahoma"/>
              </a:rPr>
              <a:t>Урманнарга керсәң-сулышлар киңәя,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493640" y="2692440"/>
            <a:ext cx="542340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333399"/>
                </a:solidFill>
                <a:latin typeface="Tahoma"/>
              </a:rPr>
              <a:t>Басуларга чыксаң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333399"/>
                </a:solidFill>
                <a:latin typeface="Tahoma"/>
              </a:rPr>
              <a:t>йөрәкләр җилкен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6920" y="1989000"/>
            <a:ext cx="29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16360" cy="321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843280" y="0"/>
            <a:ext cx="2665440" cy="3286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508720" y="0"/>
            <a:ext cx="3635280" cy="3213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0" y="3213000"/>
            <a:ext cx="3059280" cy="3645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059280" y="3213000"/>
            <a:ext cx="3025440" cy="3645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5940360" y="2997360"/>
            <a:ext cx="320364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492360" y="1989000"/>
            <a:ext cx="338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070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06920" y="0"/>
            <a:ext cx="4537080" cy="3240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3141720"/>
            <a:ext cx="4500720" cy="3716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500720" y="3213000"/>
            <a:ext cx="4643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18:44:04Z</dcterms:created>
  <dc:creator>User</dc:creator>
  <dc:description/>
  <dc:language>en-US</dc:language>
  <cp:lastModifiedBy>Домашний</cp:lastModifiedBy>
  <dcterms:modified xsi:type="dcterms:W3CDTF">2014-11-07T17:08:11Z</dcterms:modified>
  <cp:revision>12</cp:revision>
  <dc:subject/>
  <dc:title>   Классный час   «Моя малая родина»</dc:title>
</cp:coreProperties>
</file>