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56A-22A9-4883-823E-E78E830A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02B-2738-4F43-BBA2-D8768FC4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81E-98B5-491C-B051-8332AFAC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8DA-9156-4B8F-A106-C212D810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38F-7C8F-44FC-B121-889B4C51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55B-9EF4-4F26-A60A-8842160C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EFD-B6A5-4689-96BC-49B1C381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577-D2E5-48E2-B348-6DC19D99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57A-B6B4-40A6-AB38-7AE84606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D6C-F8D0-4113-B490-8779ACBD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80F-875E-4CDA-A505-CD2C54D8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07C-BDF8-4C53-9438-72774DDA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FB6D-D38C-4F88-BEBA-DF49459FE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agnitopera.com/ru/kollektiv/balet/artisty-baleta/melnikov-denis" TargetMode="External"/><Relationship Id="rId2" Type="http://schemas.openxmlformats.org/officeDocument/2006/relationships/hyperlink" Target="http://magnitopera.com/ru/kollektiv/balet/artisty-baleta/demin-aleksandr" TargetMode="External"/><Relationship Id="rId3" Type="http://schemas.openxmlformats.org/officeDocument/2006/relationships/hyperlink" Target="http://magnitopera.com/ru/kollektiv/balet/artisty-baleta/negreev-denis" TargetMode="External"/><Relationship Id="rId4" Type="http://schemas.openxmlformats.org/officeDocument/2006/relationships/hyperlink" Target="http://magnitopera.com/ru/kollektiv/balet/artisty-baleta/demina-darya" TargetMode="External"/><Relationship Id="rId5" Type="http://schemas.openxmlformats.org/officeDocument/2006/relationships/hyperlink" Target="http://magnitopera.com/ru/kollektiv/balet/artisty-baleta/lihobabina-natalya" TargetMode="External"/><Relationship Id="rId6" Type="http://schemas.openxmlformats.org/officeDocument/2006/relationships/hyperlink" Target="http://magnitopera.com/ru/kollektiv/balet/artisty-baleta/edihanova-irina" TargetMode="External"/><Relationship Id="rId7" Type="http://schemas.openxmlformats.org/officeDocument/2006/relationships/hyperlink" Target="http://magnitopera.com/ru/kollektiv/balet/artisty-baleta/menschikova-anna" TargetMode="External"/><Relationship Id="rId8" Type="http://schemas.openxmlformats.org/officeDocument/2006/relationships/hyperlink" Target="http://magnitopera.com/ru/kollektiv/balet/artisty-baleta/yakusheva-darya" TargetMode="External"/><Relationship Id="rId9" Type="http://schemas.openxmlformats.org/officeDocument/2006/relationships/hyperlink" Target="http://magnitopera.com/ru/kollektiv/balet/artisty-baleta/bogdanova-natalya" TargetMode="External"/><Relationship Id="rId10" Type="http://schemas.openxmlformats.org/officeDocument/2006/relationships/hyperlink" Target="http://magnitopera.com/ru/kollektiv/balet/artisty-baleta/golunova-yuliya" TargetMode="External"/><Relationship Id="rId11" Type="http://schemas.openxmlformats.org/officeDocument/2006/relationships/hyperlink" Target="http://magnitopera.com/ru/kollektiv/balet/artisty-baleta/panichkin-artem" TargetMode="External"/><Relationship Id="rId12" Type="http://schemas.openxmlformats.org/officeDocument/2006/relationships/hyperlink" Target="http://magnitopera.com/ru/kollektiv/balet/artisty-baleta/kartashova-ekaterina" TargetMode="External"/><Relationship Id="rId13" Type="http://schemas.openxmlformats.org/officeDocument/2006/relationships/hyperlink" Target="http://magnitopera.com/ru/kollektiv/balet/artisty-baleta/laptev-evgenij" TargetMode="External"/><Relationship Id="rId14" Type="http://schemas.openxmlformats.org/officeDocument/2006/relationships/hyperlink" Target="http://magnitopera.com/ru/kollektiv/balet/artisty-baleta/shilyaev-denis" TargetMode="External"/><Relationship Id="rId15" Type="http://schemas.openxmlformats.org/officeDocument/2006/relationships/hyperlink" Target="http://magnitopera.com/ru/kollektiv/balet/artisty-baleta/maksimova-anastasiya" TargetMode="External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gnitopera.com/ru/afisha/repertuar/balety/amirov-f-tysyacha-i-odna-noch" TargetMode="External"/><Relationship Id="rId2" Type="http://schemas.openxmlformats.org/officeDocument/2006/relationships/hyperlink" Target="http://magnitopera.com/ru/afisha/repertuar/balety/f-mendelson-son-v-letnyuyu-noch" TargetMode="External"/><Relationship Id="rId3" Type="http://schemas.openxmlformats.org/officeDocument/2006/relationships/hyperlink" Target="http://magnitopera.com/ru/afisha/repertuar/balety/a-hachaturyan-maskarad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торое путешествие 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узыкальный театр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лет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урок музыки в 5 класс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автор: Натфуллина З.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учитель музыки МОУ Уральская СОШ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учшие отечественные танц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цлав Фомич Нижинс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12 марта 1890  - 8 апреля 1950), русский танцовщик и балетмейс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1.jpg"/>
          <p:cNvPicPr/>
          <p:nvPr/>
        </p:nvPicPr>
        <p:blipFill>
          <a:blip r:embed="rId1"/>
          <a:stretch/>
        </p:blipFill>
        <p:spPr>
          <a:xfrm>
            <a:off x="4788000" y="2146320"/>
            <a:ext cx="3498840" cy="4206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2.jpg"/>
          <p:cNvPicPr/>
          <p:nvPr/>
        </p:nvPicPr>
        <p:blipFill>
          <a:blip r:embed="rId2"/>
          <a:stretch/>
        </p:blipFill>
        <p:spPr>
          <a:xfrm>
            <a:off x="1547640" y="2589120"/>
            <a:ext cx="23767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учшие отечественные ба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И.Чайковский: «Лебединое озеро», «Щелкунчик», «Спящая красавиц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А.Римский-Корсаков: «Шехерезад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.С.Прокофьев: «Золушка», «Ромео и Джульетт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Ф.Стравинский: «Жар-птица», «Петруш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он Щедрин «Конёк-Горбуно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гнитогорский театр оперы и бал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1.jpg"/>
          <p:cNvPicPr/>
          <p:nvPr/>
        </p:nvPicPr>
        <p:blipFill>
          <a:blip r:embed="rId1"/>
          <a:stretch/>
        </p:blipFill>
        <p:spPr>
          <a:xfrm>
            <a:off x="1116000" y="1560600"/>
            <a:ext cx="6985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гнитогорский театр оперы и бал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исты бал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ельников Денис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ёмин Александ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егреев Дени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Дёмина Дарь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Лихобабина Наталь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Едиханова И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Менщикова Ан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Якушева Дарь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Богданова Наталь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Голунова Юл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Паничкин Арт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Карташова Екате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Лаптев Евг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Шиляев Дени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Максимова Анастас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гнитогорский театр оперы и бал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л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. Амиров . «Тысяча и одна ночь» в двух дейст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Ф. Мендельсон "Сон в летнюю ночь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. Хачатурян "Маскарад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. Гершвин "Американцы в Париже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Любовь быть может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От классики до современности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. И. Чайковский "Времена года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Простая история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.И.Чайковский «Ромео и Джульет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1.jpg"/>
          <p:cNvPicPr/>
          <p:nvPr/>
        </p:nvPicPr>
        <p:blipFill>
          <a:blip r:embed="rId1"/>
          <a:stretch/>
        </p:blipFill>
        <p:spPr>
          <a:xfrm>
            <a:off x="1476360" y="1413000"/>
            <a:ext cx="6264360" cy="4698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1.jpg"/>
          <p:cNvPicPr/>
          <p:nvPr/>
        </p:nvPicPr>
        <p:blipFill>
          <a:blip r:embed="rId2"/>
          <a:stretch/>
        </p:blipFill>
        <p:spPr>
          <a:xfrm>
            <a:off x="1476360" y="1413000"/>
            <a:ext cx="6240600" cy="4680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1.jpg"/>
          <p:cNvPicPr/>
          <p:nvPr/>
        </p:nvPicPr>
        <p:blipFill>
          <a:blip r:embed="rId3"/>
          <a:stretch/>
        </p:blipFill>
        <p:spPr>
          <a:xfrm>
            <a:off x="1476360" y="1413000"/>
            <a:ext cx="626436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рам Хачатурян «Маскарад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1.jpg"/>
          <p:cNvPicPr/>
          <p:nvPr/>
        </p:nvPicPr>
        <p:blipFill>
          <a:blip r:embed="rId1"/>
          <a:stretch/>
        </p:blipFill>
        <p:spPr>
          <a:xfrm>
            <a:off x="2736720" y="1271520"/>
            <a:ext cx="3780000" cy="50371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2.jpg"/>
          <p:cNvPicPr/>
          <p:nvPr/>
        </p:nvPicPr>
        <p:blipFill>
          <a:blip r:embed="rId2"/>
          <a:stretch/>
        </p:blipFill>
        <p:spPr>
          <a:xfrm>
            <a:off x="2700360" y="1268280"/>
            <a:ext cx="3795840" cy="50612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3.jpg"/>
          <p:cNvPicPr/>
          <p:nvPr/>
        </p:nvPicPr>
        <p:blipFill>
          <a:blip r:embed="rId3"/>
          <a:stretch/>
        </p:blipFill>
        <p:spPr>
          <a:xfrm>
            <a:off x="2700360" y="1268280"/>
            <a:ext cx="386712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Ф.Амиров «Тысяча и одна ноч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1.jpg"/>
          <p:cNvPicPr/>
          <p:nvPr/>
        </p:nvPicPr>
        <p:blipFill>
          <a:blip r:embed="rId1"/>
          <a:stretch/>
        </p:blipFill>
        <p:spPr>
          <a:xfrm>
            <a:off x="1258920" y="1263600"/>
            <a:ext cx="6626160" cy="4969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2.jpg"/>
          <p:cNvPicPr/>
          <p:nvPr/>
        </p:nvPicPr>
        <p:blipFill>
          <a:blip r:embed="rId2"/>
          <a:stretch/>
        </p:blipFill>
        <p:spPr>
          <a:xfrm>
            <a:off x="1258920" y="1268280"/>
            <a:ext cx="6566040" cy="49244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3.jpg"/>
          <p:cNvPicPr/>
          <p:nvPr/>
        </p:nvPicPr>
        <p:blipFill>
          <a:blip r:embed="rId3"/>
          <a:stretch/>
        </p:blipFill>
        <p:spPr>
          <a:xfrm>
            <a:off x="1258920" y="1268280"/>
            <a:ext cx="6600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 информацию об известных хореографах и солистах балета Челябинской области и подготовь  о них расск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Бал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лет – на латинском языке это слово означа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анц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здании балетного спектакля участвуют танцоры-солисты, кордебалет (массовые сцены), балетмейстер, симфонический оркестр, дирижёр, художники по костюмам и художники декорато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Бал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агодаря творческому союзу музыки, хореографии, литературы, драматического и изобразительного искусства появляется незабываемое зрелище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ба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оссии первый балетный спектакль состоялся 8 февраля 1673 года при дворе царя Алексея Михайловича.  Настоящий переворот в балетной музыке произвёл Пётр Ильич Чайковский, который внёс в неё непрерывное симфоническое развитие, глубокое образное содержание, драматическую выразительность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учшие отечественные танц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влова Анна Павлов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(12 февраля 1881  - 23 января 1931), русская балер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1.jpg"/>
          <p:cNvPicPr/>
          <p:nvPr/>
        </p:nvPicPr>
        <p:blipFill>
          <a:blip r:embed="rId1"/>
          <a:stretch/>
        </p:blipFill>
        <p:spPr>
          <a:xfrm>
            <a:off x="755640" y="2282760"/>
            <a:ext cx="3371760" cy="4145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1.jpg"/>
          <p:cNvPicPr/>
          <p:nvPr/>
        </p:nvPicPr>
        <p:blipFill>
          <a:blip r:embed="rId2"/>
          <a:stretch/>
        </p:blipFill>
        <p:spPr>
          <a:xfrm>
            <a:off x="4284720" y="2276640"/>
            <a:ext cx="433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учшие отечественные танц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ланова Галина Сергеев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(8 января 1910  - 21 марта 1998), русская балер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1.jpg"/>
          <p:cNvPicPr/>
          <p:nvPr/>
        </p:nvPicPr>
        <p:blipFill>
          <a:blip r:embed="rId1"/>
          <a:stretch/>
        </p:blipFill>
        <p:spPr>
          <a:xfrm>
            <a:off x="611280" y="2278080"/>
            <a:ext cx="4208400" cy="4194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1.jpg"/>
          <p:cNvPicPr/>
          <p:nvPr/>
        </p:nvPicPr>
        <p:blipFill>
          <a:blip r:embed="rId2"/>
          <a:stretch/>
        </p:blipFill>
        <p:spPr>
          <a:xfrm>
            <a:off x="5148360" y="2276640"/>
            <a:ext cx="3208320" cy="41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учшие отечественные танц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мара Платоновна Карсави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9 марта 1885  - 26 мая 1978), русская балер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1.jpg"/>
          <p:cNvPicPr/>
          <p:nvPr/>
        </p:nvPicPr>
        <p:blipFill>
          <a:blip r:embed="rId1"/>
          <a:stretch/>
        </p:blipFill>
        <p:spPr>
          <a:xfrm>
            <a:off x="1258920" y="2173320"/>
            <a:ext cx="2881440" cy="4287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2.jpg"/>
          <p:cNvPicPr/>
          <p:nvPr/>
        </p:nvPicPr>
        <p:blipFill>
          <a:blip r:embed="rId2"/>
          <a:stretch/>
        </p:blipFill>
        <p:spPr>
          <a:xfrm>
            <a:off x="4932360" y="2203560"/>
            <a:ext cx="3024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учшие отечественные танц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ячеслав Михайлович Гордее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род. 1948), русский танцовщик и балетмейс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1.jpg"/>
          <p:cNvPicPr/>
          <p:nvPr/>
        </p:nvPicPr>
        <p:blipFill>
          <a:blip r:embed="rId1"/>
          <a:stretch/>
        </p:blipFill>
        <p:spPr>
          <a:xfrm>
            <a:off x="826920" y="2246400"/>
            <a:ext cx="3384720" cy="4106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2.jpg"/>
          <p:cNvPicPr/>
          <p:nvPr/>
        </p:nvPicPr>
        <p:blipFill>
          <a:blip r:embed="rId2"/>
          <a:stretch/>
        </p:blipFill>
        <p:spPr>
          <a:xfrm>
            <a:off x="4427640" y="2268360"/>
            <a:ext cx="38811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учшие отечественные танц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ександр Борисович Годун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28 ноября 1949 - 18 мая 1995), русский и американский танцовщик и ак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1.jpg"/>
          <p:cNvPicPr/>
          <p:nvPr/>
        </p:nvPicPr>
        <p:blipFill>
          <a:blip r:embed="rId1"/>
          <a:stretch/>
        </p:blipFill>
        <p:spPr>
          <a:xfrm>
            <a:off x="611280" y="2781360"/>
            <a:ext cx="419868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2.jpg"/>
          <p:cNvPicPr/>
          <p:nvPr/>
        </p:nvPicPr>
        <p:blipFill>
          <a:blip r:embed="rId2"/>
          <a:stretch/>
        </p:blipFill>
        <p:spPr>
          <a:xfrm>
            <a:off x="5076720" y="2781360"/>
            <a:ext cx="3311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учшие отечественные танц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ладимир Викторович Василье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род. 18 апреля 1940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1.jpg"/>
          <p:cNvPicPr/>
          <p:nvPr/>
        </p:nvPicPr>
        <p:blipFill>
          <a:blip r:embed="rId1"/>
          <a:stretch/>
        </p:blipFill>
        <p:spPr>
          <a:xfrm>
            <a:off x="539640" y="2131920"/>
            <a:ext cx="4340160" cy="4349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2.jpg"/>
          <p:cNvPicPr/>
          <p:nvPr/>
        </p:nvPicPr>
        <p:blipFill>
          <a:blip r:embed="rId2"/>
          <a:stretch/>
        </p:blipFill>
        <p:spPr>
          <a:xfrm>
            <a:off x="5003640" y="2133720"/>
            <a:ext cx="36388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5-03-15T14:47:14Z</dcterms:modified>
  <cp:revision>4</cp:revision>
  <dc:subject/>
  <dc:title>Шаблон презентации</dc:title>
</cp:coreProperties>
</file>