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2.png" ContentType="image/png"/>
  <Override PartName="/ppt/media/image3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move the slide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3AAC-5C71-4D45-825E-5BC85A0F7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3DAF-EC32-4C66-80B0-79F5B0241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6F6-B8BF-4D0B-95E1-753C1E15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A7A-6088-4517-BF39-82E03EE6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71A-DEE9-48E1-84A1-9EDD4E02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69A-F169-483E-9667-89F90EA8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8CD7-F6A1-43C6-BE5B-1CB2FF63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3567-DDA7-461A-9A32-5150A4F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0ECD-D296-4101-AFFF-B809948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77C-FCA0-4BCD-9CED-9778766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1E33-17ED-4438-B78E-7EFB1F2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EBA-1AC7-488A-97FF-39A4B38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EA96-E0C6-44A0-96CC-DD9FA80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E7E-DFC1-434E-8893-A331B0D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5A7E-A48F-4BB7-BAF6-E8009BE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46E7-A380-4BE2-9538-D41D888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304F-58A5-4A37-9152-AFCDBC1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D6B-566E-44D9-803B-28C82813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8D3-07F9-4045-AEF9-BDD17F06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FA8-CEAD-4159-9F80-5713C85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C06-DB95-4964-8688-4330322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7AA-497D-40D6-81B4-2D35FBD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BCC-2D02-4658-9DED-61DCE5BC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9E4-F44B-40AC-A003-AE90640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DEE-1059-4604-838F-EAC8957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196-AC73-4491-AE90-DDB7CCB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420-D858-47D3-8026-EF644122BD4B}" type="slidenum"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1332-1E02-4C7B-AEB7-AB4149264936}" type="slidenum"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hyperlink" Target="file:///%3Cb%3E&#1054;&#1092;&#1080;&#1094;&#1080;&#1072;&#1083;&#1100;&#1085;&#1086;-&#1076;&#1077;&#1083;&#1086;&#1074;&#1086;&#1081;%20&#1089;&#1090;&#1080;&#1083;&#1100;%3C/b%3E%20-%20&#1086;&#1076;&#1080;&#1085;%20&#1080;&#1079;%20&#1092;&#1091;&#1085;&#1082;&#1094;&#1080;&#1086;&#1085;&#1072;&#1083;&#1100;&#1085;&#1099;&#1093;%20&#1089;&#1090;&#1080;&#1083;&#1077;&#1081;%20&#1083;&#1080;&#1090;&#1077;&#1088;&#1072;&#1090;&#1091;&#1088;&#1085;&#1086;&#1075;&#1086;%20&#1103;&#1079;&#1099;&#1082;&#1072;,%20&#1086;&#1073;&#1089;&#1083;&#1091;&#1078;&#1080;&#1074;&#1072;&#1102;&#1097;&#1080;&#1081;%20&#1089;&#1092;&#1077;&#1088;&#1091;%20&#1076;&#1077;&#1083;&#1086;&#1074;&#1099;&#1093;%20(&#1101;&#1082;&#1086;&#1085;&#1086;&#1084;&#1080;&#1095;&#1077;&#1089;&#1082;&#1080;&#1093;,%20&#1102;&#1088;&#1080;&#1076;&#1080;&#1095;&#1077;&#1089;&#1082;&#1080;&#1093;)%20&#1086;&#1090;&#1085;&#1086;&#1096;&#1077;&#1085;&#1080;&#1081;." TargetMode="External"/><Relationship Id="rId4" Type="http://schemas.openxmlformats.org/officeDocument/2006/relationships/hyperlink" Target="file:///%3Cb%3E&#1053;&#1072;&#1091;&#1095;&#1085;&#1099;&#1081;%20&#1089;&#1090;&#1080;&#1083;&#1100;%3C/b%3E%20-%20&#1086;&#1076;&#1080;&#1085;%20&#1080;&#1079;%20&#1092;&#1091;&#1085;&#1082;&#1094;&#1080;&#1086;&#1085;&#1072;&#1083;&#1100;&#1085;&#1099;&#1093;%20&#1089;&#1090;&#1080;&#1083;&#1077;&#1081;%20&#1088;&#1091;&#1089;&#1089;&#1082;&#1086;&#1075;&#1086;%20&#1083;&#1080;&#1090;&#1077;&#1088;&#1072;&#1090;&#1091;&#1088;&#1085;&#1086;&#1075;&#1086;%20&#1103;&#1079;&#1099;&#1082;&#1072;,%20&#1086;&#1073;&#1089;&#1083;&#1091;&#1078;&#1080;&#1074;&#1072;&#1102;&#1097;&#1080;&#1081;%20&#1089;&#1092;&#1077;&#1088;&#1091;%20&#1085;&#1072;&#1091;&#1082;&#1080;.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hutterstock_102462197"/>
          <p:cNvPicPr/>
          <p:nvPr/>
        </p:nvPicPr>
        <p:blipFill>
          <a:blip r:embed="rId2"/>
          <a:stretch/>
        </p:blipFill>
        <p:spPr>
          <a:xfrm>
            <a:off x="0" y="0"/>
            <a:ext cx="3048120" cy="3044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1403280" y="1628640"/>
            <a:ext cx="669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чь письменная и устная.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5" descr="examen_logo2"/>
          <p:cNvPicPr/>
          <p:nvPr/>
        </p:nvPicPr>
        <p:blipFill>
          <a:blip r:embed="rId3"/>
          <a:stretch/>
        </p:blipFill>
        <p:spPr>
          <a:xfrm>
            <a:off x="6264360" y="0"/>
            <a:ext cx="2879640" cy="59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hutterstock_110485370"/>
          <p:cNvPicPr/>
          <p:nvPr/>
        </p:nvPicPr>
        <p:blipFill>
          <a:blip r:embed="rId4"/>
          <a:stretch/>
        </p:blipFill>
        <p:spPr>
          <a:xfrm>
            <a:off x="5724360" y="3789360"/>
            <a:ext cx="3264120" cy="306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04000" y="4005360"/>
            <a:ext cx="57636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7451640" y="4149720"/>
            <a:ext cx="576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С2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581360"/>
            <a:ext cx="43164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ГИА!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7956720" y="4508640"/>
            <a:ext cx="576000" cy="57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С2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013360"/>
            <a:ext cx="215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4653000"/>
            <a:ext cx="14472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4797360"/>
            <a:ext cx="1447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39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24076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9280" y="765000"/>
          <a:ext cx="8785440" cy="5826240"/>
        </p:xfrm>
        <a:graphic>
          <a:graphicData uri="http://schemas.openxmlformats.org/drawingml/2006/table">
            <a:tbl>
              <a:tblPr/>
              <a:tblGrid>
                <a:gridCol w="2521080"/>
                <a:gridCol w="2843280"/>
                <a:gridCol w="342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Критерии отлич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Устная фор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Письменная фор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1. Спосо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кодиро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ыражена звуками (акустическим кодо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ыражена буквами (графическим кодо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2. Мех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порождения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Создается в момент говорения, поэтому требует огромной тренировки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Подготавливается, записывается на черновиках, подвергается редактированию, совершенствованию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3. Мех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восприятия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оспринимается сразу, непосредственно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Осмысливается при многократном чтении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4. Грамматические и лексические особенности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Наблюдаются </a:t>
                      </a:r>
                      <a:r>
                        <a:rPr b="1" lang="en-US" sz="2000" spc="-1" strike="noStrike" u="sng">
                          <a:solidFill>
                            <a:srgbClr val="0d0d0d"/>
                          </a:solidFill>
                          <a:uFillTx/>
                          <a:latin typeface="Corbel"/>
                          <a:ea typeface="Times New Roman"/>
                        </a:rPr>
                        <a:t>повторы, неполные, простые предлож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Четче подбираются слова, преобладает </a:t>
                      </a:r>
                      <a:r>
                        <a:rPr b="1" lang="en-US" sz="2000" spc="-1" strike="noStrike" u="sng">
                          <a:solidFill>
                            <a:srgbClr val="0d0d0d"/>
                          </a:solidFill>
                          <a:uFillTx/>
                          <a:latin typeface="Corbel"/>
                          <a:ea typeface="Times New Roman"/>
                        </a:rPr>
                        <a:t>книжная лексика, сложные развернутые предложения, конструкции.</a:t>
                      </a:r>
                      <a:r>
                        <a:rPr b="0" lang="en-US" sz="2000" spc="-1" strike="noStrike" u="sng">
                          <a:solidFill>
                            <a:srgbClr val="0d0d0d"/>
                          </a:solidFill>
                          <a:uFillTx/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24076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79280" y="765000"/>
          <a:ext cx="8785440" cy="5983560"/>
        </p:xfrm>
        <a:graphic>
          <a:graphicData uri="http://schemas.openxmlformats.org/drawingml/2006/table">
            <a:tbl>
              <a:tblPr/>
              <a:tblGrid>
                <a:gridCol w="2390760"/>
                <a:gridCol w="2973600"/>
                <a:gridCol w="342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Критерии отлич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Устная фор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a1f28"/>
                          </a:solidFill>
                          <a:latin typeface="Arial Black"/>
                          <a:ea typeface="Times New Roman"/>
                        </a:rPr>
                        <a:t>Письменная фор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5. Виды норм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Орфоэпические, в частности, акцентологические требо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Орфографические, пунктуационные и каллиграфические требов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6. Выраз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rbel"/>
                          <a:ea typeface="Times New Roman"/>
                        </a:rPr>
                        <a:t>возмож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Обладает средствами звуковой выразительности, отличается богатством интонаций, паузами, логическими ударениями, а также сопровождается жестами и мимик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Знаки препинания, кавычки, шрифтовые выделения компенсируют меньшие возможности экспрессивности письменного текст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9156960" cy="792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rbel"/>
              </a:rPr>
              <a:t>Обилие незаконченных синтаксических построений (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Ну вообще… созерцание… я могу и для друзей рисовать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);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 Black"/>
              </a:rPr>
              <a:t>самоперебивы 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(В России еще много людей, которые хотят…, которые пишут ручкой, а не на компьютере)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;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rbel"/>
              </a:rPr>
              <a:t>повторы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(Я бы… я бы… хотел сказать больше)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;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rbel"/>
              </a:rPr>
              <a:t>конструкции с именительным темы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(Этот мальчишка / он меня каждое утро будит)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;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rbel"/>
              </a:rPr>
              <a:t>подхваты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 (А - 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Мы тебя приглашаем…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 Б - </a:t>
            </a:r>
            <a:r>
              <a:rPr b="0" i="1" lang="ru-RU" sz="2800" spc="-1" strike="noStrike">
                <a:solidFill>
                  <a:srgbClr val="0d0d0d"/>
                </a:solidFill>
                <a:latin typeface="Corbel"/>
              </a:rPr>
              <a:t>завтра в театр</a:t>
            </a:r>
            <a:r>
              <a:rPr b="0" lang="ru-RU" sz="2800" spc="-1" strike="noStrike">
                <a:solidFill>
                  <a:srgbClr val="0d0d0d"/>
                </a:solidFill>
                <a:latin typeface="Corbel"/>
              </a:rPr>
              <a:t>)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orbel"/>
              </a:rPr>
              <a:t>          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В </a:t>
            </a:r>
            <a:r>
              <a:rPr b="0" lang="en-US" sz="1800" spc="-1" strike="noStrike" u="sng">
                <a:solidFill>
                  <a:srgbClr val="da1f28"/>
                </a:solidFill>
                <a:uFillTx/>
                <a:latin typeface="Times New Roman"/>
              </a:rPr>
              <a:t>устной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 речи, рассчитанной на слушателя, часто меняется структурно-логический рисунок фразы, весьма уместными оказываются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неполные предложения (экономящие силы и время говорящего и слушающего)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допускаются попутные добавочные мысли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оценочные фразы (обогащающие текст и хорошо отделяемые от основного текста посредством интонации).</a:t>
            </a:r>
            <a:br>
              <a:rPr sz="1800"/>
            </a:b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  Одним из наиболее </a:t>
            </a:r>
            <a:r>
              <a:rPr b="0" lang="en-US" sz="1800" spc="-1" strike="noStrike" u="sng">
                <a:solidFill>
                  <a:srgbClr val="0d0d0d"/>
                </a:solidFill>
                <a:uFillTx/>
                <a:latin typeface="Times New Roman"/>
              </a:rPr>
              <a:t>существенных недостатков устной речи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 считается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ее прерывистость (логическая, грамматическая и интонационная), заключающаяся в неоправданной остановке речи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в обрыве фраз, мыслей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в неоправданном повторении одних и тех же слов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Причины этому бывают разные: незнание того, что надо говорить, неумение оформить последующую мысль, стремление исправить сказанное.</a:t>
            </a:r>
            <a:br>
              <a:rPr sz="1800"/>
            </a:b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   </a:t>
            </a:r>
            <a:r>
              <a:rPr b="0" lang="en-US" sz="1800" spc="-1" strike="noStrike" u="sng">
                <a:solidFill>
                  <a:srgbClr val="0d0d0d"/>
                </a:solidFill>
                <a:uFillTx/>
                <a:latin typeface="Times New Roman"/>
              </a:rPr>
              <a:t>  Вторым из наиболее распространенных недостатков устной речи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 является ее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нерасчлененность (интонационная и грамматическая):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фразы следуют одна за другой без пауз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логических ударений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без четкого грамматического оформления предложений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Грамматико-интонационная нерасчлененность сказывается и на логике речи: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мысли сливаются,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порядок их следования становится нечетким,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содержание текста делается расплывчатым, неопределенным.   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2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57200" y="1052640"/>
          <a:ext cx="8578800" cy="5657760"/>
        </p:xfrm>
        <a:graphic>
          <a:graphicData uri="http://schemas.openxmlformats.org/drawingml/2006/table">
            <a:tbl>
              <a:tblPr/>
              <a:tblGrid>
                <a:gridCol w="85788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Для разговорной речи характерно своеобразное использование падежных форм. Это проявляется, например, в том, что для письменной речи типично преимущественное использование форм родительного падежа, а для разговорной - именительного и винительного. Разговорная речь мало использует косвенные паде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 разговорной речи причастия (причастные обороты) и деепричастия (деепричастные обороты) употребляются очень редк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 разговорной речи фактически на равных употребляются и настоящее, и прошедшее, и будущее время в зависимости от содержания разговора. В разговорной речи на протяжении микротемы возможна смена времени.</a:t>
                      </a:r>
                      <a:r>
                        <a:rPr b="0" lang="ru-RU" sz="28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Мало используются в устной речи существительные и особенно прилагательные, поскольку предметы и их признаки чаще всего видны или известны собеседник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ироко применяются местоимения и частицы, что обусловлено непосредственным контактом говорящих и спонтанностью их речи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450720" y="-201600"/>
            <a:ext cx="824256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4608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Times New Roman"/>
              </a:rPr>
              <a:t>     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Это речь, созданная с помощью видимых (графических) знаков на бумаге, ином материале, экране монитора. Письменная форма речи является основной для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hlinkClick r:id="rId3"/>
              </a:rPr>
              <a:t>официально-делового</a:t>
            </a:r>
            <a:r>
              <a:rPr b="0" lang="en-US" sz="1800" spc="-1" strike="noStrike" u="sng">
                <a:solidFill>
                  <a:srgbClr val="0d0d0d"/>
                </a:solidFill>
                <a:uFillTx/>
                <a:latin typeface="Times New Roman"/>
              </a:rPr>
              <a:t> и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hlinkClick r:id="rId4"/>
              </a:rPr>
              <a:t>научного стилей</a:t>
            </a:r>
            <a:r>
              <a:rPr b="0" lang="en-US" sz="1800" spc="-1" strike="noStrike" u="sng">
                <a:solidFill>
                  <a:srgbClr val="0d0d0d"/>
                </a:solidFill>
                <a:uFillTx/>
                <a:latin typeface="Times New Roman"/>
              </a:rPr>
              <a:t> речи, для языка художественной литературы. Публицистический стиль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 использует в равной мере письменную и устную формы речи (периодическая печать и телевидение).</a:t>
            </a:r>
            <a:br>
              <a:rPr sz="1800"/>
            </a:b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     Использование письменной формы позволяет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дольше обдумывать свою речь,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строить ее постепенно, исправляя и дополняя, что способствует в конечном итоге выработке и применению более сложных синтаксических конструкций, чем это свойственно устной речи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</a:rPr>
              <a:t>Такие черты устной речи, как повторы, незаконченные конструкции, в письменном тексте были бы стилистическими ошибками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92720" y="620640"/>
            <a:ext cx="3672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9" name="Picture 7" descr="shutterstock_65461219"/>
          <p:cNvPicPr/>
          <p:nvPr/>
        </p:nvPicPr>
        <p:blipFill>
          <a:blip r:embed="rId7"/>
          <a:stretch/>
        </p:blipFill>
        <p:spPr>
          <a:xfrm>
            <a:off x="5076720" y="620640"/>
            <a:ext cx="3888000" cy="597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50720" y="128520"/>
            <a:ext cx="8242560" cy="712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8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orbel"/>
              </a:rPr>
              <a:t>      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«Если человек выйдет на любовное свидание и прочтет своей любимой объяснение по бумажке, она его засмеет. Между тем та же записка, посланная по почте, может ее растрогать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Если учитель читает текст своего урока по книге, авторитета у этого учителя нет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Если агитатор пользуется все время шпаргалкой, можете заранее знать: такой никого не сагитирует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Если человек в суде начнет давать показания по бумажке, этим показаниям никто не поверит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Плохим лектором считается тот, кто читает, уткнувшись носом в принесенную из дому рукопись. Но если напечатать текст этой лекции, она может оказаться интересной. И выяснится, что она скучна не потому, что бессодержательна, а потому, что письменная речь заменила на кафедре живую устную речь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       </a:t>
            </a: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В чем тут дело? Дело, мне кажется, в том, что написанный текст является посредником между людьми, когда между ними невозможно живое общение. В таких случаях текст выступает как представитель автора. Но если автор здесь и может говорить сам, написанный текст становится при общении помехой»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rbel"/>
              </a:rPr>
              <a:t>И. Андроников «Слово написанное и сказанное»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7142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56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orbel"/>
              </a:rPr>
              <a:t>              </a:t>
            </a: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«Глубину различий между устной и письменной речью характеризует следующий реальный случай. Журналисты «Независимой газеты» где-то в начале 90-х годов прошлого столетия сыграли с бывшим президентом СССР Михаилом Горбачевым злую шутку – они опубликовали в газете его монолог без обработки, то есть без «перевода» устной речи в письменную. Витиеватая речь Михаила Сергеевича, состоящая из предложений без конца и начала, но с обилием вводных конструкций и местоимений, и сама по себе не является образцом ораторской ясности. Но при визуальном контакте Горбачев помогает себе жестами, интонацией, - в общем, проталкивает смысл своих монологов к воспринимающему. А в письменном тексте этой поддержки не было. Получилась почти полная абракадабра. Журналисты всего лишь дали устную речь в письменном изложении без необходимой в таких случаях обработки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              </a:t>
            </a: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Если бы адресат воспринимал этот монолог Горбачева непосредственно в ходе устного выступления – он бы худо-бедно понял президента. Но тот же монолог на письме оказался практически недоступным для понимания»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  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            </a:t>
            </a:r>
            <a:r>
              <a:rPr b="1" lang="ru-RU" sz="1600" spc="-1" strike="noStrike">
                <a:solidFill>
                  <a:srgbClr val="0d0d0d"/>
                </a:solidFill>
                <a:latin typeface="Corbel"/>
              </a:rPr>
              <a:t>Мирошниченко А."Бизнес-коммуникации. Мастерство делового общения. Практическое руководство"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4" name="Picture 6" descr="shutterstock_106380128"/>
          <p:cNvPicPr/>
          <p:nvPr/>
        </p:nvPicPr>
        <p:blipFill>
          <a:blip r:embed="rId3"/>
          <a:stretch/>
        </p:blipFill>
        <p:spPr>
          <a:xfrm>
            <a:off x="5724360" y="620640"/>
            <a:ext cx="3419640" cy="597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7" name="Picture 4" descr="C:\Users\Region\Desktop\картинки с шаттерстока\shutterstock_86718247.jpg"/>
          <p:cNvPicPr/>
          <p:nvPr/>
        </p:nvPicPr>
        <p:blipFill>
          <a:blip r:embed="rId2"/>
          <a:stretch/>
        </p:blipFill>
        <p:spPr>
          <a:xfrm>
            <a:off x="214200" y="0"/>
            <a:ext cx="8929800" cy="6572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3924360" y="2357280"/>
            <a:ext cx="479088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Пишем</a:t>
            </a:r>
            <a:r>
              <a:rPr b="1" lang="en-US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сочинение</a:t>
            </a:r>
            <a:r>
              <a:rPr b="1" lang="en-US" sz="4400" spc="-1" strike="noStrike">
                <a:solidFill>
                  <a:srgbClr val="cbf0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о речи устной и письменной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635280" y="333000"/>
            <a:ext cx="53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50" name="Picture 30" descr="shutterstock_93556075"/>
          <p:cNvPicPr/>
          <p:nvPr/>
        </p:nvPicPr>
        <p:blipFill>
          <a:blip r:embed="rId2"/>
          <a:stretch/>
        </p:blipFill>
        <p:spPr>
          <a:xfrm>
            <a:off x="0" y="189000"/>
            <a:ext cx="3419640" cy="6669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92000" y="188640"/>
            <a:ext cx="5651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Российский журналист А.А. Мирошниченко утверждает: «Некоторые учёные даже предлагают выделять два языка – устный и письменный, настолько большие различия существуют между устной и письменной речью»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Действительно, в  устной   речи многое можно передать при помощи интонации, жестов и мимики, а в   письменной все должно быть понятно исключительно из ее смысла, поэтому она должна быть грамотно построенной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пример, рассказывая читателю о действиях и настроении ребят, автор   использует сложное предложение 25 с деепричастными оборотами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стная же речь  проще, однако говорящий  тоже может передать своё эмоциональное состояние. Так, в предложении 15 («А я откуда знаю?!») понять, насколько  расстроен мальчик, помогает инверсия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ледовательно, в устной речи за формой мы пытаемся увидеть содержание, а в письменной – для содержания подбираем соответствующую форму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52" name="Rectangle 39"/>
          <p:cNvSpPr/>
          <p:nvPr/>
        </p:nvSpPr>
        <p:spPr>
          <a:xfrm rot="8000400">
            <a:off x="1446480" y="4178880"/>
            <a:ext cx="1063440" cy="16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712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885672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Напишите сочинение-рассуждение, раскрывая смысл высказывания…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 Black"/>
              </a:rPr>
              <a:t>… </a:t>
            </a:r>
            <a:r>
              <a:rPr b="1" lang="en-US" sz="2400" spc="-1" strike="noStrike">
                <a:solidFill>
                  <a:srgbClr val="da1f28"/>
                </a:solidFill>
                <a:latin typeface="Arial Black"/>
              </a:rPr>
              <a:t>российского журналиста А.А. Мирошниченко:</a:t>
            </a:r>
            <a:r>
              <a:rPr b="1" lang="en-US" sz="2400" spc="-1" strike="noStrike">
                <a:solidFill>
                  <a:srgbClr val="0d0d0d"/>
                </a:solidFill>
                <a:latin typeface="Arial Black"/>
              </a:rPr>
              <a:t> «Некоторые учёные даже предлагают выделять два языка – устный и письменный, настолько большие различия существуют между устной и письменной речью»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 Black"/>
              </a:rPr>
              <a:t>… </a:t>
            </a:r>
            <a:r>
              <a:rPr b="1" lang="en-US" sz="2400" spc="-1" strike="noStrike">
                <a:solidFill>
                  <a:srgbClr val="da1f28"/>
                </a:solidFill>
                <a:latin typeface="Arial Black"/>
              </a:rPr>
              <a:t>русского писателя Б.В.Шергина:</a:t>
            </a:r>
            <a:r>
              <a:rPr b="1" lang="en-US" sz="2400" spc="-1" strike="noStrike">
                <a:solidFill>
                  <a:srgbClr val="0d0d0d"/>
                </a:solidFill>
                <a:latin typeface="Arial Black"/>
              </a:rPr>
              <a:t> «Устная фраза, перенесённая на бумагу, всегда подвергается некоторой обработке, хотя бы по части синтаксиса» и т.п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orbe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16000" y="260280"/>
            <a:ext cx="770580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4356000" y="6237360"/>
            <a:ext cx="43149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Егораева Г.Т., Москв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pic>
        <p:nvPicPr>
          <p:cNvPr id="156" name="Picture 8" descr="shutterstock_68959654"/>
          <p:cNvPicPr/>
          <p:nvPr/>
        </p:nvPicPr>
        <p:blipFill>
          <a:blip r:embed="rId2"/>
          <a:stretch/>
        </p:blipFill>
        <p:spPr>
          <a:xfrm>
            <a:off x="468360" y="2708280"/>
            <a:ext cx="331164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614080" cy="1280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Рубинштейн С.Л. «Основы общей психологии», 1989г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Колокольцева Т.Н. Специфические коммуникативные единицы диалогической речи. – Волгоград, 2001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Земская Е.А</a:t>
            </a:r>
            <a:r>
              <a:rPr b="0" i="1" lang="ru-RU" sz="2000" spc="-1" strike="noStrike">
                <a:solidFill>
                  <a:srgbClr val="0d0d0d"/>
                </a:solidFill>
                <a:latin typeface="Corbel"/>
              </a:rPr>
              <a:t>.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 Устная речь // Русский язык. Энциклопедия. М.: БРЭ-Дрофа, 1997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Мирошниченко А."Бизнес-коммуникации. Мастерство делового общения. Практическое руководство" М., 2008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59" name="Picture 4" descr="shutterstock_95795992"/>
          <p:cNvPicPr/>
          <p:nvPr/>
        </p:nvPicPr>
        <p:blipFill>
          <a:blip r:embed="rId7"/>
          <a:stretch/>
        </p:blipFill>
        <p:spPr>
          <a:xfrm>
            <a:off x="684360" y="189000"/>
            <a:ext cx="22860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hutterstock_85499707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408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95280" y="3357720"/>
            <a:ext cx="8353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5fa"/>
                </a:solidFill>
                <a:latin typeface="Arial Black"/>
              </a:rPr>
              <a:t>Т е к с т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1)Подружились Ваня и Нюра с дядей Соломиным давным-давно, и если бы им  кто-нибудь сказал, что дядя Соломин не родной им человек, они бы, пожалуй, не поверили. (2)И радостью, и детской бедой они привыкли делиться с ним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)Но однажды хозяйка, у которой снимал комнату Иван Павлович, встретила их со слезами: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4)— Нету, детки, Ивана Павловича, в больнице он, ногу ему повредило…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5)— К-как повредило? Где? — оторопели ребята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6)— В поездке вчера. (7)Пассажир какой-то упал между вагонами, поймался за скобу и орет. (8)Павлыч-то и полез человека спасать. (9)Выручил пассажира, а самому ногу и придавило, — хозяйка  заплакала. (10)— Ходила я в больницу. (11)Говорят, ему ногу выше колена отрежут…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12)Низко опустив головы, ребята ушли на берег и уселись под тополями. (13)Нюра сквозь слезы смотрела на заречный лес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14)— Вань, а земляника поспела? — вдруг тихо спросила она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15)— А я откуда знаю?! (16)Не до земляники сейчас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17)— Ты не сердись. (18)Я это вот к чему. (19)Если поспела — поплывем за реку, наберем и дяде Соломину отнесем…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20)— Нюрка! — загорелся Ваня. (21)— Ух, и голова у тебя!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22)Робко вошли ребята  в палату и замерли, пораженные, — так изменился дядя Соломин. (23)Но самая разительная перемена в глазах: нет той ласковой усмешки, которая часто искрилась в них, нет и грусти. (24)Глаза Соломина словно стекляшки — ровные, безразличные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25)Преодолевая робость, ребята двинулись к его кровати, с радостью замечая, что под тонким одеялом — обе ноги. (26)Нюра задрожавшим голосом сказала: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27)— Это мы пришли, дядя Соломин… (28)Мы… я и Ваня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29)— Ах, вот кто ко мне пожаловал, — попытался улыбнуться Иван Павлович, с трудом потянулся с кровати и подвинул табуретку. (30)— Садитесь, ребятки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1)Ваня и Нюра чинно уселись рядышком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2)— Ну, как дела?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3)— Все на пять, — почему-то шепотом ответила Нюра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4)— Тройка по математике, — промямлил Ваня, угрюмо глядя в распахнутое настежь окно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5)— Как же ты это подкачал, тезка?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6)Ваня только вздохнул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7)Иван Павлович потрепал Ваню по плечу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8)— Ничего, тезка… не горюй…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39)Нюра толкнула Ваню под бок и повела глазами на рукав халата, где хранился стакан с ягодой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(40)— Это… вот… дядя Соломин, вам, — неловко предложил Ваня подарок.</a:t>
            </a:r>
            <a:endParaRPr b="0" lang="en-US" sz="14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1)Иван Павлович, как завороженный, протянул руки к стакану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2)— Земляника! — прошептал он и возбужденно крикнул на всю палату: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3)-Ребята землянику принесли!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4)— Да ну! (45)Неужели поспела?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6) Иван Павлович поднял стакан так, чтобы все видели: 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7)— Угощаю первой ягодой! (48)Нюра, надели всех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49)Он сунул ей ложечку, и она пошла по палате, насыпая землянику в ладони больных. (50)Как величайшую драгоценность, принимали ягоду больные, подолгу рассматривали ее, вдыхали аромат и растроганно благодарили: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1)— Ай, спасибо, детки, вот удружили, вот обрадовали…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2)— А я думаю: откуда это лесом, земляникой потянуло? — говорил Иван Павлович. — Мерещится, думаю, с тоски, а тут оказывается, первооткрыватели ягодного сезона явились… (53)Ну, а вы сами-то почему не пробуете? (54)Берите!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5)Нюра взяла две ягодки, а Ваня заявил: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6)— Ел, ел, аж опротивели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7)— Тезка, не ври. (58)Сколько раз я тебе говорил, что вранье — последнее дело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59)— Я и не вру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0)— Нет, врешь. (61)Это — первые ягоды, и в такую пору полный стакан набрать не так просто. 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2)Иван Павлович откинулся на подушку, полюбовался ягодами, положил одну из них в рот и блаженно закрыл глаза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3)— Хороша! — восхищенно сказал он.(64)— Не знаю, как я теперь в лес с вами пойду, — добавил он и взглянул на свою неподвижную ногу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5)— Да это ерунда, дядя Соломин, — горячо заговорил Ваня.  (66)– Мы все вместе скоро рыбачить и охотиться  станем, вот увидите! 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7)Иван Павлович растроганно прижал детей к своей широкой груди, отпустил и сказал: 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8)— Ну, бегите,  дорогие мои, бегите… 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69)По коридору расхаживал главврач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70)— Ну, как, повидались с дядей Соломиным?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71)— Повидались, спасибо, — ответила Нюра и, помедлив, спросила: (72)— Дядя доктор, ногу ему будете отрезать или нет?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74)— Хм… (75)Это зависит от того, как вы его земляникой подкармливать будете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76)— Земляникой! — обрадовался Ваня. (77)— Да мы каждый день и лес ходить станем и рыбы наудим, он еще рыбу любит, только вы не режьте ему ногу. (78)Ладно?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79)— Постараемся, постараемся сохранить вашему дяде ногу, — взъерошив волосы на головах ребят, вздохнул главврач и пошел в палату, из которой они только что вышли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80)Во дворе Нюра остановила брата и предложила: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81)— Вань, давай всех ребят с нашей улицы сговорим за земляникой? (82)Много в больницу принесем.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83)Ваня постукал пальцем по голове и серьезно проговорил: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84)— Крепко у тебя тут, Нюрка, варит…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85)И ребята вначале медленно, но потом, не удержавшись, припустили во весь дух…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</a:rPr>
              <a:t>(По В.Астафьеву)</a:t>
            </a:r>
            <a:endParaRPr b="0" lang="en-US" sz="1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Речь – это форма существования языка, его воплощение, реализация. </a:t>
            </a:r>
            <a:r>
              <a:rPr b="1" lang="en-US" sz="3200" spc="-1" strike="noStrike">
                <a:solidFill>
                  <a:srgbClr val="0d0d0d"/>
                </a:solidFill>
                <a:latin typeface="Corbel"/>
              </a:rPr>
              <a:t>Под речью понимают использование человеком языковых богатств в жизненных ситуациях; это результат процесса формулирования и передачи мысли средствами языка.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Речь отдельного говорящего обладает особенностями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произношения,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лексики,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структуры предложений.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07" name="Picture 5" descr="shutterstock_20308360"/>
          <p:cNvPicPr/>
          <p:nvPr/>
        </p:nvPicPr>
        <p:blipFill>
          <a:blip r:embed="rId5"/>
          <a:stretch/>
        </p:blipFill>
        <p:spPr>
          <a:xfrm>
            <a:off x="5219640" y="4286160"/>
            <a:ext cx="3745080" cy="238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450720" y="-60480"/>
            <a:ext cx="8242560" cy="71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Внутренняя                                  Внешняя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Письменная      Устная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Монологическая        Диалогическая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2340000" y="76500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6372360" y="765000"/>
            <a:ext cx="215640" cy="936720"/>
          </a:xfrm>
          <a:prstGeom prst="downArrow">
            <a:avLst>
              <a:gd name="adj1" fmla="val 50000"/>
              <a:gd name="adj2" fmla="val 108598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AutoShape 6"/>
          <p:cNvSpPr/>
          <p:nvPr/>
        </p:nvSpPr>
        <p:spPr>
          <a:xfrm rot="2403000">
            <a:off x="5651280" y="2420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AutoShape 7"/>
          <p:cNvSpPr/>
          <p:nvPr/>
        </p:nvSpPr>
        <p:spPr>
          <a:xfrm rot="19095000">
            <a:off x="7236000" y="2420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3132000" y="836640"/>
            <a:ext cx="216000" cy="2952720"/>
          </a:xfrm>
          <a:prstGeom prst="downArrow">
            <a:avLst>
              <a:gd name="adj1" fmla="val 50000"/>
              <a:gd name="adj2" fmla="val 34175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211640" y="836640"/>
            <a:ext cx="216000" cy="2952720"/>
          </a:xfrm>
          <a:prstGeom prst="downArrow">
            <a:avLst>
              <a:gd name="adj1" fmla="val 50000"/>
              <a:gd name="adj2" fmla="val 34175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10" descr="shutterstock_79711009"/>
          <p:cNvPicPr/>
          <p:nvPr/>
        </p:nvPicPr>
        <p:blipFill>
          <a:blip r:embed="rId3"/>
          <a:stretch/>
        </p:blipFill>
        <p:spPr>
          <a:xfrm>
            <a:off x="5508720" y="4221000"/>
            <a:ext cx="3047760" cy="249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hutterstock_86079034"/>
          <p:cNvPicPr/>
          <p:nvPr/>
        </p:nvPicPr>
        <p:blipFill>
          <a:blip r:embed="rId4"/>
          <a:stretch/>
        </p:blipFill>
        <p:spPr>
          <a:xfrm>
            <a:off x="395280" y="4149720"/>
            <a:ext cx="249408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21920" cy="53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453564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Основу обеих форм речи  составляет литературный язык;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обе формы вынуждены придерживаться общепринятых норм русского языка;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обе формы в практике занимают примерно равное место по своей значимости, проникая во все сферы человеческой жизнедеятельности, включая сферу производства, управления,  образования, юриспруденции, искусства,  средства массовой информации и т.д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      </a:t>
            </a: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С развитием сотовой связи люди получили возможность общения по телефону как посредством устной, так и письменной речи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      </a:t>
            </a: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С развитием Интернет – технологий появилась возможность преодолевать пространство и время, общаясь посредством устной и письменной речи на выбор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 Black"/>
              </a:rPr>
              <a:t>       </a:t>
            </a:r>
            <a:r>
              <a:rPr b="1" lang="en-US" sz="1600" spc="-1" strike="noStrike">
                <a:solidFill>
                  <a:srgbClr val="da1f28"/>
                </a:solidFill>
                <a:latin typeface="Arial Black"/>
              </a:rPr>
              <a:t>В равной степени необходимы обе формы речи, чтобы, переплетаясь в одно целое, помогали общаться, полноценно воспринимать, анализировать и передавать информацию в быстро меняющемся мире. </a:t>
            </a:r>
            <a:endParaRPr b="0" lang="en-US" sz="16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20" name="Picture 8" descr="shutterstock_15885751"/>
          <p:cNvPicPr/>
          <p:nvPr/>
        </p:nvPicPr>
        <p:blipFill>
          <a:blip r:embed="rId8"/>
          <a:stretch/>
        </p:blipFill>
        <p:spPr>
          <a:xfrm>
            <a:off x="4716360" y="907920"/>
            <a:ext cx="23767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utterstock_98553995"/>
          <p:cNvPicPr/>
          <p:nvPr/>
        </p:nvPicPr>
        <p:blipFill>
          <a:blip r:embed="rId9"/>
          <a:stretch/>
        </p:blipFill>
        <p:spPr>
          <a:xfrm>
            <a:off x="6732720" y="2708280"/>
            <a:ext cx="2182680" cy="2089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hutterstock_106884095"/>
          <p:cNvPicPr/>
          <p:nvPr/>
        </p:nvPicPr>
        <p:blipFill>
          <a:blip r:embed="rId10"/>
          <a:stretch/>
        </p:blipFill>
        <p:spPr>
          <a:xfrm>
            <a:off x="4716360" y="3284640"/>
            <a:ext cx="1997280" cy="333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shutterstock_87647233"/>
          <p:cNvPicPr/>
          <p:nvPr/>
        </p:nvPicPr>
        <p:blipFill>
          <a:blip r:embed="rId11"/>
          <a:stretch/>
        </p:blipFill>
        <p:spPr>
          <a:xfrm>
            <a:off x="7020000" y="4797360"/>
            <a:ext cx="212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shutterstock_110667590"/>
          <p:cNvPicPr/>
          <p:nvPr/>
        </p:nvPicPr>
        <p:blipFill>
          <a:blip r:embed="rId12"/>
          <a:stretch/>
        </p:blipFill>
        <p:spPr>
          <a:xfrm>
            <a:off x="7093080" y="907920"/>
            <a:ext cx="1800000" cy="18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24256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79280" y="907920"/>
          <a:ext cx="8785440" cy="5797800"/>
        </p:xfrm>
        <a:graphic>
          <a:graphicData uri="http://schemas.openxmlformats.org/drawingml/2006/table">
            <a:tbl>
              <a:tblPr/>
              <a:tblGrid>
                <a:gridCol w="4753080"/>
                <a:gridCol w="40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Уст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Письм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Говорящий и слушающий не только слышат, но часто и видят друг друга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Пишущий может лишь мысленно представлять себе будущего читателя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Во многих случаях зависит от реакции слушате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Не зависит от реакции адресата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Рассчитана на слуховое восприятие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Рассчитана на зрительное восприятие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Устное высказывание может быть воспроизведено только при наличии специальных технических устройств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Читатель может повторно перечитывать написанно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Человек говорит без подготовки, исправляя по ходу изложения лишь то, что сумеет заметить в процессе речи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Пишущий может неоднократно возвращаться к написанному и многократно совершенствовать его.</a:t>
                      </a:r>
                      <a:r>
                        <a:rPr b="0" lang="en-US" sz="2000" spc="-1" strike="noStrike">
                          <a:solidFill>
                            <a:srgbClr val="0d0d0d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32:15Z</dcterms:created>
  <dc:creator/>
  <dc:description/>
  <dc:language>en-US</dc:language>
  <cp:lastModifiedBy/>
  <dcterms:modified xsi:type="dcterms:W3CDTF">2012-11-18T12:11:5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51049</vt:lpwstr>
  </property>
</Properties>
</file>