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3C6-3384-4CBA-95F6-6F8131DD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8DA-CC08-42EB-8422-79F7C288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2F39-4797-4E90-823F-00F09E35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9BF-1ED2-41EE-B141-5A9CEC04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6A4C-2556-403C-B227-0D8F8C5E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FB8D-3940-4BC2-B298-0C350AAF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C024-6C66-4DDC-A3AA-927E75B9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53AF-EFA7-4F64-A4BB-29F367CD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B3DF-F64B-40A1-80BB-4FDD051A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FB1E-A8AB-44E6-95A5-68CA45BD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992A-9DFD-4163-8330-FE71A466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FE5-FDEC-44C0-9CFF-41E3E5EF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84B2-E68E-4BA6-A8E1-C393A1D0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7FF6-5225-4B78-B5D7-34F4F03B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BE90-3692-4742-8620-9DB43564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4BE1-0FD4-4BD2-B861-5EE35E75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4E9A-8796-485C-8A45-12B06ACA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DE4-9211-4F24-8F44-82268789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7BA-B29B-42EB-8244-AB9739EA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B36-64E9-47F5-9366-8258DBEC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72E-9886-4A4B-872D-4097FF8D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D30-7ECD-4865-B0CA-A968FC03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57A-F783-4F8E-9866-8B48F3B1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354-979A-4882-9F7F-F5792C3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8C59-6418-4E78-A4B5-4B5BE2CA24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2707-8D4D-4097-AC47-66104E8D4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hutterstock_29965951"/>
          <p:cNvPicPr/>
          <p:nvPr/>
        </p:nvPicPr>
        <p:blipFill>
          <a:blip r:embed="rId1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 rot="21024000">
            <a:off x="539280" y="2491920"/>
            <a:ext cx="100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shutterstock_29965948"/>
          <p:cNvPicPr/>
          <p:nvPr/>
        </p:nvPicPr>
        <p:blipFill>
          <a:blip r:embed="rId2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5148360" y="3141720"/>
            <a:ext cx="3311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Местои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мести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ме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examen_logo2"/>
          <p:cNvPicPr/>
          <p:nvPr/>
        </p:nvPicPr>
        <p:blipFill>
          <a:blip r:embed="rId3"/>
          <a:stretch/>
        </p:blipFill>
        <p:spPr>
          <a:xfrm>
            <a:off x="5823000" y="0"/>
            <a:ext cx="3321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)Часов  в  десять  утра Петя с братом и отцом  заехали  в  большое село напоить лоша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)Кучер подвел их коней, тащивших за собой громоздкий вагон  дилижанса, 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инице. (3)Это был колодец, так называемый "журавель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4)Кучер сунул кнут  за  голенище  и  поймал  очень  длинную,  вертикально висящую палку, к концу  которой  была  прикована  на  цепи  тяжелая  дубовая бадейка. (5)Он стал, перебирая руками по палке, опускать ее в колодец. (6)Журавель заскрипел. (7)Один конец громадного коромысла стал наклоняться,  как  бы  желая заглянуть в колодец, в то время как другой - с привязанным  для  противовеса большим ноздреватым камнем - легко поднимался вверх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8)Петя навалился грудью  на  борт  криницы  и  посмотрел  в  нее,  как  в подзорную труб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9)Круглая шахта, выложенная булыжником, покрытая глухим  темно-коричневым бархатом плесени, уходила далеко вглубь. (10)И там, в холодной темноте,  блестел маленький кружочек воды с фотографически четким отражением Петиной шля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1) Мальчик крикнул, и колодец наполнился  гулким шу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2)Бадейка очень далеко шла вниз, стала совсем маленькой, а все  никак 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гла дойти до воды. (13)Наконец раздался далекий всплеск. (14)Бадейка погрузилась в воду, захлебнулась и пошла ввер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5)Увесистые капли шлепались в воду. (16)Они стреляли, как пист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7)Журавель скрипнул в последний  раз.  (18)Кучер  сильными  руками  подхват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довую бадейку и вылил в каменную колоду. (19)Но, прежде чем вылить, напился 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е сам. (20)После кучера напился и Петя. (21)Именно в этом-то и заключалась гла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лесть водоп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2)Мальчик окунул нос и подбородок в совершенно прозрачную, холодную,  как лед, воду. (23)Бадейка изнутри обросла  зеленой  бородой  тины.  (24)Что-то  жуткое, почти колдовское было в этой бадейке и в этой тине. (25) Что-то  очень  древнее, лесное,  говорившее  детскому  воображению  о  водяной  мельнице, колдуне-мельнике, омуте и царевне-лягуш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6)От ледяной воды сразу стало ломить лоб, но день был горяч, и Петя знал, что эта боль скоро пройд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7)Он осторожно пробрался через черную,  как  вакса,  грязь  водопоя, сплошь истыканную свиными копытцами. (28)Затем пошел вдоль водостока, по  лужку, покрытому гусиным пух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9)Водосток привел его к болотцу, сплошь заросшему высоким  лесом  камыша, осоки и сорняков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0)Здесь даже в самый яркий полдень  была  сумрачная  прохлада.  (31)Множество одуряющих запахов резко ударило в н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2)Особый, очень  острый  запах  осоки  смешивался  со  сладкой,  какой-то ореховой вонью болиголова, от которой действительно начинала болеть голова. (33)Остролистые кустики  дурмана,  покрытые  черно-зелеными  коробочками  с мясистыми колючками и длинными, необыкновенно нежными и необыкновенно белыми вонючими цветами, росли рядом с пасленом, беленой и таинственной сон-тра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4)На  тропинке  сидела  большая  лягушка   с   закрытыми   глазами,   как заколдованная, и Петя изо всех сил старался на нее не смотреть, чтобы  вдруг не увидеть на ее голове маленькую золотую коро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5)Вообще всё казалось здесь заколдованным, как в сказочном ле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6)Не  здесь  ли  бродила  где-нибудь  поблизости  худенькая  большеглазая Аленушка, безутешно оплакивая своего братика Иванушку?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7)И если бы вдруг из  чащи  выбежал  белый  барашек  и  замекал  детским, тоненьким голоском, то, вероятно, Петя лишился бы чувств от стр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8) Мальчик решил не думать о барашке. (39)Но чем больше он старался не думать, тем больше думал. (40)А чем больше думал, тем становилось ему страшнее одному  в черной зелени этого проклятого ме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41)Он изо всех сил зажмурился, чтобы  не  закричать,  бросился  вон  из ядовитой заросли и бежал до тех пор, пока не очутился во двор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В.Катаев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shutterstock_98701979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476360" y="1557360"/>
            <a:ext cx="3527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Пише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сочин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571920" y="0"/>
            <a:ext cx="5572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тельно, местоименные слова, не выражая понятий, лишь отсылают к чему-либо, уже упоминавшемуся  в предыдущем или последующем предлож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, в предложении 4 относительное местоимение «(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 котор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указывает на существительное «палка»  в главном предложении и замещает его, связывая части сложн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, например, местоимение «(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 этом-то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едложение 21), замещая глаголы «напился» в 19 и 20 предложениях, тоже лишь указывает на действия, не называя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местоименные слова всего лишь замещают знаменательные, и их смысл можно понять только из текста или речевой ситуаци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shutterstock_107012834"/>
          <p:cNvPicPr/>
          <p:nvPr/>
        </p:nvPicPr>
        <p:blipFill>
          <a:blip r:embed="rId1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428720" y="142560"/>
            <a:ext cx="4714920" cy="67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и предложений 1-4 найдите предложение с притяжательным местоимением, указывающим на принадлежность предметов определённым лиц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едложении 32 найдите слово, замещённое в придаточной части местоимением «который». Докажите, что без знаменательного слова в главной части это местоимение «обесцене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имере любых местоимений из текста  докажите, что их значения проявляются и конкретизируются только в конкретной коммуникатив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E:\картинки с шаттерстока\shutterstock_96690760.jpg"/>
          <p:cNvPicPr/>
          <p:nvPr/>
        </p:nvPicPr>
        <p:blipFill>
          <a:blip r:embed="rId1"/>
          <a:stretch/>
        </p:blipFill>
        <p:spPr>
          <a:xfrm>
            <a:off x="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5"/>
          <p:cNvSpPr/>
          <p:nvPr/>
        </p:nvSpPr>
        <p:spPr>
          <a:xfrm>
            <a:off x="1571760" y="2786040"/>
            <a:ext cx="2428920" cy="29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тек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71640" y="260280"/>
            <a:ext cx="784836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ю за внимание!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4829040" y="6334200"/>
            <a:ext cx="431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гораева Г.Т., Москва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8" name="Picture 5" descr="shutterstock_89598001"/>
          <p:cNvPicPr/>
          <p:nvPr/>
        </p:nvPicPr>
        <p:blipFill>
          <a:blip r:embed="rId1"/>
          <a:stretch/>
        </p:blipFill>
        <p:spPr>
          <a:xfrm>
            <a:off x="1042920" y="1557360"/>
            <a:ext cx="6408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378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80000" y="0"/>
            <a:ext cx="536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ишите сочинение-рассуждение, раскрывая смысл высказывания известного лингвиста А.А.Реформат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Местоименные слова – слова вторичные, слова-заместители. Золотым фондом для местоимений являются знаменательные слова, без наличия которых существование местоимений «обесцене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shutterstock_29965975"/>
          <p:cNvPicPr/>
          <p:nvPr/>
        </p:nvPicPr>
        <p:blipFill>
          <a:blip r:embed="rId1"/>
          <a:stretch/>
        </p:blipFill>
        <p:spPr>
          <a:xfrm>
            <a:off x="0" y="0"/>
            <a:ext cx="376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0" name="Прямая со стрелкой 11"/>
          <p:cNvCxnSpPr/>
          <p:nvPr/>
        </p:nvCxnSpPr>
        <p:spPr>
          <a:xfrm flipH="1" flipV="1">
            <a:off x="2214000" y="2714040"/>
            <a:ext cx="857880" cy="5007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91" name="Прямая со стрелкой 13"/>
          <p:cNvCxnSpPr/>
          <p:nvPr/>
        </p:nvCxnSpPr>
        <p:spPr>
          <a:xfrm flipH="1" flipV="1">
            <a:off x="2928240" y="1999440"/>
            <a:ext cx="572040" cy="786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92" name="Прямая со стрелкой 15"/>
          <p:cNvCxnSpPr/>
          <p:nvPr/>
        </p:nvCxnSpPr>
        <p:spPr>
          <a:xfrm flipV="1">
            <a:off x="4370760" y="1422000"/>
            <a:ext cx="2520" cy="1215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93" name="Прямая со стрелкой 17"/>
          <p:cNvCxnSpPr/>
          <p:nvPr/>
        </p:nvCxnSpPr>
        <p:spPr>
          <a:xfrm flipV="1">
            <a:off x="5318280" y="1928520"/>
            <a:ext cx="326160" cy="924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94" name="Прямая со стрелкой 19"/>
          <p:cNvCxnSpPr/>
          <p:nvPr/>
        </p:nvCxnSpPr>
        <p:spPr>
          <a:xfrm flipV="1">
            <a:off x="5715000" y="2785680"/>
            <a:ext cx="929520" cy="5724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95" name="Oval 12"/>
          <p:cNvSpPr/>
          <p:nvPr/>
        </p:nvSpPr>
        <p:spPr>
          <a:xfrm>
            <a:off x="2484360" y="2708280"/>
            <a:ext cx="388800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ые сло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намена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стои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179280" y="2205000"/>
            <a:ext cx="2521080" cy="504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755640" y="1557360"/>
            <a:ext cx="2303640" cy="431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1908000" y="620640"/>
            <a:ext cx="5759640" cy="720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5435640" y="1557360"/>
            <a:ext cx="3097080" cy="431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6659640" y="2637000"/>
            <a:ext cx="2376360" cy="57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0" y="4581360"/>
            <a:ext cx="914400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именные слова указывают н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меты, признаки, действ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ношения, количе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называя их и являясь заместител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наменательных слов в пред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именные слова представляют отдельную часть реч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естоим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5"/>
          <p:cNvSpPr/>
          <p:nvPr/>
        </p:nvSpPr>
        <p:spPr>
          <a:xfrm rot="5400000">
            <a:off x="4141080" y="2348640"/>
            <a:ext cx="287280" cy="201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6"/>
          <p:cNvSpPr/>
          <p:nvPr/>
        </p:nvSpPr>
        <p:spPr>
          <a:xfrm rot="5400000">
            <a:off x="4247640" y="3033720"/>
            <a:ext cx="360360" cy="1871640"/>
          </a:xfrm>
          <a:custGeom>
            <a:avLst/>
            <a:gdLst>
              <a:gd name="textAreaLeft" fmla="*/ 0 w 360360"/>
              <a:gd name="textAreaRight" fmla="*/ 129960 w 360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яды местоимений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 зна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640720" cy="59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яют 9 разрядов местоимений по знач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я, ты, он, она, оно, мы, вы, они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Личные местоимения указывают на участников диалога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я, ты, мы, в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лиц, не участвующих в беседе, и предметы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н, она, оно, о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вратное: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себ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Это местоимение указывает на тождественность лица или предмета, названного подлежащим, лицу или предмету, названному словом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еб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н себя не обидит. Надежды себя не оправдал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тяжа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мой, твой, ваш, наш, свой, его, ее, их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тяжательные местоимения указывают на принадлежность предмета лицу или другому предмету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то мой портфель. Его размер очень удобе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азатель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этот, тот, такой, таков, столько, сей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(устар.),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оный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(устар.)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Эти местоимения указывают на признак или количество предм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и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сам, самый, весь, всякий, каждый, любой, другой, иной, всяк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(устар.),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всяческий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(устар.)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пределительные местоимения указывают на признак предм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проситель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кто, что, какой, который, чей, сколько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просительные местоимения служат специальными вопросительными словами и указывают на лиц, предметы, признаки и количе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ситель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е же, что и вопросительные, в функции связи частей сложноподчиненного предложения (союзные сло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рицатель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никто, ничто, некого, нечего, никакой, ничей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рицательные местоимения выражают отсутствие предмета или призна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пределен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некто, нечто, некоторый, некий, нескольк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 также все местоимения, образованные от вопросительных местоимений приставкой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кое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уффиксами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то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, -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либо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, -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нибудь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85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яды местоимени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грамматическим признакам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воим грамматическим признакам местоимения соотносятся с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уществительными, прилагательными и    числитель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естоименные существительные указывают на лицо или предмет, местоименные прилагательные — на признак предмета, местоименные числительные — на количество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4200" y="2071800"/>
            <a:ext cx="5857920" cy="46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естоимениям-существитель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нося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личные местоим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зврат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б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просительно-относительны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образованные от 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рицатель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определе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кто, ничто, некого, нечего, некто, нечто, кто-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д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Первого своего учителя я полюбил сразу. </a:t>
            </a:r>
            <a:r>
              <a:rPr b="1" i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Он 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покорил меня  удивительной способностью видеть в каждом из нас личность и уважать 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:\картинки с шаттерстока\shutterstock_83853133.jpg"/>
          <p:cNvPicPr/>
          <p:nvPr/>
        </p:nvPicPr>
        <p:blipFill>
          <a:blip r:embed="rId1"/>
          <a:stretch/>
        </p:blipFill>
        <p:spPr>
          <a:xfrm>
            <a:off x="6215040" y="2071800"/>
            <a:ext cx="2786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57400" y="285480"/>
            <a:ext cx="507204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естоимениям-прилагатель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сятся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се притяжательные, все определительные, указательны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т, тот, такой, таков, сей, о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просительно-относи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, который, ч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бразованные от них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рицательные и неопределен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какой, ничей, некоторый, некий, какой-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п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Будь честным!»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Этот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завет отца я пронёс через вс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E:\картинки с шаттерстока\shutterstock_113437441.jpg"/>
          <p:cNvPicPr/>
          <p:nvPr/>
        </p:nvPicPr>
        <p:blipFill>
          <a:blip r:embed="rId1"/>
          <a:stretch/>
        </p:blipFill>
        <p:spPr>
          <a:xfrm>
            <a:off x="214200" y="214200"/>
            <a:ext cx="3429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4200" y="428760"/>
            <a:ext cx="45007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имения-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ислитель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ногочислен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ло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ольк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ольк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образованные от них местоимени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сколько, сколько-то, сколько-нибуд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а пригорке показались трое медвежат. Егерь Трофим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столько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и видел раньше с медведицей, которую застрелили браконь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E:\картинки с шаттерстока\shutterstock_30875527.jpg"/>
          <p:cNvPicPr/>
          <p:nvPr/>
        </p:nvPicPr>
        <p:blipFill>
          <a:blip r:embed="rId1"/>
          <a:stretch/>
        </p:blipFill>
        <p:spPr>
          <a:xfrm>
            <a:off x="4929120" y="428760"/>
            <a:ext cx="3857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286160" y="356760"/>
            <a:ext cx="457200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  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местоименных наречий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де, куда, откуда, ког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вязь с предшествующим существительным чисто семантическая: слова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де, куда, откуд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мещают имена 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странственны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значением: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 вершины горы, 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ткуда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мы спустились, послышался грохот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ог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– имена с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м временным: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Это был тот миг, 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когда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решается судь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:\картинки с шаттерстока\shutterstock_53062483.jpg"/>
          <p:cNvPicPr/>
          <p:nvPr/>
        </p:nvPicPr>
        <p:blipFill>
          <a:blip r:embed="rId1"/>
          <a:stretch/>
        </p:blipFill>
        <p:spPr>
          <a:xfrm>
            <a:off x="0" y="214200"/>
            <a:ext cx="414324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shutterstock_496381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 rot="21434400">
            <a:off x="3994200" y="549360"/>
            <a:ext cx="41050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 Black"/>
              </a:rPr>
              <a:t>Текс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cp:keywords/>
  <dc:language>en-US</dc:language>
  <cp:lastModifiedBy>Region</cp:lastModifiedBy>
  <dcterms:modified xsi:type="dcterms:W3CDTF">2012-11-20T04:57:11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