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9FF-4E36-4C6B-9096-E7E7B969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31F-A35C-4164-8894-E4D0436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4AE-18CE-4555-A3DD-372D175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8D7-370D-40D5-8C41-93AB1D2B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3DCC-EB48-47EE-9DE0-2560A512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8A68-27DA-402E-BA6E-D275F687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2E0E-77C3-4BCF-B7C9-9BD16757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1A5F-E9C3-41B7-9557-CCB11690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6ADC-57F0-45BD-ADDC-055DAEB5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2924-191D-48ED-92DF-417BE0DA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8A47-4CBB-4020-9309-8A31B441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432-B5E4-402E-A3D0-759F9E93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AE58-6842-471D-8E25-0AB1A7E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B277-73EE-4F54-B75B-AA64A3A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A0C-FA48-4AD0-BA54-2A5D4F17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64F7-DE77-47F0-BAB8-D0884A88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D99C-F457-419B-8174-84D1C889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B1E-7A37-4D7D-86F2-0940E535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785-5837-479A-8F17-4E6F4406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0D5-56D1-4D3E-B120-B4CA9BF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AAC-AF41-4C52-BCB6-561BCE7B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820-D3C9-434A-B2A9-279A4CA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35E-301D-46A9-8DE7-19EF425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DB6-E72E-437A-A6BC-4A7273E0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5A44-D7DC-4963-A25A-BE7E816C1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AFF-BA36-4D2C-AB90-BA67E98854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hutterstock_29965951"/>
          <p:cNvPicPr/>
          <p:nvPr/>
        </p:nvPicPr>
        <p:blipFill>
          <a:blip r:embed="rId1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 rot="21024000">
            <a:off x="539280" y="2491920"/>
            <a:ext cx="10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hutterstock_29965948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5148360" y="3141720"/>
            <a:ext cx="3311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Местои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мести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ме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examen_logo2"/>
          <p:cNvPicPr/>
          <p:nvPr/>
        </p:nvPicPr>
        <p:blipFill>
          <a:blip r:embed="rId3"/>
          <a:stretch/>
        </p:blipFill>
        <p:spPr>
          <a:xfrm>
            <a:off x="5823000" y="0"/>
            <a:ext cx="3321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)Часов  в  десять  утра Петя с братом и отцом  заехали  в  большое село напоить лоша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)Кучер подвел их коней, тащивших за собой громоздкий вагон  дилижанса, 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инице. (3)Это был колодец, так называемый "журавель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Кучер сунул кнут  за  голенище  и  поймал  очень  длинную,  вертикально висящую палку, к концу  которой  была  прикована  на  цепи  тяжелая  дубовая бадейка. (5)Он стал, перебирая руками по палке, опускать ее в колодец. (6)Журавель заскрипел. (7)Один конец громадного коромысла стал наклоняться,  как  бы  желая заглянуть в колодец, в то время как другой - с привязанным  для  противовеса большим ноздреватым камнем - легко поднимался вверх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8)Петя навалился грудью  на  борт  криницы  и  посмотрел  в  нее,  как  в подзорную труб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9)Круглая шахта, выложенная булыжником, покрытая глухим  темно-коричневым бархатом плесени, уходила далеко вглубь. (10)И там, в холодной темноте,  блестел маленький кружочек воды с фотографически четким отражением Петиной шля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1) Мальчик крикнул, и колодец наполнился  гулким шу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2)Бадейка очень далеко шла вниз, стала совсем маленькой, а все  никак 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ла дойти до воды. (13)Наконец раздался далекий всплеск. (14)Бадейка погрузилась в воду, захлебнулась и пошла ввер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)Увесистые капли шлепались в воду. (16)Они стреляли, как пист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7)Журавель скрипнул в последний  раз.  (18)Кучер  сильными  руками  подхват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довую бадейку и вылил в каменную колоду. (19)Но, прежде чем вылить, напился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е сам. (20)После кучера напился и Петя. (21)Именно в этом-то и заключалась гла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лесть водоп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)Мальчик окунул нос и подбородок в совершенно прозрачную, холодную,  как лед, воду. (23)Бадейка изнутри обросла  зеленой  бородой  тины.  (24)Что-то  жуткое, почти колдовское было в этой бадейке и в этой тине. (25) Что-то  очень  древнее, лесное,  говорившее  детскому  воображению  о  водяной  мельнице, колдуне-мельнике, омуте и царевне-лягуш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6)От ледяной воды сразу стало ломить лоб, но день был горяч, и Петя знал, что эта боль скоро пройд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7)Он осторожно пробрался через черную,  как  вакса,  грязь  водопоя, сплошь истыканную свиными копытцами. (28)Затем пошел вдоль водостока, по  лужку, покрытому гусиным пух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9)Водосток привел его к болотцу, сплошь заросшему высоким  лесом  камыша, осоки и сорняков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0)Здесь даже в самый яркий полдень  была  сумрачная  прохлада.  (31)Множество одуряющих запахов резко ударило в н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2)Особый, очень  острый  запах  осоки  смешивался  со  сладкой,  какой-то ореховой вонью болиголова, от которой действительно начинала болеть голова. (33)Остролистые кустики  дурмана,  покрытые  черно-зелеными  коробочками  с мясистыми колючками и длинными, необыкновенно нежными и необыкновенно белыми вонючими цветами, росли рядом с пасленом, беленой и таинственной сон-т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4)На  тропинке  сидела  большая  лягушка   с   закрытыми   глазами,   как заколдованная, и Петя изо всех сил старался на нее не смотреть, чтобы  вдруг не увидеть на ее голове маленькую золотую коро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5)Вообще всё казалось здесь заколдованным, как в сказочном ле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6)Не  здесь  ли  бродила  где-нибудь  поблизости  худенькая  большеглазая Аленушка, безутешно оплакивая своего братика Иванушку?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7)И если бы вдруг из  чащи  выбежал  белый  барашек  и  замекал  детским, тоненьким голоском, то, вероятно, Петя лишился бы чувств от стр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8) Мальчик решил не думать о барашке. (39)Но чем больше он старался не думать, тем больше думал. (40)А чем больше думал, тем становилось ему страшнее одному  в черной зелени этого проклятого ме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1)Он изо всех сил зажмурился, чтобы  не  закричать,  бросился  вон  из ядовитой заросли и бежал до тех пор, пока не очутился во двор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о В.Катаев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hutterstock_98701979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476360" y="1557360"/>
            <a:ext cx="3527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Пиш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сочин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571920" y="0"/>
            <a:ext cx="5572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тельно, местоименные слова, не выражая понятий, лишь отсылают к чему-либо, уже упоминавшемуся  в предыдущем или последующем предлож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, в предложении 4 относительное местоимение «(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котор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указывает на существительное «палка»  в главном предложении и замещает его, связывая части сложно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, например, местоимение «(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этом-то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едложение 21), замещая глаголы «напился» в 19 и 20 предложениях, тоже лишь указывает на действия, не называя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местоименные слова всего лишь замещают знаменательные, и их смысл можно понять только из текста или речевой ситуац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shutterstock_107012834"/>
          <p:cNvPicPr/>
          <p:nvPr/>
        </p:nvPicPr>
        <p:blipFill>
          <a:blip r:embed="rId1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428720" y="142560"/>
            <a:ext cx="4714920" cy="67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предложений 1-4 найдите предложение с притяжательным местоимением, указывающим на принадлежность предметов определённым ли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дложении 32 найдите слово, замещённое в придаточной части местоимением «который». Докажите, что без знаменательного слова в главной части это местоимение «обесцене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имере любых местоимений из текста  докажите, что их значения проявляются и конкретизируются только в конкретной коммуникатив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E:\картинки с шаттерстока\shutterstock_96690760.jpg"/>
          <p:cNvPicPr/>
          <p:nvPr/>
        </p:nvPicPr>
        <p:blipFill>
          <a:blip r:embed="rId1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1571760" y="2786040"/>
            <a:ext cx="2428920" cy="29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тек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71640" y="260280"/>
            <a:ext cx="784836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4829040" y="6334200"/>
            <a:ext cx="431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раева Г.Т., Москва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8" name="Picture 5" descr="shutterstock_89598001"/>
          <p:cNvPicPr/>
          <p:nvPr/>
        </p:nvPicPr>
        <p:blipFill>
          <a:blip r:embed="rId1"/>
          <a:stretch/>
        </p:blipFill>
        <p:spPr>
          <a:xfrm>
            <a:off x="1042920" y="1557360"/>
            <a:ext cx="64087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шите сочинение-рассуждение, раскрывая смысл высказывания известного лингвиста А.А.Реформат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Местоименные слова – слова вторичные, слова-заместители. Золотым фондом для местоимений являются знаменательные слова, без наличия которых существование местоимений «обесценен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shutterstock_29965975"/>
          <p:cNvPicPr/>
          <p:nvPr/>
        </p:nvPicPr>
        <p:blipFill>
          <a:blip r:embed="rId1"/>
          <a:stretch/>
        </p:blipFill>
        <p:spPr>
          <a:xfrm>
            <a:off x="0" y="0"/>
            <a:ext cx="37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0" name="Прямая со стрелкой 11"/>
          <p:cNvCxnSpPr/>
          <p:nvPr/>
        </p:nvCxnSpPr>
        <p:spPr>
          <a:xfrm flipH="1" flipV="1">
            <a:off x="2214000" y="2714040"/>
            <a:ext cx="857880" cy="5007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1" name="Прямая со стрелкой 13"/>
          <p:cNvCxnSpPr/>
          <p:nvPr/>
        </p:nvCxnSpPr>
        <p:spPr>
          <a:xfrm flipH="1" flipV="1">
            <a:off x="2928240" y="1999440"/>
            <a:ext cx="572040" cy="786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2" name="Прямая со стрелкой 15"/>
          <p:cNvCxnSpPr/>
          <p:nvPr/>
        </p:nvCxnSpPr>
        <p:spPr>
          <a:xfrm flipV="1">
            <a:off x="4370760" y="1422000"/>
            <a:ext cx="2520" cy="1215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3" name="Прямая со стрелкой 17"/>
          <p:cNvCxnSpPr/>
          <p:nvPr/>
        </p:nvCxnSpPr>
        <p:spPr>
          <a:xfrm flipV="1">
            <a:off x="5318280" y="1928520"/>
            <a:ext cx="326160" cy="924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94" name="Прямая со стрелкой 19"/>
          <p:cNvCxnSpPr/>
          <p:nvPr/>
        </p:nvCxnSpPr>
        <p:spPr>
          <a:xfrm flipV="1">
            <a:off x="5715000" y="2785680"/>
            <a:ext cx="929520" cy="5724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95" name="Oval 12"/>
          <p:cNvSpPr/>
          <p:nvPr/>
        </p:nvSpPr>
        <p:spPr>
          <a:xfrm>
            <a:off x="2484360" y="2708280"/>
            <a:ext cx="388800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ые сло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намена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и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179280" y="2205000"/>
            <a:ext cx="2521080" cy="504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755640" y="1557360"/>
            <a:ext cx="2303640" cy="431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1908000" y="620640"/>
            <a:ext cx="5759640" cy="72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5435640" y="1557360"/>
            <a:ext cx="3097080" cy="431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6659640" y="2637000"/>
            <a:ext cx="2376360" cy="57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0" y="4581360"/>
            <a:ext cx="9144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именные слова указывают н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ы, признаки, действ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ношения,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называя их и являясь заместител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наменательных слов в пред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именные слова представляют отдельную часть реч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естоим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5"/>
          <p:cNvSpPr/>
          <p:nvPr/>
        </p:nvSpPr>
        <p:spPr>
          <a:xfrm rot="5400000">
            <a:off x="4141080" y="2348640"/>
            <a:ext cx="287280" cy="201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 rot="5400000">
            <a:off x="4247640" y="3033720"/>
            <a:ext cx="360360" cy="1871640"/>
          </a:xfrm>
          <a:custGeom>
            <a:avLst/>
            <a:gdLst>
              <a:gd name="textAreaLeft" fmla="*/ 0 w 360360"/>
              <a:gd name="textAreaRight" fmla="*/ 12996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яды местоимений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640720" cy="59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яют 9 разрядов местоимений по знач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я, ты, он, она, оно, мы, вы, они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ичные местоимения указывают на участников диалога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я, ты, мы, в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лиц, не участвующих в беседе, и предметы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, она, оно, о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вратное: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себ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Это местоимение указывает на тождественность лица или предмета, названного подлежащим, лицу или предмету, названному словом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еб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 себя не обидит. Надежды себя не оправдал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тяжа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мой, твой, ваш, наш, свой, его, ее, их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тяжательные местоимения указывают на принадлежность предмета лицу или другому предмету 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то мой портфель. Его размер очень удобе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аза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этот, тот, такой, таков, столько, се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,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оны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Эти местоимения указывают на признак или количество предм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сам, самый, весь, всякий, каждый, любой, другой, иной, всяк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,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всячески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(устар.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пределительные местоимения указывают на признак предм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проси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кто, что, какой, который, чей, сколько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просительные местоимения служат специальными вопросительными словами и указывают на лиц, предметы, признаки и колич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си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е же, что и вопросительные, в функции связи частей сложноподчиненного предложения (союзные сло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рицатель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никто, ничто, некого, нечего, никакой, ничей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рицательные местоимения выражают отсутствие предмета или призна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 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енные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некто, нечто, некоторый, некий, нескольк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 также все местоимения, образованные от вопросительных местоимений приставкой 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кое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уффиксами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то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, -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либо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, -</a:t>
            </a:r>
            <a:r>
              <a:rPr b="1" i="1" lang="ru-RU" sz="1800" spc="-1" strike="noStrike">
                <a:solidFill>
                  <a:srgbClr val="990099"/>
                </a:solidFill>
                <a:latin typeface="Arial"/>
              </a:rPr>
              <a:t>нибудь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85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яды местоимени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грамматическим признакам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воим грамматическим признакам местоимения соотносятся с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уществительными, прилагательными и    числитель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естоименные существительные указывают на лицо или предмет, местоименные прилагательные — на признак предмета, местоименные числительные — на количеств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2071800"/>
            <a:ext cx="5857920" cy="46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естоимениям-существитель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нос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личные местоим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зврат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б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просительно-относительн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образованные от 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рицате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еопределе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икто, ничто, некого, нечего, некто, нечто, кто-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д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ервого своего учителя я полюбил сразу. </a:t>
            </a:r>
            <a:r>
              <a:rPr b="1" i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Он 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покорил меня  удивительной способностью видеть в каждом из нас личность и уважать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:\картинки с шаттерстока\shutterstock_83853133.jpg"/>
          <p:cNvPicPr/>
          <p:nvPr/>
        </p:nvPicPr>
        <p:blipFill>
          <a:blip r:embed="rId1"/>
          <a:stretch/>
        </p:blipFill>
        <p:spPr>
          <a:xfrm>
            <a:off x="6215040" y="2071800"/>
            <a:ext cx="2786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57400" y="285480"/>
            <a:ext cx="507204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естоимениям-прилагатель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я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се притяжательные, все определительные, указательны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, тот, такой, таков, сей, о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просительно-относи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, который, ч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бразованные от них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рицательные и неопределен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акой, ничей, некоторый, некий, какой-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п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Будь честным!»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Этот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авет отца я пронёс через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картинки с шаттерстока\shutterstock_113437441.jpg"/>
          <p:cNvPicPr/>
          <p:nvPr/>
        </p:nvPicPr>
        <p:blipFill>
          <a:blip r:embed="rId1"/>
          <a:stretch/>
        </p:blipFill>
        <p:spPr>
          <a:xfrm>
            <a:off x="214200" y="214200"/>
            <a:ext cx="3429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428760"/>
            <a:ext cx="45007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имения-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итель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ногочисле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ло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оль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оль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бразованные от них местоимен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сколько, сколько-то, сколько-нибуд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 пригорке показались трое медвежат. Егерь Трофим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столько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и видел раньше с медведицей, которую застрелили браконь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E:\картинки с шаттерстока\shutterstock_30875527.jpg"/>
          <p:cNvPicPr/>
          <p:nvPr/>
        </p:nvPicPr>
        <p:blipFill>
          <a:blip r:embed="rId1"/>
          <a:stretch/>
        </p:blipFill>
        <p:spPr>
          <a:xfrm>
            <a:off x="4929120" y="428760"/>
            <a:ext cx="3857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86160" y="356760"/>
            <a:ext cx="457200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  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местоименных наречий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де, куда, откуда, ког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вязь с предшествующим существительным чисто семантическая: слов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де, куда, откуд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мещают имена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странственны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начением: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 вершины горы,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ткуда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мы спустились, послышался грохот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г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– имена с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м временным: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Это был тот миг, </a:t>
            </a: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когда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решается суд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:\картинки с шаттерстока\shutterstock_53062483.jpg"/>
          <p:cNvPicPr/>
          <p:nvPr/>
        </p:nvPicPr>
        <p:blipFill>
          <a:blip r:embed="rId1"/>
          <a:stretch/>
        </p:blipFill>
        <p:spPr>
          <a:xfrm>
            <a:off x="0" y="214200"/>
            <a:ext cx="41432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shutterstock_49638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 rot="21434400">
            <a:off x="3994200" y="549360"/>
            <a:ext cx="41050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Текс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40:38Z</dcterms:created>
  <dc:creator>zampoto</dc:creator>
  <dc:description/>
  <cp:keywords/>
  <dc:language>en-US</dc:language>
  <cp:lastModifiedBy>Region</cp:lastModifiedBy>
  <dcterms:modified xsi:type="dcterms:W3CDTF">2012-11-20T04:57:11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9</vt:lpwstr>
  </property>
</Properties>
</file>