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BAF0-0635-4AED-8D16-4133F1A77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A68-63AC-49B6-8E2A-C01F2E562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F83-D299-4BE5-8390-7D6E96CB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B5D-3766-4E92-A628-3709CD7E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FFC-73E3-495D-BD61-F1907C58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B3F-4B61-4D6C-8A2D-23A85A9A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752B-256C-44A4-8EBD-45A0222C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1429-7A7C-48D5-B6BB-0F3613B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3F25-E6F8-4F84-B0D0-3C380A91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D7C2-C313-4A6E-AC0C-6300F158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DCBD-9897-4553-A4D1-D6BE4B93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5E7-D4CC-4A0F-A8F8-CA48177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E360-ABC4-47A6-A950-A25A34F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5FF-3624-4CD8-A7D2-FA2F722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8D2F-CA0A-40EE-B75D-0C4101D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0D4-2471-43D6-ACD3-1FCE271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F34-0166-4A7E-9301-3376B37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1AD1-3A41-437D-B59E-FEF3CC78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F38-FB5A-41B7-8BE9-43CD3908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D09-5B0B-4738-AA69-F5F88E2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472-BCCE-40C7-B42F-D376C0B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6C4-2072-42C3-8161-98E3B18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82A-19E8-45E6-B859-37C0F17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B7D-CA24-4441-8A97-C11BFF4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9B8-12F6-4F2E-B60F-6B5564E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5A6-0A1D-40E3-A786-5F855757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593-9A59-4F4E-94A9-9C8A695F6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4625-51A3-45B4-B45E-C0CC30459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egion\Desktop\картинки с шаттерстока\shutterstock_7830079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xamen_logo2"/>
          <p:cNvPicPr/>
          <p:nvPr/>
        </p:nvPicPr>
        <p:blipFill>
          <a:blip r:embed="rId3"/>
          <a:stretch/>
        </p:blipFill>
        <p:spPr>
          <a:xfrm>
            <a:off x="5643720" y="0"/>
            <a:ext cx="3321000" cy="836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"/>
          <p:cNvSpPr/>
          <p:nvPr/>
        </p:nvSpPr>
        <p:spPr>
          <a:xfrm>
            <a:off x="2357280" y="2143080"/>
            <a:ext cx="5572440" cy="285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istral"/>
              </a:rPr>
              <a:t>Работаем над сочинени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istral"/>
              </a:rPr>
              <a:t>о </a:t>
            </a:r>
            <a:r>
              <a:rPr b="1" lang="ru-RU" sz="5400" spc="-1" strike="noStrike">
                <a:solidFill>
                  <a:srgbClr val="ffff00"/>
                </a:solidFill>
                <a:latin typeface="Mistral"/>
              </a:rPr>
              <a:t>ро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istral"/>
              </a:rPr>
              <a:t>части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7768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тн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амых частотных слов входит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(не, же, вот, только, ещё, уже, ну, ни, даже, ли, ведь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600360" cy="505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55640" y="260280"/>
            <a:ext cx="70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А знаете ли Вы, что...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403280" y="2349360"/>
            <a:ext cx="230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Текст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Мой брат принёс домой новенький собачий ошейник, невероятно приятно пахнущий кожей и с магазинной бир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)Так, — сразу всё поняла мама. — (3)Этого не будет никогда! — строго сказала она. — (4)Собак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м доме не хвата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)Брат, ничего не ответив, прошёл в комнату и бережно повесил ошейник над своей кроватью. (6)Получилось здор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 взял деньги? — спросил у него па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Накопил, — уклончиво объяснил брат. — (9)Три месяца откладывал помаленьк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Понятно, — развёл руками папа. — (11)Значит, наш младший сын уже три месяца мечтает о собаке, никого не посвящая в свою меч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2)Я тоже мечтаю! (13)Я тоже мечтаю о собаке! — немедленно встрял в разговор и я. — (14) Уже целую неделю мечтаю! (15)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ж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т, восемь д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Это была неправда. (17)О собаке я мечтал всю свою жизнь, с самого рождения. (18)Но ведь не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тайне собирая деньги, которые родители дают на завтраки в школе и всякие пустяки, что так необходимы любому мальчишке, купил в конце концов великолепный ошейник из жёлтой кожи и с заклёпками! (19)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г обидеть своего брата, и потому я сказа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 восемь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Мечт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редно, — согласилась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1)Потом мы, как всегда, делали с братом уроки. (22)Он свои, чепуховые, за пятый класс, а я — серьёзные. (23)И время от времени мы поднимали головы от тетрадок и поглядывали на собачий ошейник, который висел над кроватью брата и на который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могли не смот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4)В прошлом месяце было тридцать дней? — вдруг начал вспоминать я. — (25)Нет, тридцать один! (26)Значит, завтра будет девяносто три дня, как ты мечтаешь о собаке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7)Брат мой в ответ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лишь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угрюмо засоп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8)А если к твоим дням прибавить девять моих, то получится сто два дня несбыточной мечты! — подсчитал 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9)Да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уж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— печально вздохнул наш папа. (30)Он сидел в кресле с газетой и всё слыш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1)Несбыточные мечты... — повторил папа мои слова. — (32)Такого не бывает. (33)Если мечта правильная, она обязательно сбуде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4)А в субботу наш папа куда-то надолго ушёл с утра. (35)Когда он вернулся, то вошёл как-то шумно и сразу же позвал всех нас в прихожу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6)Вот... — сказал папа смущённо, когда мы собрались. — (37)Я сложил три числа, и получилось, что мы мечтали об одном и том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ж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тридцать четыре года, три месяца и одиннадцать дней... (38)Это по состоянию на сегодняшнее утро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9)Сказав так, папа осторожно распахнул пальто и вытащил из-за пазухи серого лохматого щенка с чёрными сверкающими глазёнк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0)Мы с братом онемели и одновременно остолбенели до такой степени, что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даже н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закричали «ура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1)Наша мама как-то странно посмотрела на папу. (42)Он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так 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продолжал стоять в распахнутом пальто, прижимая щенка к груд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3)Прибавь, мой дорогой, ещё двадцать семь лет... к мечте, — вдруг изменившимся голосом попросила мама. — (44)Нет, всё-таки, пожалуй, все двадцать восемь!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5)Мама подошла к шкафу, открыла его дверцу и, просунув руку в самую глубину, достала оттуда запрятанную там когда-то синюю собачью мис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о С. Георгиеву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00000" y="476280"/>
            <a:ext cx="745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сследуем роль частиц в текст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5373720"/>
            <a:ext cx="85327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Выпишите несколько частиц из текста.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Прокомментируйте их функции в данных предложениях.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39640" y="5373720"/>
            <a:ext cx="4753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ишем сочинени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й лингвист И.Г. Милославский считает, что «отношение пишущего к сообщаемому часто может выражаться с помощью "маленьких" слов, которые принято считать служебными, – частиц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тельно, частицы являются «служанками» при самостоятельных частях речи, внося различные смысловые оттенки в предложения и передавая отношение говорящего к собеседнику или излагаем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в предложении 19  рассказчик с помощью отрицательной частицы «не» (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г обидеть»)  подчеркнул свою доброту в отношениях с младшим братом, а частицей «даже» (предложение 40)  усилил значение последующего действия (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кричали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без этих «маленьких» слов в нашем языке могли бы исчезнуть многие смысловые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1413000"/>
            <a:ext cx="80852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Высоких баллов на ГИА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6165720"/>
            <a:ext cx="702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раева Г.Т., ведущий методист издательства "Экзамен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419280" y="260280"/>
            <a:ext cx="5545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сочинение, раскрывая смысл высказывания известного лингвиста И.Г. Милославск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Отношение пишущего к сообщаемому часто может выражаться с помощью "маленьких" слов, которые принято считать служебными, – частиц».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9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633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76360" y="1557360"/>
            <a:ext cx="3240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астицы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яд служебных сл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ющих допол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ысловые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оц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тенки предлож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тдельным сло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89000"/>
            <a:ext cx="82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Разряды частиц по значению </a:t>
            </a:r>
            <a:endParaRPr b="1" lang="en-US" sz="2800" spc="1" strike="noStrike">
              <a:ln w="0">
                <a:noFill/>
              </a:ln>
              <a:solidFill>
                <a:srgbClr val="000099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86480"/>
            <a:ext cx="8569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нгвист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ански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.М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Тихонов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.Н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 разря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части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значению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смыслов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модальные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эмоционально-экспрессив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формообразующ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29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63640" y="189000"/>
            <a:ext cx="5545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мысловые частицы</a:t>
            </a:r>
            <a:endParaRPr b="1" lang="en-US" sz="1800" spc="1" strike="noStrike">
              <a:ln w="0">
                <a:noFill/>
              </a:ln>
              <a:solidFill>
                <a:srgbClr val="a50021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836640"/>
          <a:ext cx="8893080" cy="5760720"/>
        </p:xfrm>
        <a:graphic>
          <a:graphicData uri="http://schemas.openxmlformats.org/drawingml/2006/table">
            <a:tbl>
              <a:tblPr/>
              <a:tblGrid>
                <a:gridCol w="4448160"/>
                <a:gridCol w="444492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казательные</a:t>
                      </a:r>
                      <a:r>
                        <a:rPr b="0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, вон, это, оно, во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казываю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предметы и явления внешнего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точняющие</a:t>
                      </a:r>
                      <a:r>
                        <a:rPr b="0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, именно, ровно, почти, подлинно, как раз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точняю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дельные знаменательные слова в предлож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Выделительно-ограничительные</a:t>
                      </a:r>
                      <a:r>
                        <a:rPr b="0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, лишь, только лишь, разве лишь, хотя, хотя бы, хоть бы, всего, исключительно, единственно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их помощью происходит </a:t>
                      </a: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логическое выделение слов или сочета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Усилительные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же, даже и, же, ведь, уже (уж), ещё, то, просто, прямо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 частицы находятся перед тем словом, которое выделяют или усиливают, придавая ему большую выразительность и убеди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260280"/>
          <a:ext cx="8713800" cy="6308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ыражают отнош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достоверности высказыв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яют несколько подгрупп: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дительные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, определенн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т.п..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ые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, ни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ительные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, разве, неужели, как, что, что ли, а, д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ые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то, как будто, точно, словно, вроде, как бы, будто б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Усиливаю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зительность эмоционального высказывания: </a:t>
                      </a:r>
                      <a:r>
                        <a:rPr b="1" i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что за, ну и, как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ются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ля образования услов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</a:t>
                      </a:r>
                      <a:r>
                        <a:rPr b="1" i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бы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велительного наклонений глагол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1" i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да, пусть, пускай, да, давайте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1979640" y="4941720"/>
            <a:ext cx="388944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ообразующие частицы</a:t>
            </a:r>
            <a:endParaRPr b="0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76360" y="3357720"/>
            <a:ext cx="597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моционально-экспрессивные частицы</a:t>
            </a:r>
            <a:endParaRPr b="0" lang="en-US" sz="24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47628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latin typeface="Arial"/>
              </a:rPr>
              <a:t>Модальные частицы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944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, Ли, Же... Это не просто служебные слова. Их нельзя смешивать с какими-то Кое или Нибудь, которые примазываются к членам предложения, держатся за них своей черточк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ицы Бы, Ли, Же не таковы; несмотря на свое служебное положение, они вполне самостоятельны и пишутся отдельно от других слов – это нужно всегда помн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Каждая из них занята своим делом – старается подчеркнуть главную мысл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А в неслужебное время... О, о чем только не говорят служебные слова в неслужебное время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Если бы у меня было не две, а три буквы, – говорит частица Бы, – я бы такое сказала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Ах, эта частица Бы, какая она мечтательница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ряд ли, – возражает ей частица Ли, верная своей привычке во всем сомневаться. – Да нужна ли тебе лишняя буква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то же пустой разговор, – останавливает их Же, привыкшая реально смотреть на вещи. – Тебе же вполне хватает двух букв – больше не положено по правописани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Так спорят в свободное время эти частицы. Хотя все они служебные слова, но у каждой свой характер, поэтому ведут они себя в тексте по-разному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Бы мечта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Ли сомневае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Же утвержда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И попробуйте прожить хоть без одной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х частиц! Не проживё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ин Ф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4643280"/>
            <a:ext cx="2952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333360"/>
          <a:ext cx="8510400" cy="6190920"/>
        </p:xfrm>
        <a:graphic>
          <a:graphicData uri="http://schemas.openxmlformats.org/drawingml/2006/table">
            <a:tbl>
              <a:tblPr/>
              <a:tblGrid>
                <a:gridCol w="3816360"/>
                <a:gridCol w="4694040"/>
              </a:tblGrid>
              <a:tr h="91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жите отличительные особенност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частиц, о которых говорится в тексте Ф.Крив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 в предложение «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 умны и талантливы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частицы, принадлежащие к различным разрядам (воспользуйтесь таблицами предыдущих слайдов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значения придают частицы словам и предложени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13080" cy="4416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932360" y="692280"/>
            <a:ext cx="309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Задания</a:t>
            </a:r>
            <a:endParaRPr b="1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64000" y="333000"/>
            <a:ext cx="540072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ют сжато и эмоционально выразить отношение к излагаемой информации и к собеседн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уют в выражении цели сообщения (вопроси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т наклонения глагола (повелительное или условно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ают тексту экспрессивность, емкость, вырази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, усиливают те слова, которые необходимы автору для более точного выражения идейно-художественного содерж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192480" cy="640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00000" y="47628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Частицы</a:t>
            </a:r>
            <a:endParaRPr b="1" lang="en-US" sz="20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3-08-13T06:18:24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