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00D-4233-4D9E-8D87-BC122734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AE1-2AB1-4E5E-AF8E-9A1ECC2C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065-C205-4999-B6A8-91BF7CD9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BD0-D43D-464E-BDB6-950C831C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B4FF-ACBD-4D91-BF60-EE01478F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1EEE-5BC2-4A3F-A824-D20CA351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8CA8-5678-46DB-8E74-043876D2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E550-74FA-4546-8299-135FC405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3CD1-B83A-4AF5-BA45-1289FB01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D361-A92B-4C07-AB12-72641810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EA61-4CF5-464E-93B7-001F2B7E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5C0-26D6-4C4F-9C78-622BC68A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C1AC-5916-40CA-9F04-0966D7B5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5164-5A48-4E53-83C5-25A3DCE9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C659-DD9B-4792-B10F-3BECA374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6727-418A-485C-92FB-C4E76331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317D-4089-4AEF-B267-C24690D2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A64-CDAA-4412-B917-75C41C77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4C1-4D29-4311-96DB-FB6D321C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352-8954-4BFE-BBA5-4D3833B1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AD5-A786-448D-9418-BBEBB0C6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EDD-CE44-45E4-969F-FE9B56D1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0CF-222E-4F3D-A12C-E8129F0C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61D-D6DD-4C44-B9AB-CC3A107E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CDE2-2A5E-454C-B2DD-1B3BB2D0A2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ED39-5D4D-4A4D-A9F7-80DC2874D0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32000" y="2492280"/>
            <a:ext cx="1152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692280"/>
            <a:ext cx="39592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2205000"/>
            <a:ext cx="2843280" cy="22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 rot="5400000">
            <a:off x="5472720" y="3033000"/>
            <a:ext cx="6264360" cy="57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ГИА С2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50000">
                    <a:srgbClr val="000000"/>
                  </a:gs>
                  <a:gs pos="100000">
                    <a:srgbClr val="ffbf00"/>
                  </a:gs>
                </a:gsLst>
                <a:lin ang="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Picture 8" descr="examen_logo2"/>
          <p:cNvPicPr/>
          <p:nvPr/>
        </p:nvPicPr>
        <p:blipFill>
          <a:blip r:embed="rId3"/>
          <a:stretch/>
        </p:blipFill>
        <p:spPr>
          <a:xfrm>
            <a:off x="0" y="0"/>
            <a:ext cx="2484360" cy="620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908000" y="333360"/>
            <a:ext cx="504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</a:rPr>
              <a:t>Сочин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</a:rPr>
              <a:t>о роли моноло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285000">
            <a:off x="3131640" y="4436640"/>
            <a:ext cx="237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)Когда я заканчивал первый класс, у нас дома появился дядя Се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илетней Ленкой. (2)Он мне не понравился. (3)Не думайте, что я скандалил или дулся открыто. (4)По утрам я говорил ему “здравствуйте”, а вечером – “спокойной ночи”. (5)Я даже стал звать его не “Всеволод Сергеевич”, а “дядя Сева”. (6)По маминой просьбе. (7)Но когда он пытался погладить меня по голове, я шарахался, как от крапивы. (8)Ничего не мог поделать с собой. (9)Да, по правде говоря, и не хоте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(10)А тут еще Ленка! (11)Сразу прилепилась к маме. (12)Будто бы век была ее дочерью! (13)И говорить стала “мама”. (14)Я каждый раз вздрагивал, будто мне за шиворот падал таракан. (15)Мама однажды взяла меня за локти, поставила перед собой и тихо сказал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6)– Олежка, Олежка… (17)Она же маленькая. (18)А свою маму она и не помнит. (19)Разве ты не понимаешь, как плохо без мамы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(20)Я понимал. (21)Это я прекрасно понимал! (22)Поэтому я проглотил стоявший в горле комок и кивнул. (23)Но хоть сто раз кивни, а ничего не поделаешь, если не проходит оби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4)Ленку я не обижал. (25)Иногда приходил даже в детский сад за ней. (26)А один раз показал, как делают из бумаги двухтрубные пароходики. (27)Но когда Ленка взяла без спросу моего фарфорового котенка и нечаянно грохнула о пол, я не выдержал. (28)Молча давясь слезами, я достал из-под дивана заброшенный школьный ранец, уложил в него свитер, книжку “Снежная королева”, бутылку с водой, полбуханки хлеба, колбасу, спи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9)– Ты в школу пойдешь? – подавленно спросила Лен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0)– Дура, – мстительно сказал я. (31)– Кто это ходит в школу, когда каникулы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2)Я вытер глаза, щелкнул пряжкой и сунул ноги в мамины резиновые сапоги. (33)А еще взял детскую лопатку и  самодельное ружье с тугой резинкой. (34)Не сказав больше Ленке ни слова, я ушел из родного до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5)Я решил пойти в дальние леса. (36)Там я вырою землянку. (37)Буду спать на подстилке из пахучей лесной травы, охотиться на зайцев, а по вечерам сидеть у костра, беседовать с верной собакой и читать ей сказку про Снежную королев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(38)Целый квартал я шагал довольно бодро. (39)Потом решительность моя пропал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40)В глубине души я прекрасно понимал, что едва ли сумею выкопать настоящую землянку. (41)Чувствовал, что одному у ночного костра будет жутко. (42)А кроме того, мне ужасно жаль было убивать симпатичных зайцев, про которых я знал целую кучу сказо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(43)Но больше всего (чего уж скрывать-то!) мне жаль было покидать мам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44)Верная собака Джулька (не моя, а общая, уличная) предательски бросила меня, как только я скормил ей последний ломтик колбасы. (45)Я растерянно остановился на перекрестке.(46) Как же быть, в самом деле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(47)Я был бы просто счастлив, если бы сейчас меня увидели мама и дядя Сева. (48)Но мамы и дяди Севы не было. (49)Ничего не оставалось, как продолжать путь. (50)И я побрел дальш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В.Крапивин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8920" y="765000"/>
            <a:ext cx="85820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какому типу монологов можно отнести данный моноло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значит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исповед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 Подберите синоним к этому с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кровенное призн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чем-либо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истосердечное излож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го-либ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Какими чертами характера должен обладать говорящий в этом случае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Искренность, чест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вите типы речи в данном монологе. Докажите свою точку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помним, что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нологи…допускают употребл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зговорн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экспрессивно окрашенной лексик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ждометий, разговорных синтаксических конструкци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в т. ч. и конструкций диалогической речи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ему, на ваш взгляд, именно таковы языковые признаки моноло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стало причиной появления этого монолог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Какими чувствами был движим рассказч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евность, оби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484360" y="260280"/>
            <a:ext cx="51436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0800000"/>
                </a:gradFill>
                <a:latin typeface="Arial Black"/>
              </a:rPr>
              <a:t>Работаем с текст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4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к в языке текста можно увидеть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рассказчик очень ревниво отнесся к появлению Ленки в его семь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фем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е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едл.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таксис и пункту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осклицательные предложения 10,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кс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зговорное слово «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лепилас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; разговорное бранное – «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у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. средства изобрази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равнительные обороты (предл.12, 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фолог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силительные частицы «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щ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(предл.10), «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ж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(предл. 2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рассказчик – послушный, добрый сын, любящий свою ма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интаксис - парцелляция (предложения 5-6); тропы - лексический повтор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редложения 20-21);фразеологизм (предложение 22); глаголы несов.вида (предл.24-25);придат. изъяснительное (предл.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4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к в языке текста можно увидеть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мальчик решителен и сме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н умён и сообразителе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малыш отходчив и доб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йдите аргументы в рассказе В.Крапивина. Выберите два из них, которые помогут вам доказать тезис:«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«В монологе раскрываются не только мысли и чувства говорящего, но и его характе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419640" y="3068640"/>
            <a:ext cx="4321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67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4500720" y="1214280"/>
            <a:ext cx="4429080" cy="180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ариант  сочинения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Picture 4" descr="C:\Users\Галина\Desktop\картинки с шаттерстока\shutterstock_77615920.jpg"/>
          <p:cNvPicPr/>
          <p:nvPr/>
        </p:nvPicPr>
        <p:blipFill>
          <a:blip r:embed="rId4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76720" y="333360"/>
            <a:ext cx="5867280" cy="60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В монологе раскрываются не только мы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чувства говорящего, но и его характер»,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тверждается в учебнике русского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йствительно, в речи человек прояв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бя, свои эмоции, свой способ мышле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ировосприятия, раскрывает с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нутренний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, обидчивость рассказч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едана обособленным обстоятель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предложении 34, а ряд однородных чле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редложение 37), помогает  понять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льчик по-детски наивен, неопытен. В са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ле, разве может восьмилетний ребё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жить в лесу без взрослы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этому, чтобы понять, с каким челове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меешь дело, стоит внима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лушаться в его 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39484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Список литератур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6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овалов П.С., Сенкевич М.П. Пособие по развитию речи. - М., 198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ий язык и культура речи: Учебник / Под ред.В.И. Максимова. - М., 20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ган М.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ир общения. М.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птева О. 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усский разговорный синтаксис. М.: Наука, 1976. 399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ведова Н. 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черки по синтаксису русской разговорной речи. М., 19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убинский Л. П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бранные работы: язык и его функционирование. М., 198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771640" y="4292640"/>
            <a:ext cx="3888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58680"/>
            <a:ext cx="8964720" cy="6539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24000" y="549360"/>
            <a:ext cx="8135640" cy="13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5400000"/>
                </a:gradFill>
                <a:latin typeface="Arial"/>
              </a:rPr>
              <a:t>Творческого рос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24000" y="6237360"/>
            <a:ext cx="8181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Егораева Г.Т., ведущий методист издательства "Экзамен"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521964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нолог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речь, обращенная к одному или к группе слушателей (иногда к самому себе), не рассчитанная на ответную реакцию другого лица. Монолог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спользуется дл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едачи информации (сообщение, лекция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беждения в чем-либо слушател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буждения их к действ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672000" cy="666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68360" y="3284640"/>
            <a:ext cx="25909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Повторяем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теорию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403236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87280" y="260280"/>
            <a:ext cx="5977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монологе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наиболее ярко раскрывается личность человек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так как именно в этой форме речи в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языковых единицах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(морфемике, лексике, синтаксической конструкции и т.д.)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закреплено отношение говоря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 действи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 содержанию сооб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 адреса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2808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89308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уникативная направленность (цель говорящего и адресат, т.е. те, для кого произносится монолог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рнутость высказы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ность и связность из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ая законч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58920" y="189000"/>
            <a:ext cx="6408720" cy="4608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476360" y="404640"/>
            <a:ext cx="5975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ризнаки моноло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79280" y="260280"/>
            <a:ext cx="871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13500000"/>
                </a:gradFill>
                <a:latin typeface="Arial"/>
              </a:rPr>
              <a:t>Типы монологов по содержани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50000">
                    <a:srgbClr val="000000"/>
                  </a:gs>
                  <a:gs pos="100000">
                    <a:srgbClr val="ffbf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765000"/>
          <a:ext cx="8785440" cy="6093000"/>
        </p:xfrm>
        <a:graphic>
          <a:graphicData uri="http://schemas.openxmlformats.org/drawingml/2006/table">
            <a:tbl>
              <a:tblPr/>
              <a:tblGrid>
                <a:gridCol w="2376720"/>
                <a:gridCol w="2663640"/>
                <a:gridCol w="374508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онолог-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ргументац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азательство какого-либо факта, эмоционально значимого для говорящего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онолог-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в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ящий стремится оказать психологическое воздействие на слушающих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онолог-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змыш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ытия, о которых повествует говорящий, являются для него эмоционально важными; повествование подчеркивает значительность момента. Эмоциональная напряженность говорящего находит свое отражение в употреблении метафор, сравнений, повторов и т.д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онолог-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акция на ситуаци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700360" y="836640"/>
            <a:ext cx="2316240" cy="1224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27280" y="2276640"/>
            <a:ext cx="2367000" cy="122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627280" y="501336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700360" y="3573360"/>
            <a:ext cx="2448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8000" y="-243000"/>
            <a:ext cx="9036000" cy="6669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95640" y="220500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95640" y="2133720"/>
            <a:ext cx="496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чевые типы монолог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и их призна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9280" y="115920"/>
          <a:ext cx="8785440" cy="6553080"/>
        </p:xfrm>
        <a:graphic>
          <a:graphicData uri="http://schemas.openxmlformats.org/drawingml/2006/table">
            <a:tbl>
              <a:tblPr/>
              <a:tblGrid>
                <a:gridCol w="2928960"/>
                <a:gridCol w="2327400"/>
                <a:gridCol w="3529080"/>
              </a:tblGrid>
              <a:tr h="16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лог- повеств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е глагольных фраз, в которых соотношением видо-временных форм глагольных сказуемых выражена последовательность действий, движение событий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лог-рассужд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аксические построения, содержащие умозаключение, констатацию фактов и передающие логическую связь явлений (конструкции причинно-следственные, условные, уступительные, изъяснительные и др.)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лог-исповед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ствовательные формы речи с формами рассуждени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11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логи разных типов допускают употребление </a:t>
                      </a: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зговорной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экспрессивно окрашенной лексики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междометий, разговорных синтаксических конструкций, в т. ч. и конструкций диалогической речи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132000" y="3860640"/>
            <a:ext cx="2173320" cy="1224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276720" y="1955880"/>
            <a:ext cx="2016000" cy="1760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276720" y="189000"/>
            <a:ext cx="1944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477684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лог - это связная речь, организованная по правилам логики и грамматики как сложное единое целое: все части монолога объединены 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 смыслу, и грамматическими средст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76360" y="476280"/>
            <a:ext cx="590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Это важ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3005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30492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76360" y="1557360"/>
            <a:ext cx="4824360" cy="3384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сочинение-рассужд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вая смысл высказы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того из учебника русского язы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«В монологе раскры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е только мысли и чув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говорящего, но и его характе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40:38Z</dcterms:created>
  <dc:creator>zampoto</dc:creator>
  <dc:description/>
  <cp:keywords/>
  <dc:language>en-US</dc:language>
  <cp:lastModifiedBy>Admin</cp:lastModifiedBy>
  <dcterms:modified xsi:type="dcterms:W3CDTF">2013-08-19T06:06:28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