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CEA5-CB21-4342-AD76-A3FC55E43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025-817F-4383-B976-7FB9DC746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4D8-A471-486B-AFD5-41135DE8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E72-934A-4EFC-8173-FC7D80F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0F3-ED71-44B2-B10A-EF64FDE4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453-E67E-4C82-855C-6B69F45E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516B-7C63-4006-95BC-E6458D56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A1F6-07F4-413D-BA7D-539ACC7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C359-4E1E-49D5-9630-36D1444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21E0-4D42-4BAD-87FA-36B121D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2E6A-E9E3-4CAD-A27D-BD631EB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78B-EC4D-4217-B054-0ED0E05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930C-AAB5-4014-96D1-CE51E991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C38-6639-4BB9-8173-D2455726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4DBB-FCA7-4554-BF41-D5CCE97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19C-4CAC-43AD-900C-FF2ED7A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E553-78E9-4518-AA1A-D6F4AF6B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36BC-0425-4286-B018-DAD96220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25BE-E908-4592-9BC7-11472CAB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220-4B3A-4241-94AE-2271959E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C1B-6CEA-47D8-BD99-BA158F0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E11-6CAE-4D06-8F44-E93CAC7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69F-8780-4285-B835-956EB7F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27D-AC28-460B-AC5A-27CF93E0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6E8-07E2-4012-B06D-7987FE3F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BC5-EF86-40AA-AEA9-EE60AF1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95B0-D242-479C-B054-1BF3EA6A3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CCCB-380F-4FF2-9CEA-32C294938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Region\Desktop\картинки с шаттерстока\shutterstock_7830079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xamen_logo2"/>
          <p:cNvPicPr/>
          <p:nvPr/>
        </p:nvPicPr>
        <p:blipFill>
          <a:blip r:embed="rId3"/>
          <a:stretch/>
        </p:blipFill>
        <p:spPr>
          <a:xfrm>
            <a:off x="5643720" y="0"/>
            <a:ext cx="3321000" cy="836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6"/>
          <p:cNvSpPr/>
          <p:nvPr/>
        </p:nvSpPr>
        <p:spPr>
          <a:xfrm>
            <a:off x="2357280" y="2143080"/>
            <a:ext cx="55724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istral"/>
              </a:rPr>
              <a:t>Работаем над сочинение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istral"/>
              </a:rPr>
              <a:t>о функции предлог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Мой брат принёс домой новенький собачий ошейник, невероятно приятно пахнущий кожей и с магазинной бир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)Так, — сразу всё поняла мама. — (3)Этого не будет никогда! — строго сказала она. — (4)Собаки ещё только в нашем доме не хвата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5)Брат, ничего не ответив, прошёл в комнату и бережно повесил ошейник над своей кроватью. (6)Получилось здор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Где же ты взял деньги? — спросил у него па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Накопил, — уклончиво объяснил брат. — (9)Три месяца откладывал помаленьк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0)Понятно, — развёл руками папа. — (11)Значит, наш младший сын уже три месяца мечтает о собаке, никого не посвящая в свою меч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2)Я тоже мечтаю! (13)Я тоже мечтаю о собаке! — немедленно встрял в разговор и я. — (14) Уже целую неделю мечтаю! (15)Даже нет, восемь д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6)Это была неправда. (17)О собаке я мечтал всю свою жизнь, с самого рождения. (18)Но ведь не я же, втайне собирая деньги, которые родители дают на завтраки в школе и всякие пустяки, что так необходимы любому мальчишке, купил в конце концов великолепный ошейник из жёлтой кожи и с заклёпками! (19)Я не мог обидеть своего брата, и потому я сказал всего про восемь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0)Мечтать не вредно, — согласилась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1)Потом мы, как всегда, делали с братом уроки. (22)Он свои, чепуховые, за пятый класс, а я — серьёзные. (23)И время от времени мы поднимали головы от тетрадок и поглядывали на собачий ошейник, который висел над кроватью брата и на который мы просто не могли не смот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4)В прошлом месяце было тридцать дней? — вдруг начал вспоминать я. — (25)Нет, тридцать один! (26)Значит, завтра будет девяносто три дня, как ты мечтаешь о собаке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7)Брат мой в ответ лишь угрюмо засопел от моих сл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8)А если к твоим дням прибавить девять моих, то получится сто два дня несбыточной мечты! — подсчитал 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9)Да уж, — печально вздохнул наш папа. (30)Он сидел около нас в кресле с газетой и всё слыш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1)Несбыточные мечты... — повторил папа мои слова. — (32)Такого не бывает. (33)Если мечта правильная, она обязательно сбудет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4)А в субботу наш папа куда-то надолго ушёл с утра. (35)Когда папа вернулся, то вошёл он как-то шумно и сразу же позвал всех нас в прихожу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 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6)Вот... — сказал папа смущённо, когда мы собрались. — (37)Я сложил три числа, и получилось, что мы мечтали об одном и том же тридцать четыре года, три месяца и одиннадцать дней... (38)Это по состоянию на сегодняшнее утро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39)Сказав так, папа осторожно распахнул пальто и вытащил из-за пазухи серого лохматого щенка с чёрными сверкающими глазёнк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0)Мы с братом онемели и одновременно остолбенели до такой степени, что даже не закричали «ура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1)Наша мама как-то странно посмотрела на папу. (42)Он так и продолжал стоять в распахнутом пальто, прижимая щенка к груд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3)Прибавь, мой дорогой, ещё двадцать семь лет... к мечте, — вдруг изменившимся голосом попросила мама. — (44)Нет, всё-таки, пожалуй, все двадцать восемь!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45)Мама подошла к шкафу, открыла его дверцу и, просунув руку в самую глубину, достала оттуда запрятанную там когда-то синюю собачью мис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По С. Георгиеву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24720" cy="648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116000" y="566100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3500000"/>
                </a:gradFill>
                <a:latin typeface="Arial"/>
              </a:rPr>
              <a:t>Исследуем текст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96872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ишите несколько предлогов со словами, укажите отношения, которые они выраж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ад крова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коло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з-за паз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ремя о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 со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 газе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т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 шкаф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34066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9280" y="189000"/>
          <a:ext cx="8785440" cy="6495840"/>
        </p:xfrm>
        <a:graphic>
          <a:graphicData uri="http://schemas.openxmlformats.org/drawingml/2006/table">
            <a:tbl>
              <a:tblPr/>
              <a:tblGrid>
                <a:gridCol w="1555920"/>
                <a:gridCol w="2030400"/>
                <a:gridCol w="2025720"/>
                <a:gridCol w="1560240"/>
                <a:gridCol w="16131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и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ед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странст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рем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ч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еле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 чего-либ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мент времени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сверху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ко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ение вблизи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ой промежуток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з-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никновение откуда-либ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 на мотивацию действ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в противополож-ную от объекта сторону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ый момент времени, временной промежут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 на причину действ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в сторону чего-то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 сроков действия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 на конечную цель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от какого-либо объек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 на начальный момент времен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39640" y="5373720"/>
            <a:ext cx="4753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Пишем сочинен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ог вместе с окончанием зависимого слова является не только средством грамматической связи между главным и зависимым словами, но и показателем пространственных , объектных, временных и прочих отношений, в которых выражается богатство значений и смысловых отте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в предложении 5 два предлога – «в» и «над». Первый предлог вместе с существительным (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шел в комнату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точняет значение винительного падежа, указывая, куда именно направлено действие. Втор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«повесил над кроватью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же имеет пространственное значение, но он помогает понять, что один предмет находится выше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но об этом высказывание современного исследователя служебных слов русского языка Г.А. Шигановой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«Функция предлогов проявляется в назывании, обозначении отношений между реалиями окружающего  м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048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524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00360" y="2349360"/>
            <a:ext cx="5040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Напишите сочин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указав другие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редл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найденных 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95280" y="1197000"/>
            <a:ext cx="80852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Высоких баллов на ГИА!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19280" y="6165720"/>
            <a:ext cx="7029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раева Г.Т., ведущий методист издательства "Экзамен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582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афьева Н.И. Предлоги в русском языке и особенности их употребления. – Минск, 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шковский А.М. Русский синтаксис в научном освещении. 7 изд.- М.,19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ганова Г. А. Система лексических и фразеологических предлогов в современном русском языке : Челябинск : ЧГПУ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рба Л.В. О частях речи в русском языке.-Л., Наука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70036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24000" y="333360"/>
            <a:ext cx="561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419280" y="260280"/>
            <a:ext cx="5545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раскрывая смысл высказывания современного исследователя служебных слов русского языка Г.А. Шигановой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Функция предлогов проявляется в назывании, обозначении отношений между реалиями окружающего 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3130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470376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усском языке около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200 предлог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е распределяются межд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ят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дежами (именительный падеж всегда употребляется без предлогов). Это распределение неравномерно: есть предлоги, которые употребляются либо 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и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дежом (например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е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 Д. п.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с Р. п.), л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нескольки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адежами (например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с В. п. и Т. п.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с В. п. и П. п.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с Д. п. и В. п.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с Р. п., В. п.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76720" y="1125360"/>
            <a:ext cx="3672000" cy="5472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55640" y="333360"/>
            <a:ext cx="73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3500000"/>
                </a:gradFill>
                <a:latin typeface="Arial"/>
              </a:rPr>
              <a:t>К вашему сведению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067280" y="1557360"/>
            <a:ext cx="5076720" cy="53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имеет самостоятель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мматические отношения, которые он выражает в сочетании с косвенным падежом существительног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ражаем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г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личаются большим многообразием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быть омонимичными, поэтому в зависимости от контекста могут выступать в разных зна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26028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3500000"/>
                </a:gradFill>
                <a:latin typeface="Arial"/>
              </a:rPr>
              <a:t>Запомни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67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97800" cy="633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76360" y="1484280"/>
            <a:ext cx="33829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тношения,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торые способны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ыражать предлоги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5104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лассификация предлогов фиксирует отношения между различными предметами, объектами и явлениями, которые они способны выраж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странстве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 указанием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место действ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направление движ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, с, из, из-за, из-под, от, к, по, в, на, за, у, над, под, через, между, около, вокруг, напрот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др., например: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из-за гор, от дома, вокруг сада, в Россию, к мам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ременны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о, с, от, к, по, в, на, за, под, через, между, окол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течение, в продолжение, накануне, после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пуст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р.: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ели до утра, от рождения и до старости, между встречами, около года, в течение часа, после поездки; встретил через год, спустя минут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бъек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, про, насч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 со значением объекта мысли):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песни о Родине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про школу, говорили насчет поездки;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и указании на материал, из которого что-либо изготовлено):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ремень из кож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т, 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 значением удаления):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убежал от собаки, упал с дере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 значением приближения):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подошел к музею;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, по , под, пр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опроводительные отношения):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пошел  с дедом, ссорились при детях , под музы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за, вмес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ношение заместительства):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воевал за отца, вместо уч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з, из-за, по, от, за, вследствие, по причине, ввиду, в силу, благодаря, по случаю, на основани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: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т горя, из вежливости, из-заболезни, вследствие ссоры; по причине смерти, ввиду отъезда, благодаря усилия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ев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ля, ради, за, на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для шитья, ради денег, за подарком; на память; ради спас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35640" y="3895560"/>
            <a:ext cx="3048120" cy="25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403280" y="2349360"/>
            <a:ext cx="230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Тек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Admin</cp:lastModifiedBy>
  <dcterms:modified xsi:type="dcterms:W3CDTF">2013-08-19T06:24:28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