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A9D6-ADB0-4DA4-B514-9DC4F88C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C8B-94A0-4FB5-8541-78761526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4EA3-9ABF-4469-95EC-9940BED2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F48-4CD3-4777-8204-8A86430A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8692-B827-415C-940E-D42FE263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EF8C-E894-417D-A962-E919DE34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A1E8-29BB-4C2C-9A47-2FAFBDB8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B02F-CB08-4A67-A5E9-AF8CEF76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50B8-C0BB-4781-821B-91687B9D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8A5A-B24F-4E39-90D5-F0B995A8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AFBB-7262-4B95-94D1-693C2611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1A2-440A-412D-90A2-FF6560A4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9184-8F39-494C-A3D2-024A17FE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4C86-FB34-4F0C-8457-B593601B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640D-6A48-40FA-BB5F-32CE6E3C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5AFC-4871-4412-8783-4E23201C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6990-FFD9-4E48-BBB6-10928AC6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462-8A8C-42F8-9C66-0D0A52EB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E0B-B4D6-4109-83FE-3667AAD4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518-8A48-40F1-A103-2016B4AE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0E7-F5CA-4DDA-8F3D-18470D2F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ED8-AF9A-4AF8-8A5F-88AD851A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950-44C5-4310-83DF-2E014EC8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E32-135C-456F-95F7-3E9AD77A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1F6B-DC41-45FB-AC6C-2E617FAFEF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FFD5-E538-4A3E-A966-C12D4FA2FA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Использование кейс-метода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 процессе обучения учащихся 3 класса по теме «Природа в опасности»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83" name="Rectangle 3"/>
          <p:cNvGrpSpPr/>
          <p:nvPr/>
        </p:nvGrpSpPr>
        <p:grpSpPr>
          <a:xfrm>
            <a:off x="444600" y="1968480"/>
            <a:ext cx="8254800" cy="4140360"/>
            <a:chOff x="444600" y="1968480"/>
            <a:chExt cx="8254800" cy="4140360"/>
          </a:xfrm>
        </p:grpSpPr>
        <p:pic>
          <p:nvPicPr>
            <p:cNvPr id="84" name="Rectangle 3" descr=""/>
            <p:cNvPicPr/>
            <p:nvPr/>
          </p:nvPicPr>
          <p:blipFill>
            <a:blip r:embed="rId1"/>
            <a:stretch/>
          </p:blipFill>
          <p:spPr>
            <a:xfrm>
              <a:off x="444600" y="1968480"/>
              <a:ext cx="8254800" cy="41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57200" y="1981080"/>
              <a:ext cx="82296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Цели кейса: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spcBef>
                  <a:spcPts val="499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Развивать экологическую культуру, воспитывать любовь и бережное отношение ко всему живому, закреплять знания о правилах поведения на природе.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spcBef>
                  <a:spcPts val="499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Способствовать развитию умений: анализировать информацию в разных ее видах(схемы, карты, тексты), распознавать проблему и формулировать противоречия, находить различные способы решения противоречий, анализировать достоинства и недостатки каждого способа и делать обоснованный вывод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авлетова Лениза Фрунзев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ba7c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екст кейс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88" name="Rectangle 3"/>
          <p:cNvGrpSpPr/>
          <p:nvPr/>
        </p:nvGrpSpPr>
        <p:grpSpPr>
          <a:xfrm>
            <a:off x="444600" y="1968480"/>
            <a:ext cx="8254800" cy="4597560"/>
            <a:chOff x="444600" y="1968480"/>
            <a:chExt cx="8254800" cy="4597560"/>
          </a:xfrm>
        </p:grpSpPr>
        <p:pic>
          <p:nvPicPr>
            <p:cNvPr id="89" name="Rectangle 3" descr=""/>
            <p:cNvPicPr/>
            <p:nvPr/>
          </p:nvPicPr>
          <p:blipFill>
            <a:blip r:embed="rId1"/>
            <a:stretch/>
          </p:blipFill>
          <p:spPr>
            <a:xfrm>
              <a:off x="444600" y="1968480"/>
              <a:ext cx="825480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57200" y="1981080"/>
              <a:ext cx="8229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Гуляя с родителями в лесу, Света и Алёша увидели большой муравейник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- Давай посмотрим, что внутри этого домика, - предложил Алёша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-Давай, - с интересом ответила Света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Дети взяли большую палку и начали ворошить муравейник. Увидев, чем заняты дети, мама подбежала к ним, забрала палку и сказала: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- Если бы муравьи могли говорить, они бы сказали вам, что …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авлетова  Лениза Фрунзев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адание учащимся во время анализа ситуации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( работа в группах)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3" name="Rectangle 3"/>
          <p:cNvGrpSpPr/>
          <p:nvPr/>
        </p:nvGrpSpPr>
        <p:grpSpPr>
          <a:xfrm>
            <a:off x="444600" y="1968480"/>
            <a:ext cx="8254800" cy="4140360"/>
            <a:chOff x="444600" y="1968480"/>
            <a:chExt cx="8254800" cy="4140360"/>
          </a:xfrm>
        </p:grpSpPr>
        <p:pic>
          <p:nvPicPr>
            <p:cNvPr id="94" name="Rectangle 3" descr=""/>
            <p:cNvPicPr/>
            <p:nvPr/>
          </p:nvPicPr>
          <p:blipFill>
            <a:blip r:embed="rId1"/>
            <a:stretch/>
          </p:blipFill>
          <p:spPr>
            <a:xfrm>
              <a:off x="444600" y="1968480"/>
              <a:ext cx="8254800" cy="41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7200" y="1981080"/>
              <a:ext cx="82296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ahoma"/>
                </a:rPr>
                <a:t>- Что сказали бы муравьи?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ahoma"/>
                </a:rPr>
                <a:t>-Как бы вы объяснили Алёше и Свете почему нельзя разорять муравейники? 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ahoma"/>
                </a:rPr>
                <a:t>- Составьте правила поведения в природе.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spcBef>
                  <a:spcPts val="799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spcBef>
                  <a:spcPts val="799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авлетова Лениза Фрунзев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дания ко второму раунду дискусс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8" name="Rectangle 3"/>
          <p:cNvGrpSpPr/>
          <p:nvPr/>
        </p:nvGrpSpPr>
        <p:grpSpPr>
          <a:xfrm>
            <a:off x="444600" y="1968480"/>
            <a:ext cx="8254800" cy="4140360"/>
            <a:chOff x="444600" y="1968480"/>
            <a:chExt cx="8254800" cy="4140360"/>
          </a:xfrm>
        </p:grpSpPr>
        <p:pic>
          <p:nvPicPr>
            <p:cNvPr id="99" name="Rectangle 3" descr=""/>
            <p:cNvPicPr/>
            <p:nvPr/>
          </p:nvPicPr>
          <p:blipFill>
            <a:blip r:embed="rId1"/>
            <a:stretch/>
          </p:blipFill>
          <p:spPr>
            <a:xfrm>
              <a:off x="444600" y="1968480"/>
              <a:ext cx="8254800" cy="41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57200" y="1981080"/>
              <a:ext cx="82296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ahoma"/>
                </a:rPr>
                <a:t>Сформулируйте проблемную ситуацию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spcBef>
                  <a:spcPts val="799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ahoma"/>
                </a:rPr>
                <a:t>Найдите в ней противоречие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spcBef>
                  <a:spcPts val="799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ahoma"/>
                </a:rPr>
                <a:t>Предложите несколько вариантов решения противоречия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spcBef>
                  <a:spcPts val="799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ahoma"/>
                </a:rPr>
                <a:t>Проанализируйте достоинства и недостатки каждого способа и выберите самый лучший и самый худший из них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авлетова Лениза Фрунзев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имерный ход рассуждений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чащихс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3" name="Rectangle 3"/>
          <p:cNvGrpSpPr/>
          <p:nvPr/>
        </p:nvGrpSpPr>
        <p:grpSpPr>
          <a:xfrm>
            <a:off x="444600" y="1968480"/>
            <a:ext cx="8254800" cy="4140360"/>
            <a:chOff x="444600" y="1968480"/>
            <a:chExt cx="8254800" cy="4140360"/>
          </a:xfrm>
        </p:grpSpPr>
        <p:pic>
          <p:nvPicPr>
            <p:cNvPr id="104" name="Rectangle 3" descr=""/>
            <p:cNvPicPr/>
            <p:nvPr/>
          </p:nvPicPr>
          <p:blipFill>
            <a:blip r:embed="rId1"/>
            <a:stretch/>
          </p:blipFill>
          <p:spPr>
            <a:xfrm>
              <a:off x="444600" y="1968480"/>
              <a:ext cx="8254800" cy="41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57200" y="1981080"/>
              <a:ext cx="82296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Проблема: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spcBef>
                  <a:spcPts val="700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Интересно посмотреть, что внутри муравейника, но мама не разрешила.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spcBef>
                  <a:spcPts val="700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Противоречие: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spcBef>
                  <a:spcPts val="700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Если не будем бережно относиться к природе, то велика вероятность экологической катастрофы.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авлетова Лениза Фрунзев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пособы решения противореч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8" name="Rectangle 3"/>
          <p:cNvGrpSpPr/>
          <p:nvPr/>
        </p:nvGrpSpPr>
        <p:grpSpPr>
          <a:xfrm>
            <a:off x="444600" y="1968480"/>
            <a:ext cx="8254800" cy="4140360"/>
            <a:chOff x="444600" y="1968480"/>
            <a:chExt cx="8254800" cy="4140360"/>
          </a:xfrm>
        </p:grpSpPr>
        <p:pic>
          <p:nvPicPr>
            <p:cNvPr id="109" name="Rectangle 3" descr=""/>
            <p:cNvPicPr/>
            <p:nvPr/>
          </p:nvPicPr>
          <p:blipFill>
            <a:blip r:embed="rId1"/>
            <a:stretch/>
          </p:blipFill>
          <p:spPr>
            <a:xfrm>
              <a:off x="444600" y="1968480"/>
              <a:ext cx="8254800" cy="41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57200" y="1981080"/>
              <a:ext cx="82296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Бережно относиться к природе.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spcBef>
                  <a:spcPts val="700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Не разорять муравейники, птичьи гнёзда; не убивать животных. Мы вместе- часть природы планеты Земля. 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spcBef>
                  <a:spcPts val="700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Муравьи являются единственным опылителем какао. И не будь их, мы никогда не смогли бы попробовать шоколад.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spcBef>
                  <a:spcPts val="700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spcBef>
                  <a:spcPts val="700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авлетова Лениза Фрунзев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ритерии оценивания ответов учащихс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13" name="Rectangle 3"/>
          <p:cNvGrpSpPr/>
          <p:nvPr/>
        </p:nvGrpSpPr>
        <p:grpSpPr>
          <a:xfrm>
            <a:off x="450720" y="1974960"/>
            <a:ext cx="8242560" cy="4127400"/>
            <a:chOff x="450720" y="1974960"/>
            <a:chExt cx="8242560" cy="4127400"/>
          </a:xfrm>
        </p:grpSpPr>
        <p:pic>
          <p:nvPicPr>
            <p:cNvPr id="114" name="Rectangle 3" descr=""/>
            <p:cNvPicPr/>
            <p:nvPr/>
          </p:nvPicPr>
          <p:blipFill>
            <a:blip r:embed="rId1"/>
            <a:stretch/>
          </p:blipFill>
          <p:spPr>
            <a:xfrm>
              <a:off x="450720" y="1974960"/>
              <a:ext cx="8242560" cy="41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7200" y="1981080"/>
              <a:ext cx="82296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Если в ответе указаны не только </a:t>
              </a:r>
              <a:r>
                <a:rPr b="0" lang="ru-RU" sz="2800" spc="-1" strike="noStrike" u="sng">
                  <a:solidFill>
                    <a:srgbClr val="ffffff"/>
                  </a:solidFill>
                  <a:uFillTx/>
                  <a:latin typeface="Tahoma"/>
                </a:rPr>
                <a:t>преимущества,</a:t>
              </a: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 но и </a:t>
              </a:r>
              <a:r>
                <a:rPr b="0" lang="ru-RU" sz="2800" spc="-1" strike="noStrike" u="sng">
                  <a:solidFill>
                    <a:srgbClr val="ffffff"/>
                  </a:solidFill>
                  <a:uFillTx/>
                  <a:latin typeface="Tahoma"/>
                </a:rPr>
                <a:t>недостатки</a:t>
              </a: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 способа и сделан </a:t>
              </a:r>
              <a:r>
                <a:rPr b="0" lang="ru-RU" sz="2800" spc="-1" strike="noStrike" u="sng">
                  <a:solidFill>
                    <a:srgbClr val="ffffff"/>
                  </a:solidFill>
                  <a:uFillTx/>
                  <a:latin typeface="Tahoma"/>
                </a:rPr>
                <a:t>вывод</a:t>
              </a: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( три элемента), то он оценивается 3 баллами, что соответствует «5»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Если в ответе имеется только два любых элемента, то он оценивается 2 баллами, что соответствует «4»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ba7c3e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Если в ответе присутствует какой-либо один элемент, то он оценивается 1 баллом, что соответствует «3»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авлетова Лениза Фрунзев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7:30:08Z</dcterms:created>
  <dc:creator>тетя Ира</dc:creator>
  <dc:description/>
  <dc:language>en-US</dc:language>
  <cp:lastModifiedBy>оь</cp:lastModifiedBy>
  <dcterms:modified xsi:type="dcterms:W3CDTF">2010-01-03T09:23:55Z</dcterms:modified>
  <cp:revision>17</cp:revision>
  <dc:subject/>
  <dc:title>Использование кейс-метода  в процессе обучения учащихся 10 класса по теме «Вирусы»</dc:title>
</cp:coreProperties>
</file>