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7A1E-A6D6-4F61-8D11-0DA651C1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A588-4295-4F1E-88C6-45145FC9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D9A8-F89A-442F-AB7D-3A91ADE5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7CC1-8A52-4A44-8433-AE694065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6437-F446-4206-8515-7747203A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5B09-2815-4C7E-BE26-DCEB2842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A8A5-725C-468C-8B71-624D6097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457C-FD15-495A-BBE3-A78354AA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A268-4FEE-4F09-9966-81C7001F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CC5A-0B48-4C4A-B12B-D4F58707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BD0A-48C3-4C56-AEEE-85FD4D97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E3A3-C673-44B3-A104-67A0D902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FBF1-1193-4003-92E6-BCB7AC6F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818C-2BE1-4CB5-BC91-8798E1F6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762A-9FD9-4C66-89B1-443A467B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89A7-F633-4878-9014-E840F2A6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F6B4-2445-4142-A6B1-8EF0A360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CCBF-E522-4221-A48B-E75E2091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1928-878C-49A8-9F80-04796D9D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BBA8-AF23-4633-ACCC-2FC0581D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540D-1245-47EA-8F60-82EAAD6F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6969-E1EC-41EE-93B2-67EB4D05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D33-AA60-4D94-850C-63B43EA8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FBD-C576-41B9-8F89-AA259347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2E06-4A5B-435C-85BE-DEAA59CD91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5D8D-C036-43D5-A0AC-80E57E6500F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1689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4038480" cy="3505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8360" y="3735360"/>
            <a:ext cx="353844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38894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Хохлома ты моя золота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Твой характер цветист без прикра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Над Россией жар-птицей взлета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Ты волнуешь придирчивый взгля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Чтоб светлели суровые лиц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Украшай вдохновенно дом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Чудодействуй в веках, мастериц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Золотая моя Хохлом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00720" y="836640"/>
            <a:ext cx="4186080" cy="4968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Хохломская роспис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Хохломская роспись, русский народный промысел, возник в 17 в. Название происходит от села Хохлома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Декоративная роспись на деревянных изделиях (посуда, мебель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Отличается тонким растительным узором, выполненным красным и черным (реже зеленым) тонами и золотом по золотистому фон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Элементы хохломской роспис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0" y="1699920"/>
            <a:ext cx="39704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Хохломской росписи свойственны два вида письма - верховое и фоново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лассическим примером верхового письма является «травка», или «травная роспись», с красными и чёрными кустик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 классу верхового письма относится роспись с названием «под ягодку» и роспись «под листок». Основу орнамента росписи «под листок» составляют остроконечные или округлые листья, объединённые в группы по три или пять, и грозди ягод, величина которых зависит от размера расписываемой поверхности. В сравнении с «травкой» роспись «под листок» обладает большими декоративными возможностями, однако мотив «травка» заметно обогащает её. В этом случае травку пишут зелёной, красной или коричневой. 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960720" cy="2376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3960720" cy="237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52360" y="-673920"/>
            <a:ext cx="685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4248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фонового письма характерен чёрный или цветной – красный, коричневый, зелёный фон и золотой рисунок. Основной разновидностью фонового письма является роспись «под фон». Выполняется она следующим образом. На покрытую полудой поверхность наносят тонкий контур крупных мотивов, производят их разработку, а затем закрашивают фон. В композиции с золотыми листьями способом верхового письма пишут яблочки или ягодки, мелкие листочки и кустики травки, а рядом с золотыми цветами и листьями – гибкие веточки с ягодками-бусинко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409248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Хохлома и современност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2525760" cy="2735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Дизайн на ногтях - Страница 6 - Littleone 2009-2012"/>
          <p:cNvPicPr/>
          <p:nvPr/>
        </p:nvPicPr>
        <p:blipFill>
          <a:blip r:embed="rId2"/>
          <a:stretch/>
        </p:blipFill>
        <p:spPr>
          <a:xfrm>
            <a:off x="5076720" y="4292640"/>
            <a:ext cx="3313080" cy="2208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Хохлома"/>
          <p:cNvPicPr/>
          <p:nvPr/>
        </p:nvPicPr>
        <p:blipFill>
          <a:blip r:embed="rId3"/>
          <a:stretch/>
        </p:blipFill>
        <p:spPr>
          <a:xfrm>
            <a:off x="3924360" y="342900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Хохлома"/>
          <p:cNvPicPr/>
          <p:nvPr/>
        </p:nvPicPr>
        <p:blipFill>
          <a:blip r:embed="rId4"/>
          <a:stretch/>
        </p:blipFill>
        <p:spPr>
          <a:xfrm>
            <a:off x="5508720" y="1700280"/>
            <a:ext cx="3097080" cy="2203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Хохлома"/>
          <p:cNvPicPr/>
          <p:nvPr/>
        </p:nvPicPr>
        <p:blipFill>
          <a:blip r:embed="rId5"/>
          <a:stretch/>
        </p:blipFill>
        <p:spPr>
          <a:xfrm>
            <a:off x="1258920" y="4581360"/>
            <a:ext cx="3024000" cy="1609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2T15:14:25Z</dcterms:created>
  <dc:creator>Я</dc:creator>
  <dc:description/>
  <dc:language>en-US</dc:language>
  <cp:lastModifiedBy>Я</cp:lastModifiedBy>
  <dcterms:modified xsi:type="dcterms:W3CDTF">2014-11-03T17:11:08Z</dcterms:modified>
  <cp:revision>8</cp:revision>
  <dc:subject/>
  <dc:title>Слайд 1</dc:title>
</cp:coreProperties>
</file>