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86AA-347F-42B0-8792-B95F7F121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BB8-07C8-422F-B17F-EFB816773D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BD6-6DDC-43F4-A366-F8CE9CD68B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F9E-18D7-4A1D-B726-35EE4021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59B-FE33-4509-9220-B8674A2E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FD5-45B3-498C-8466-4DE45453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5D-08E3-4F62-87A8-91C2533F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7B6-E15A-4957-BE4D-739A3E7A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598-AD39-4307-8B21-F95F3EA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B78-D001-42FB-9ED1-49AC53B1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697-DA46-4DFF-8BC6-3C94272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4EF-1E21-4303-ABD7-DCD00847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3DF-FA75-49C1-9883-AE2DF35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E07-0D73-4471-B3CE-29C19EFD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5F9-6685-4723-A435-9F2FC3F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71A-2A77-4768-843D-FCC00059D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139760" y="1847880"/>
            <a:ext cx="7480440" cy="23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019320" y="6021360"/>
            <a:ext cx="30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53616"/>
                </a:solidFill>
                <a:latin typeface="Calibri"/>
                <a:ea typeface="Arial"/>
              </a:rPr>
              <a:t>Сав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53616"/>
                </a:solidFill>
                <a:latin typeface="Calibri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4720" y="4292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ект выполнили уче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в класса «МБОУ Савинская ОС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Горбатова Наталья Юрь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/>
          <p:cNvSpPr/>
          <p:nvPr/>
        </p:nvSpPr>
        <p:spPr>
          <a:xfrm>
            <a:off x="1047600" y="21420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ельский Павел Василь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03.1917-25.10.198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7564320" y="-73080"/>
            <a:ext cx="1629000" cy="1408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95280" y="1152360"/>
            <a:ext cx="4400640" cy="240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4419720" cy="229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5508720" y="1838160"/>
            <a:ext cx="2689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20920" cy="262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7553160" y="-23760"/>
            <a:ext cx="1511640" cy="155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383364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3833640" cy="267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4487760" y="3801960"/>
            <a:ext cx="41212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7577280" y="-30240"/>
            <a:ext cx="1590480" cy="146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050920" y="41400"/>
            <a:ext cx="5010120" cy="338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044800" y="3449520"/>
            <a:ext cx="501624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5864400" y="-822240"/>
            <a:ext cx="4937040" cy="2784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11280" y="534960"/>
            <a:ext cx="6913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ельский Павел Василь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од рождения: __.__.1917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. лейтена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РККА с __.__.1938 г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есто рождения: Архангельская обл., Плесецкий р-н, Самодедский п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писи: 13749707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изыва: Ляноомский РВК, Архангельская об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писи: 27379366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90000" y="2413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ви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174600" y="44928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ви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726240" y="2598840"/>
            <a:ext cx="79848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6683400" y="4537080"/>
            <a:ext cx="105408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4"/>
          <a:stretch/>
        </p:blipFill>
        <p:spPr>
          <a:xfrm>
            <a:off x="1008000" y="2400480"/>
            <a:ext cx="509580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5"/>
          <a:stretch/>
        </p:blipFill>
        <p:spPr>
          <a:xfrm>
            <a:off x="1001880" y="4878360"/>
            <a:ext cx="52606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69920" y="11253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ронтовой прик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95/н от: 22.09.1945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дан: ВС 5 А /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ив: ЦА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нд: 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ись: 6861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д.хранения: 63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иси: 290039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Прямоугольник 3" descr=""/>
          <p:cNvPicPr/>
          <p:nvPr/>
        </p:nvPicPr>
        <p:blipFill>
          <a:blip r:embed="rId1"/>
          <a:stretch/>
        </p:blipFill>
        <p:spPr>
          <a:xfrm>
            <a:off x="7596360" y="-55440"/>
            <a:ext cx="159696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987640" y="476280"/>
            <a:ext cx="44388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4" descr=""/>
          <p:cNvPicPr/>
          <p:nvPr/>
        </p:nvPicPr>
        <p:blipFill>
          <a:blip r:embed="rId1"/>
          <a:stretch/>
        </p:blipFill>
        <p:spPr>
          <a:xfrm>
            <a:off x="6656400" y="-396720"/>
            <a:ext cx="3322800" cy="228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6732720" y="2384280"/>
            <a:ext cx="2114280" cy="2981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398520" y="3645000"/>
            <a:ext cx="5888160" cy="2498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382680" y="1258920"/>
            <a:ext cx="59007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2" descr=""/>
          <p:cNvPicPr/>
          <p:nvPr/>
        </p:nvPicPr>
        <p:blipFill>
          <a:blip r:embed="rId1"/>
          <a:stretch/>
        </p:blipFill>
        <p:spPr>
          <a:xfrm>
            <a:off x="7523280" y="-85680"/>
            <a:ext cx="1650960" cy="136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1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2" descr=""/>
          <p:cNvPicPr/>
          <p:nvPr/>
        </p:nvPicPr>
        <p:blipFill>
          <a:blip r:embed="rId1"/>
          <a:stretch/>
        </p:blipFill>
        <p:spPr>
          <a:xfrm>
            <a:off x="7583400" y="-30240"/>
            <a:ext cx="1633680" cy="140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242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natalysav1967@hotmail.com</cp:lastModifiedBy>
  <dcterms:modified xsi:type="dcterms:W3CDTF">2015-03-14T21:54:17Z</dcterms:modified>
  <cp:revision>54</cp:revision>
  <dc:subject/>
  <dc:title>Презентация PowerPoint</dc:title>
</cp:coreProperties>
</file>