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161753-4DA9-449D-919B-C1AE464EC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D866EE-AF07-4D34-9691-7D0E41FDF2D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692236-C91D-4B7B-82A9-072FD76657C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FCD118-D224-460E-ADDA-E3A329BF07C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194728-EBF2-427B-9BD9-E457F3ACBB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353BE5-3064-49F9-B418-913114D44D4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FDC9BD-CDB3-406B-ADA0-036BD9824E8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CF10C5-31F2-473E-9C8B-221759795AF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E94FB4-C30F-4A7C-96D1-8C4490CEF9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6CE97-7DA1-4EA6-87E1-AD37B46F0F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5A47-0A30-4279-93E8-244E88A5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944D-3D79-4DE2-A691-A74AE013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6C174-5A90-4F3A-94C0-7073382D7D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6F1A-3A24-4F88-9788-8040438C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95CA-D603-44F8-A15E-7C72D283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8108-93CF-4235-B70B-BDAA012C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516B-0FA4-44CD-BE8C-40248F36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6023-C54A-48F3-B1E3-1EA21AF0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52FB-5283-47BB-BE6F-49C46E34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DE4E-98DB-4ADE-96C1-35C4C89A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D8EF-90AD-4057-B06A-5C516758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F4662B-3C0E-40A4-88F3-2B9CC31A41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-25560" y="17640"/>
            <a:ext cx="91569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-304920" y="0"/>
            <a:ext cx="6172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98600" y="1833480"/>
            <a:ext cx="4235400" cy="3073320"/>
          </a:xfrm>
          <a:prstGeom prst="rect">
            <a:avLst/>
          </a:prstGeom>
          <a:ln w="0">
            <a:noFill/>
          </a:ln>
        </p:spPr>
      </p:pic>
      <p:sp>
        <p:nvSpPr>
          <p:cNvPr id="52" name="Oval 4"/>
          <p:cNvSpPr/>
          <p:nvPr/>
        </p:nvSpPr>
        <p:spPr>
          <a:xfrm>
            <a:off x="179280" y="179280"/>
            <a:ext cx="8280360" cy="1436760"/>
          </a:xfrm>
          <a:prstGeom prst="ellipse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ема: «Символика повести «Гранатовый браслет» А. И. Куприна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-12193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созд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" y="1295280"/>
            <a:ext cx="44197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работе над рассказом “Гранатовый браслет” А.И. Куприн приступил осенью 1910 года в Одессе, куда он переехал с женой и дочерью. Замысел возник намного раньше, когда А. Куприну была рассказана анекдотическая история, произошедшая с родовитой семьёй князя Дмитрия Николаевича Любимов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152280" y="228600"/>
            <a:ext cx="4724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думанный небольшой, в печатный лист (двадцать одна страница), рассказ неожиданно для автора давался с трудом, разрастался до размеров повести. Работа продолжалась более трёх месяцев. Первая публикация состоялась в альманахе “Земля”, зимой 1911 год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2408400" cy="30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304920" y="685800"/>
            <a:ext cx="472428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ема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бов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Идея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ображение судьбы «маленького» человека, история его любв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Композиция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3 частей, вставные новеллы, полемичность образных рядов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тиль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езличной болтовне противопоставляется «книжный характер» речи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-1447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мвол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57200" y="1143000"/>
            <a:ext cx="50292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Гранатовый брасл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Это камень любви, гнева и крови. На руке человека, томящегося в лихорадке или опьяненного желанием, он становится теплее и горит красным пламенем… Если растолочь его а порошок и принимать с водой, он дает румянец лицу, успокаивает желудок и веселит душу. Носящий его приобретает власть над людьми. Он врачует сердце, мозг и память» - так в рассказе «Суламифъ» царь Соломон, даря своей возлюбленной драгоценности, говорит о «внутренней природе камней, об их волшебных свойствах и таинственных значениях»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457200" y="609480"/>
            <a:ext cx="50292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емчужные серь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оиня получает и другую драгоценность – серьги из грушевидных жемчужин от мужа. Жемчуг же издавна являлся символом, с одной стороны, духовной 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ты, с другой – недоброго предзнамен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457200" y="380880"/>
            <a:ext cx="48769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еро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княгиня Вера Николаевна Шеин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Георгий Степанович Желтков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князь Василий Львович Шеи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иколай Николаевич Мирза-Булат-Тугановски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Анна Николаевна Фриессе, сестра Веры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ани Заржицка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генерал Аносов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Женни Рейтер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8:35:48Z</dcterms:created>
  <dc:creator>Loner-XP</dc:creator>
  <dc:description/>
  <dc:language>en-US</dc:language>
  <cp:lastModifiedBy>папа</cp:lastModifiedBy>
  <dcterms:modified xsi:type="dcterms:W3CDTF">2015-03-15T04:51:04Z</dcterms:modified>
  <cp:revision>10</cp:revision>
  <dc:subject/>
  <dc:title>Урок по литературе  " Тема любви в  повести А.И. Куприна "Гранатовый браслет"</dc:title>
</cp:coreProperties>
</file>