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335-A83D-4B01-A9B1-70FF856F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10D-C290-478E-B819-5287BC99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ABD-D9B9-4F6A-B3CD-AF32308D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5B8-7E9A-4E35-B035-6DA74C83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CF34-658C-430C-AA10-B255A69A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2769-0CEB-4905-9EE8-E05B4FE1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30E5-8C9A-4743-B21F-8AEFA98E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D1FD-2442-4D4B-9D20-697F61BE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0043-6137-4074-BED3-568B6B59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FE2C-FECC-4B74-B95A-E57AA182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9DED-A234-4523-8E89-65868B21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7F5-92E0-4F2F-B70A-0052B4F2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7062-B73F-4E11-B5BA-4B8334D0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CE4A-FB98-46CA-AD88-6F806954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0A8E-DD45-4066-9A18-0D75A82C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B43C-8AAB-4A45-B38F-F02EC795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7541-7F38-45AA-99FF-5BB9D982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53E-C02C-47A4-A497-0C6E742A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CDC0-3C46-4923-B5C7-BE6E67B6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AEA-4127-48E3-B42F-CB7D05BF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3F0-EF31-4730-8342-4151AE06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714-7705-43AF-97AE-4C2085CF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236-18BD-4BDF-8D42-9D0C719C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0EA-F686-46AE-9BA4-79538D7E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DC59-644E-4420-9E77-3578B8F117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D953-9D42-481F-A107-28EE3E2129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ru.wikipedia.org/wiki/&#1040;&#1083;&#1077;&#1082;&#1089;&#1080;&#1081;_II" TargetMode="External"/><Relationship Id="rId3" Type="http://schemas.openxmlformats.org/officeDocument/2006/relationships/hyperlink" Target="http://ru.wikipedia.org/wiki/&#1054;&#1090;&#1087;&#1077;&#1074;&#1072;&#1085;&#1080;&#1077;" TargetMode="External"/><Relationship Id="rId4" Type="http://schemas.openxmlformats.org/officeDocument/2006/relationships/hyperlink" Target="http://ru.wikipedia.org/wiki/&#1056;&#1055;&#1062;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ru.wikipedia.org/wiki/8_&#1086;&#1082;&#1090;&#1103;&#1073;&#1088;&#1103;" TargetMode="External"/><Relationship Id="rId3" Type="http://schemas.openxmlformats.org/officeDocument/2006/relationships/hyperlink" Target="http://ru.wikipedia.org/wiki/1892" TargetMode="External"/><Relationship Id="rId4" Type="http://schemas.openxmlformats.org/officeDocument/2006/relationships/hyperlink" Target="http://ru.wikipedia.org/wiki/&#1052;&#1086;&#1089;&#1082;&#1074;&#1072;" TargetMode="External"/><Relationship Id="rId5" Type="http://schemas.openxmlformats.org/officeDocument/2006/relationships/hyperlink" Target="http://ru.wikipedia.org/wiki/&#1062;&#1074;&#1077;&#1090;&#1072;&#1077;&#1074;%2C_&#1048;&#1074;&#1072;&#1085;_&#1042;&#1083;&#1072;&#1076;&#1080;&#1084;&#1080;&#1088;&#1086;&#1074;&#1080;&#1095;" TargetMode="External"/><Relationship Id="rId6" Type="http://schemas.openxmlformats.org/officeDocument/2006/relationships/hyperlink" Target="http://ru.wikipedia.org/wiki/&#1058;&#1072;&#1088;&#1091;&#1089;&#1072;_%28&#1075;&#1086;&#1088;&#1086;&#1076;%29" TargetMode="External"/><Relationship Id="rId7" Type="http://schemas.openxmlformats.org/officeDocument/2006/relationships/hyperlink" Target="http://ru.wikipedia.org/wiki/&#1057;&#1090;&#1080;&#1093;" TargetMode="External"/><Relationship Id="rId8" Type="http://schemas.openxmlformats.org/officeDocument/2006/relationships/hyperlink" Target="http://ru.wikipedia.org/wiki/1906" TargetMode="External"/><Relationship Id="rId9" Type="http://schemas.openxmlformats.org/officeDocument/2006/relationships/hyperlink" Target="http://ru.wikipedia.org/wiki/&#1064;&#1074;&#1077;&#1081;&#1094;&#1072;&#1088;&#1080;&#1103;" TargetMode="External"/><Relationship Id="rId10" Type="http://schemas.openxmlformats.org/officeDocument/2006/relationships/hyperlink" Target="http://ru.wikipedia.org/wiki/&#1043;&#1077;&#1088;&#1084;&#1072;&#1085;&#1080;&#1103;" TargetMode="External"/><Relationship Id="rId11" Type="http://schemas.openxmlformats.org/officeDocument/2006/relationships/hyperlink" Target="http://ru.wikipedia.org/wiki/&#1041;&#1088;&#1102;&#1089;&#1086;&#1074;%2C_&#1042;&#1072;&#1083;&#1077;&#1088;&#1080;&#1081;_&#1071;&#1082;&#1086;&#1074;&#1083;&#1077;&#1074;&#1080;&#1095;" TargetMode="External"/><Relationship Id="rId12" Type="http://schemas.openxmlformats.org/officeDocument/2006/relationships/hyperlink" Target="http://ru.wikipedia.org/wiki/&#1042;&#1086;&#1083;&#1086;&#1096;&#1080;&#1085;%2C_&#1052;&#1072;&#1082;&#1089;&#1080;&#1084;&#1080;&#1083;&#1080;&#1072;&#1085;_&#1040;&#1083;&#1077;&#1082;&#1089;&#1072;&#1085;&#1076;&#1088;&#1086;&#1074;&#1080;&#1095;" TargetMode="External"/><Relationship Id="rId13" Type="http://schemas.openxmlformats.org/officeDocument/2006/relationships/hyperlink" Target="http://ru.wikipedia.org/wiki/&#1043;&#1091;&#1084;&#1080;&#1083;&#1105;&#1074;%2C_&#1053;&#1080;&#1082;&#1086;&#1083;&#1072;&#1081;_&#1057;&#1090;&#1077;&#1087;&#1072;&#1085;&#1086;&#1074;&#1080;&#1095;" TargetMode="Externa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ru.wikipedia.org/wiki/1911" TargetMode="External"/><Relationship Id="rId3" Type="http://schemas.openxmlformats.org/officeDocument/2006/relationships/hyperlink" Target="http://ru.wikipedia.org/wiki/&#1069;&#1092;&#1088;&#1086;&#1085;%2C_&#1057;&#1077;&#1088;&#1075;&#1077;&#1081;_&#1071;&#1082;&#1086;&#1074;&#1083;&#1077;&#1074;&#1080;&#1095;" TargetMode="External"/><Relationship Id="rId4" Type="http://schemas.openxmlformats.org/officeDocument/2006/relationships/hyperlink" Target="http://ru.wikipedia.org/wiki/&#1043;&#1088;&#1072;&#1078;&#1076;&#1072;&#1085;&#1089;&#1082;&#1072;&#1103;_&#1074;&#1086;&#1081;&#1085;&#1072;_&#1074;_&#1056;&#1086;&#1089;&#1089;&#1080;&#1080;" TargetMode="External"/><Relationship Id="rId5" Type="http://schemas.openxmlformats.org/officeDocument/2006/relationships/hyperlink" Target="http://ru.wikipedia.org/wiki/&#1044;&#1086;&#1073;&#1088;&#1086;&#1074;&#1086;&#1083;&#1100;&#1095;&#1077;&#1089;&#1082;&#1072;&#1103;_&#1072;&#1088;&#1084;&#1080;&#1103;" TargetMode="External"/><Relationship Id="rId6" Type="http://schemas.openxmlformats.org/officeDocument/2006/relationships/hyperlink" Target="http://ru.wikipedia.org/wiki/&#1041;&#1077;&#1083;&#1072;&#1103;_&#1072;&#1088;&#1084;&#1080;&#1103;" TargetMode="External"/><Relationship Id="rId7" Type="http://schemas.openxmlformats.org/officeDocument/2006/relationships/hyperlink" Target="http://ru.wikipedia.org/wiki/1912" TargetMode="External"/><Relationship Id="rId8" Type="http://schemas.openxmlformats.org/officeDocument/2006/relationships/hyperlink" Target="http://ru.wikipedia.org/wiki/&#1069;&#1092;&#1088;&#1086;&#1085;%2C_&#1057;&#1077;&#1088;&#1075;&#1077;&#1081;_&#1071;&#1082;&#1086;&#1074;&#1083;&#1077;&#1074;&#1080;&#1095;" TargetMode="External"/><Relationship Id="rId9" Type="http://schemas.openxmlformats.org/officeDocument/2006/relationships/hyperlink" Target="http://ru.wikipedia.org/wiki/&#1069;&#1092;&#1088;&#1086;&#1085;%2C_&#1040;&#1088;&#1080;&#1072;&#1076;&#1085;&#1072;_&#1057;&#1077;&#1088;&#1075;&#1077;&#1077;&#1074;&#1085;&#1072;" TargetMode="External"/><Relationship Id="rId10" Type="http://schemas.openxmlformats.org/officeDocument/2006/relationships/hyperlink" Target="http://ru.wikipedia.org/wiki/1917" TargetMode="External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ru.wikipedia.org/wiki/1922" TargetMode="External"/><Relationship Id="rId3" Type="http://schemas.openxmlformats.org/officeDocument/2006/relationships/hyperlink" Target="http://ru.wikipedia.org/wiki/&#1041;&#1077;&#1088;&#1083;&#1080;&#1085;" TargetMode="External"/><Relationship Id="rId4" Type="http://schemas.openxmlformats.org/officeDocument/2006/relationships/hyperlink" Target="http://ru.wikipedia.org/wiki/&#1055;&#1088;&#1072;&#1075;&#1072;" TargetMode="External"/><Relationship Id="rId5" Type="http://schemas.openxmlformats.org/officeDocument/2006/relationships/hyperlink" Target="http://ru.wikipedia.org/wiki/1925" TargetMode="External"/><Relationship Id="rId6" Type="http://schemas.openxmlformats.org/officeDocument/2006/relationships/hyperlink" Target="http://ru.wikipedia.org/wiki/&#1060;&#1088;&#1072;&#1085;&#1094;&#1080;&#1103;" TargetMode="External"/><Relationship Id="rId7" Type="http://schemas.openxmlformats.org/officeDocument/2006/relationships/hyperlink" Target="http://ru.wikipedia.org/wiki/&#1055;&#1072;&#1088;&#1080;&#1078;" TargetMode="External"/><Relationship Id="rId8" Type="http://schemas.openxmlformats.org/officeDocument/2006/relationships/hyperlink" Target="http://ru.wikipedia.org/wiki/&#1053;&#1072;&#1088;&#1086;&#1076;&#1085;&#1099;&#1081;_&#1082;&#1086;&#1084;&#1080;&#1089;&#1089;&#1072;&#1088;&#1080;&#1072;&#1090;_&#1074;&#1085;&#1091;&#1090;&#1088;&#1077;&#1085;&#1085;&#1080;&#1093;_&#1076;&#1077;&#1083;" TargetMode="External"/><Relationship Id="rId9" Type="http://schemas.openxmlformats.org/officeDocument/2006/relationships/hyperlink" Target="http://ru.wikipedia.org/wiki/&#1057;&#1077;&#1076;&#1086;&#1074;%2C_&#1051;&#1077;&#1074;_&#1051;&#1100;&#1074;&#1086;&#1074;&#1080;&#1095;" TargetMode="External"/><Relationship Id="rId10" Type="http://schemas.openxmlformats.org/officeDocument/2006/relationships/hyperlink" Target="http://ru.wikipedia.org/wiki/&#1058;&#1088;&#1086;&#1094;&#1082;&#1080;&#1081;%2C_&#1051;&#1077;&#1074;_&#1044;&#1072;&#1074;&#1080;&#1076;&#1086;&#1074;&#1080;&#1095;" TargetMode="External"/><Relationship Id="rId11" Type="http://schemas.openxmlformats.org/officeDocument/2006/relationships/hyperlink" Target="http://ru.wikipedia.org/wiki/1926" TargetMode="External"/><Relationship Id="rId12" Type="http://schemas.openxmlformats.org/officeDocument/2006/relationships/hyperlink" Target="http://ru.wikipedia.org/wiki/&#1055;&#1072;&#1089;&#1090;&#1077;&#1088;&#1085;&#1072;&#1082;%2C_&#1041;&#1086;&#1088;&#1080;&#1089;_&#1051;&#1077;&#1086;&#1085;&#1080;&#1076;&#1086;&#1074;&#1080;&#1095;" TargetMode="External"/><Relationship Id="rId13" Type="http://schemas.openxmlformats.org/officeDocument/2006/relationships/hyperlink" Target="http://ru.wikipedia.org/wiki/&#1056;&#1080;&#1083;&#1100;&#1082;&#1077;%2C_&#1056;&#1072;&#1081;&#1085;&#1077;&#1088;_&#1052;&#1072;&#1088;&#1080;&#1103;" TargetMode="External"/><Relationship Id="rId14" Type="http://schemas.openxmlformats.org/officeDocument/2006/relationships/hyperlink" Target="http://ru.wikipedia.org/wiki/&#1056;&#1080;&#1083;&#1100;&#1082;&#1077;%2C_&#1056;&#1072;&#1081;&#1085;&#1077;&#1088;_&#1052;&#1072;&#1088;&#1080;&#1103;" TargetMode="External"/><Relationship Id="rId15" Type="http://schemas.openxmlformats.org/officeDocument/2006/relationships/hyperlink" Target="http://ru.wikipedia.org/wiki/&#1064;&#1074;&#1077;&#1081;&#1094;&#1072;&#1088;&#1080;&#1103;" TargetMode="External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" TargetMode="External"/><Relationship Id="rId4" Type="http://schemas.openxmlformats.org/officeDocument/2006/relationships/hyperlink" Target="http://ru.wikipedia.org/wiki/&#1045;&#1083;&#1072;&#1073;&#1091;&#1075;&#1072;" TargetMode="External"/><Relationship Id="rId5" Type="http://schemas.openxmlformats.org/officeDocument/2006/relationships/hyperlink" Target="http://ru.wikipedia.org/wiki/&#1057;&#1091;&#1080;&#1094;&#1080;&#1076;" TargetMode="External"/><Relationship Id="rId6" Type="http://schemas.openxmlformats.org/officeDocument/2006/relationships/hyperlink" Target="http://ru.wikipedia.org/wiki/31_&#1072;&#1074;&#1075;&#1091;&#1089;&#1090;&#1072;" TargetMode="External"/><Relationship Id="rId7" Type="http://schemas.openxmlformats.org/officeDocument/2006/relationships/hyperlink" Target="http://ru.wikipedia.org/wiki/1941" TargetMode="External"/><Relationship Id="rId8" Type="http://schemas.openxmlformats.org/officeDocument/2006/relationships/hyperlink" Target="http://ru.wikipedia.org/wiki/&#1045;&#1083;&#1072;&#1073;&#1091;&#1075;&#1072;" TargetMode="External"/><Relationship Id="rId9" Type="http://schemas.openxmlformats.org/officeDocument/2006/relationships/hyperlink" Target="http://ru.wikipedia.org/wiki/1944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ru.wikipedia.org/wiki/&#1052;&#1072;&#1082;&#1089;&#1080;&#1084;&#1072;&#1083;&#1080;&#1079;&#1084;" TargetMode="External"/><Relationship Id="rId3" Type="http://schemas.openxmlformats.org/officeDocument/2006/relationships/hyperlink" Target="http://ru.wikipedia.org/wiki/&#1051;&#1102;&#1073;&#1086;&#1074;&#1100;" TargetMode="External"/><Relationship Id="rId4" Type="http://schemas.openxmlformats.org/officeDocument/2006/relationships/hyperlink" Target="http://ru.wikipedia.org/wiki/&#1069;&#1082;&#1089;&#1087;&#1088;&#1077;&#1089;&#1089;&#1080;&#1074;&#1085;&#1086;&#1089;&#1090;&#1100;" TargetMode="External"/><Relationship Id="rId5" Type="http://schemas.openxmlformats.org/officeDocument/2006/relationships/hyperlink" Target="http://ru.wikipedia.org/w/index.php?title=&#1052;&#1077;&#1090;&#1072;&#1092;&#1086;&#1088;&#1080;&#1095;&#1085;&#1086;&#1089;&#1090;&#1100;&amp;action=edit&amp;redlink=1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Презентация на тему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ветаева Марина Иван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Интересные фак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1990 году патриарх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Алексий II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дал благословение на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отпевани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Цветаевой , тогда как отпевать самоубийц в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РПЦ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запрещено. На вопрос: «Что позволило сделать исключение для Цветаевой?» — патриарх ответил: «Любовь народная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435640" y="1557360"/>
            <a:ext cx="2881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Библиограф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нтокольский П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Книга Марины Цветаевой // Новый мир, 1966. — N 4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Цветаева 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оспоминания. — М.: 1971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вардовский 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арина Цветаева. Избранное, в его кн.: О литературе, М., 1973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Эфрон 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траницы воспоминаний. // Звезда, 1973. — N 3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Эфрон 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траницы былого // Звезда, 1975. — N 6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елкина 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крещение судеб — М.: 1988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аакянц 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. Цветаева. Жизнь и творчество — М.: 1997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рина Цветаева. Фотолетопись жизни поэта — М.: 2000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удрова 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уть комет. Жизнь Марины Цветаевой — СПб: 2002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Эфрон Г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Дневники, тт. 1-2 — М.: 2005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иблиография работ о Марине Цветаев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олянская 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Брак мой тайный. Марина Цветаева в Берлине — М.: 2001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мри Ронен. Часы ученичества Марины Цветаевой // Марина Цветаева 1892-1992. Под ред. С.Ельницкой и Е.Эткинда. Нортфилд, 1992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Работу выполнила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ца 11 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богович Ма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одерж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1 Биография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2 Творчеств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3 Интересные факты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4 Библиография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Биограф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рина Цветаева родилась 26 сентября (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8 октябр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189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г. в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Москв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в семье профессора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Ивана Владимировича Цветаев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 Марии Александровны Мейн-Цветаевой. Детские годы Цветаевой прошли в Москве и в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Тарус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где сейчас существует цветаевский дом-музей. Марина начала писать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стих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не только на русском, но и на французском и немецком языках — еще в шестилетнем возраст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1906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г. мать умерла, Марина с сестрой Анастасией остались на попечении отца. Марина училась в Москве, затем в пансионах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Швейцар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Герман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Опубликовав свои ранние стихи, она привлекла к себе внимание знаменитых поэтов —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Брюсов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Волоши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Гумилев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4"/>
          <a:stretch/>
        </p:blipFill>
        <p:spPr>
          <a:xfrm>
            <a:off x="5219640" y="1484280"/>
            <a:ext cx="345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Биограф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1911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г. Цветаева знакомится со своим будущим мужем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Сергеем Эфроном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. Во время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гражданской войны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Сергей воевал в рядах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Добровольческой арми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на стороне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белых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и после победы большевиков был вынужден эмигрирова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январе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1912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г. Цветаева вышла замуж за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Сергея Эфрон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. В этом же году у Марины и Сергея родилась дочь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Ариадна (Аля)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1917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г. Цветаева родила дочь Ирину, которая почти сразу после рождения оказалась в детском приюте, где умерла от голода в возрасте 3-х л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611280" y="1844640"/>
            <a:ext cx="331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Биограф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192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г. Цветаева эмигрировала. Сперва она жила в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Берлин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затем — в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Праг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В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925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г., после рождения сына, она переехала во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Францию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Вела практически нищенскую жизнь, снимая квартиры в пригородах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Париж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Из Парижа была «выдавлена» атмосферой, сложившейся вокруг неё из-за деятельности мужа. Эфрона обвиняли в том, что он был завербован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НКВД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 участвовал в заговоре против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Льва Седов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сына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Троцкого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мае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1926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года с подачи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Бориса Пастернак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Цветаева начала переписываться с австрийским поэтом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Райнером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 Марией Рильк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жившим тогда в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Швейцар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Эта переписка обрывается в конце того же года со смертью Рильк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6"/>
          <a:stretch/>
        </p:blipFill>
        <p:spPr>
          <a:xfrm>
            <a:off x="5219640" y="2060640"/>
            <a:ext cx="295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2301" b="0"/>
          <a:stretch/>
        </p:blipFill>
        <p:spPr>
          <a:xfrm>
            <a:off x="395280" y="1484280"/>
            <a:ext cx="3324240" cy="4495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981000"/>
            <a:ext cx="3787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411360" cy="4495680"/>
          </a:xfrm>
          <a:prstGeom prst="rect">
            <a:avLst/>
          </a:prstGeom>
          <a:ln w="0">
            <a:noFill/>
          </a:ln>
        </p:spPr>
      </p:pic>
      <p:pic>
        <p:nvPicPr>
          <p:cNvPr id="104" name="i-main-pic" descr="Картинка 7 из 33"/>
          <p:cNvPicPr/>
          <p:nvPr/>
        </p:nvPicPr>
        <p:blipFill>
          <a:blip r:embed="rId2"/>
          <a:stretch/>
        </p:blipFill>
        <p:spPr>
          <a:xfrm>
            <a:off x="4140360" y="189000"/>
            <a:ext cx="4572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Биограф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1939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 г. Цветаева вернулась в СССР, вслед за мужем и дочерью Во время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Великой Отечественной войны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 она с сыном отправилась в эвакуацию в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Елабугу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. Там, доведенная одиночеством, безработицей и трагичностью судеб близких, Марина Ивановна покончила жизнь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самоубийством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, повесившись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31 августа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1941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 г. и оставив предсмертную записку к сыну: "Прости меня, но дальше было бы хуже. Я тяжело больна, это уже не я. Люблю тебя безумно. Пойми, что я больше не могла жить. Передай папе и Але — если увидишь — что любила их до последней минуты, и объясни, что попала в тупик." Похоронена на кладбище г.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Елабуга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. Сын, Георгий, погиб 3 годами позже в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1944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 г. от пулевого ран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977760" y="1600200"/>
            <a:ext cx="2997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Творче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мантический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максимализм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, мотивы одиночества, трагическая обреченность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любв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, неприятие повседневности, конфликт быта и бытия, обыденности и жизни души. Интонационно-ритмическая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экспрессивность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, парадоксальная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метафоричность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179280" y="2205000"/>
            <a:ext cx="4105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0:41:54Z</dcterms:created>
  <dc:creator>User</dc:creator>
  <dc:description/>
  <dc:language>en-US</dc:language>
  <cp:lastModifiedBy>Игорь</cp:lastModifiedBy>
  <dcterms:modified xsi:type="dcterms:W3CDTF">2012-02-09T16:22:25Z</dcterms:modified>
  <cp:revision>4</cp:revision>
  <dc:subject/>
  <dc:title>Презентация на тему:</dc:title>
</cp:coreProperties>
</file>