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3D3D-595C-4753-A2E6-34DE34D8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7074-5995-49F0-A9EA-D9AE1160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D16C-9C30-4D4A-966E-7496E3D8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BFBE-1FEF-4779-BAF4-1EED67FC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D6A-E6CA-4337-9007-415EAE84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032E-4F15-4F66-A37B-98A2210E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1093-382F-464F-83CA-E6CFCBF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E838-334B-4BBE-AA44-15E88973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70B0-5DD4-469A-B183-82162FF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6818-A88D-419A-B6F7-7E9972A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4966-1862-4EF7-8959-5997FB9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D35A-8F7F-41B0-BE58-D4C1103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512-C4CD-4B24-AD59-7CDA75B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3094-514E-4167-8A40-68DA3467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84F9-6AE2-47B6-9908-C438B9ED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639D-5BC2-4CF5-83DC-6EA439B4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93C9-FAE1-4DDD-B016-870A67A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8B1A-AEA5-463B-96AF-2AAD06B7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76D1-F242-408F-877A-8928515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03FE-B192-4374-A70C-DA6C79E8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E5E6-14B5-4E4D-B9CA-6CF993C0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EBD7B-6666-4DE5-A832-708FD682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32EB-1E65-4AF6-B303-DCA787A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B750-454A-474C-9DA3-34ABDE9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302E-22D8-45E3-A8B7-8E151E559C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F668-EAB7-45FD-BB0B-FECD893E1E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стер – класс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 тему: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Добро пожаловать в театр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 воспитатель МКДОУ детского сада «Березка»Шафигулина В.Б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4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334120" cy="35258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5334120" y="152280"/>
            <a:ext cx="3657600" cy="3353040"/>
          </a:xfrm>
          <a:prstGeom prst="wedgeEllipseCallout">
            <a:avLst>
              <a:gd name="adj1" fmla="val -19268"/>
              <a:gd name="adj2" fmla="val 65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 зубами щёлк, да щел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явился серый вол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убу другую наде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бым голосом запе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4120" y="152280"/>
            <a:ext cx="3657600" cy="3353040"/>
          </a:xfrm>
          <a:prstGeom prst="wedgeEllipseCallout">
            <a:avLst>
              <a:gd name="adj1" fmla="val -19268"/>
              <a:gd name="adj2" fmla="val 65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 зубами щёлк, да щел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явился серый вол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убу другую наде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бым голосом запе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334120" y="152280"/>
            <a:ext cx="3657600" cy="3353040"/>
          </a:xfrm>
          <a:prstGeom prst="wedgeEllipseCallout">
            <a:avLst>
              <a:gd name="adj1" fmla="val -19268"/>
              <a:gd name="adj2" fmla="val 65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 зубами щёлк, да щел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явился серый вол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убу другую наде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бым голосом запе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4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картин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Рисунок 15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29200" cy="44402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6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картин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5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на лож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16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29200" cy="44402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7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на лож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7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5181840" cy="33732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кетный теа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5791320" y="1752480"/>
            <a:ext cx="3352680" cy="2895840"/>
          </a:xfrm>
          <a:prstGeom prst="wedgeEllipseCallout">
            <a:avLst>
              <a:gd name="adj1" fmla="val -25569"/>
              <a:gd name="adj2" fmla="val 77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 чём заинька плачеш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чём горюешь?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8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5181480" cy="32972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5562720" y="533520"/>
            <a:ext cx="3352680" cy="2895480"/>
          </a:xfrm>
          <a:prstGeom prst="wedgeEllipseCallout">
            <a:avLst>
              <a:gd name="adj1" fmla="val -25569"/>
              <a:gd name="adj2" fmla="val 779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Побежала мышка мать, стала утку в няньки звать: «Приходи к нам тётя утка, нашу детку покачать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9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5105160" cy="35258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>
            <a:off x="5943600" y="1600200"/>
            <a:ext cx="3200400" cy="2895480"/>
          </a:xfrm>
          <a:prstGeom prst="wedgeEllipseCallout">
            <a:avLst>
              <a:gd name="adj1" fmla="val -24402"/>
              <a:gd name="adj2" fmla="val 70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Дед бил, бил не разбил. Баба била, била не разбил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фланелеграф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20" descr=""/>
          <p:cNvPicPr/>
          <p:nvPr/>
        </p:nvPicPr>
        <p:blipFill>
          <a:blip r:embed="rId1"/>
          <a:stretch/>
        </p:blipFill>
        <p:spPr>
          <a:xfrm>
            <a:off x="2362320" y="4419720"/>
            <a:ext cx="4190760" cy="24382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мими - кри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943600" y="1600200"/>
            <a:ext cx="3200400" cy="2895480"/>
          </a:xfrm>
          <a:prstGeom prst="wedgeEllipseCallout">
            <a:avLst>
              <a:gd name="adj1" fmla="val -24402"/>
              <a:gd name="adj2" fmla="val 70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стретились Бяка и Бука, никто не издал ни зву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то не подал ни знака- молчали Бука и Бя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Рисунок 23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267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114800" cy="2438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ориг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5943600" y="1447920"/>
            <a:ext cx="3200400" cy="2895480"/>
          </a:xfrm>
          <a:prstGeom prst="wedgeEllipseCallout">
            <a:avLst>
              <a:gd name="adj1" fmla="val -24402"/>
              <a:gd name="adj2" fmla="val 70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ам не страшен серый волк, серый волк, серый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Рисунок 22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невой теа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Рисунок 24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5257800" cy="36860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/>
          <p:cNvSpPr/>
          <p:nvPr/>
        </p:nvSpPr>
        <p:spPr>
          <a:xfrm>
            <a:off x="5943600" y="1447920"/>
            <a:ext cx="3200400" cy="2895480"/>
          </a:xfrm>
          <a:prstGeom prst="wedgeEllipseCallout">
            <a:avLst>
              <a:gd name="adj1" fmla="val -24402"/>
              <a:gd name="adj2" fmla="val 70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ука-ре-ку! Кур стерегу!». «Кудах-тах-тах, снеслась в кустах». «Пить-пить, воды попить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4"/>
          <p:cNvSpPr/>
          <p:nvPr/>
        </p:nvSpPr>
        <p:spPr>
          <a:xfrm>
            <a:off x="5638680" y="1447920"/>
            <a:ext cx="3505320" cy="3352680"/>
          </a:xfrm>
          <a:prstGeom prst="wedgeEllipseCallout">
            <a:avLst>
              <a:gd name="adj1" fmla="val -25453"/>
              <a:gd name="adj2" fmla="val 7007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Мур-мур! Пугаю кур». «Гав-гав! Кто это там?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кочили собака с кошкой и хотели подраться. Но тут пришла коровушка и замычала: «Му-му! Молока кому?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Рисунок 25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4724280" cy="29368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6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029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E:\Новая папка\P3051015.JPG"/>
          <p:cNvPicPr/>
          <p:nvPr/>
        </p:nvPicPr>
        <p:blipFill>
          <a:blip r:embed="rId1"/>
          <a:stretch/>
        </p:blipFill>
        <p:spPr>
          <a:xfrm>
            <a:off x="152280" y="152280"/>
            <a:ext cx="335304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E:\Новая папка\P3051035.JPG"/>
          <p:cNvPicPr/>
          <p:nvPr/>
        </p:nvPicPr>
        <p:blipFill>
          <a:blip r:embed="rId2"/>
          <a:stretch/>
        </p:blipFill>
        <p:spPr>
          <a:xfrm>
            <a:off x="4724280" y="2286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E:\Новая папка\P3051039.JPG"/>
          <p:cNvPicPr/>
          <p:nvPr/>
        </p:nvPicPr>
        <p:blipFill>
          <a:blip r:embed="rId3"/>
          <a:stretch/>
        </p:blipFill>
        <p:spPr>
          <a:xfrm>
            <a:off x="152280" y="2590920"/>
            <a:ext cx="3276720" cy="2133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E:\Новая папка\P3051040.JPG"/>
          <p:cNvPicPr/>
          <p:nvPr/>
        </p:nvPicPr>
        <p:blipFill>
          <a:blip r:embed="rId4"/>
          <a:stretch/>
        </p:blipFill>
        <p:spPr>
          <a:xfrm>
            <a:off x="2743200" y="3581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E:\Новая папка\P3051049.JPG"/>
          <p:cNvPicPr/>
          <p:nvPr/>
        </p:nvPicPr>
        <p:blipFill>
          <a:blip r:embed="rId5"/>
          <a:stretch/>
        </p:blipFill>
        <p:spPr>
          <a:xfrm>
            <a:off x="5562720" y="441972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28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953240" cy="3498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"/>
          <p:cNvPicPr/>
          <p:nvPr/>
        </p:nvPicPr>
        <p:blipFill>
          <a:blip r:embed="rId2"/>
          <a:stretch/>
        </p:blipFill>
        <p:spPr>
          <a:xfrm>
            <a:off x="4038480" y="342900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9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0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6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тольный теат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оскос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014800" cy="38307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5715000" y="2514600"/>
            <a:ext cx="3200400" cy="2971800"/>
          </a:xfrm>
          <a:prstGeom prst="wedgeEllipseCallout">
            <a:avLst>
              <a:gd name="adj1" fmla="val -22023"/>
              <a:gd name="adj2" fmla="val 69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е плачь дед, не плачь баба, я снесу вам яичко другое, не золотое, а простое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8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572000" cy="38304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5410080" y="380880"/>
            <a:ext cx="3429000" cy="3276720"/>
          </a:xfrm>
          <a:prstGeom prst="wedgeEllipseCallout">
            <a:avLst>
              <a:gd name="adj1" fmla="val -23888"/>
              <a:gd name="adj2" fmla="val 6768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Съесть его хотел зайчишка, серый волк и бурый мишка, а когда малыш в лесу встретил рыжую лису, от неё уйти не смог. И это сказка «Колобок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9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19720" cy="37544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5410080" y="380880"/>
            <a:ext cx="3429000" cy="3276720"/>
          </a:xfrm>
          <a:prstGeom prst="wedgeEllipseCallout">
            <a:avLst>
              <a:gd name="adj1" fmla="val -23888"/>
              <a:gd name="adj2" fmla="val 6768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Нашла однажды мышка, совсем пустой домишко. Стала жить, да поживать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 жильцов к себе пуска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5257800" cy="3906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7"/>
          <p:cNvSpPr/>
          <p:nvPr/>
        </p:nvSpPr>
        <p:spPr>
          <a:xfrm>
            <a:off x="5410080" y="380880"/>
            <a:ext cx="3429000" cy="3276720"/>
          </a:xfrm>
          <a:prstGeom prst="wedgeEllipseCallout">
            <a:avLst>
              <a:gd name="adj1" fmla="val -23888"/>
              <a:gd name="adj2" fmla="val 6768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тянуть? С какого бока? Выйди внучка на подмогу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усный теат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Рисунок 11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4953240" cy="3220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86400" y="1600200"/>
            <a:ext cx="3657600" cy="3352680"/>
          </a:xfrm>
          <a:prstGeom prst="wedgeEllipseCallout">
            <a:avLst>
              <a:gd name="adj1" fmla="val -19268"/>
              <a:gd name="adj2" fmla="val 65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Маша в коробе сидит, далеко она глядит. А несёт её медведь быстрыми шагами вместе с пирогами. Провела его малышка, будет он умнее впредь. Вот какая сказка у нас в театре ес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2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5334120" cy="33732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5334120" y="228600"/>
            <a:ext cx="3657600" cy="3352680"/>
          </a:xfrm>
          <a:prstGeom prst="wedgeEllipseCallout">
            <a:avLst>
              <a:gd name="adj1" fmla="val -19268"/>
              <a:gd name="adj2" fmla="val 65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 этой сказке чашки три и три постели, стульев тоже три. И жильцов здесь в самом деле проживает ровно три. Как увидишь сразу ясно в гости к ним ходить опасно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/>
          <p:cNvSpPr/>
          <p:nvPr/>
        </p:nvSpPr>
        <p:spPr>
          <a:xfrm>
            <a:off x="228600" y="304920"/>
            <a:ext cx="8763120" cy="12189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5228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 губ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Рисунок 13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5029200" cy="34495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5486400" y="1676520"/>
            <a:ext cx="3657600" cy="3352680"/>
          </a:xfrm>
          <a:prstGeom prst="wedgeEllipseCallout">
            <a:avLst>
              <a:gd name="adj1" fmla="val -19268"/>
              <a:gd name="adj2" fmla="val 65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Жили – были семь ребят, очень маленьких козля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ма очень их любила, молочком детей пои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5:43:48Z</dcterms:created>
  <dc:creator>Татьяна</dc:creator>
  <dc:description/>
  <dc:language>en-US</dc:language>
  <cp:lastModifiedBy>пользователь</cp:lastModifiedBy>
  <dcterms:modified xsi:type="dcterms:W3CDTF">2015-03-15T05:32:1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