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C11-DC6A-4BBA-AA98-F00941FA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8AA-66A1-402B-9CAC-8D15136B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E36-E85F-4951-AF77-1878A7B6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EF5-1890-4F8B-8CC9-40E5B363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0864-2F21-4F9D-9E19-9EA3CEFE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377-B277-4D56-90C1-3B7C1D1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ED17-D365-4792-8404-197666E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E52-6695-4D76-8CE2-500D46A6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7ECD-FA0B-4BC2-A5ED-988D9774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7EA-931D-4FBE-8E68-22961FB6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996D-A9F9-45E5-A4B2-576D0E97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F4F-1184-4007-93D0-00B5130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C68-1CDC-47C4-820C-D97036B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3142-CE3A-486C-871F-427134F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B26-2514-49A7-9AC2-CB469917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18AA-ECB1-4C7C-9132-7538E14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7BCC-571B-4D76-8AF3-C489064D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66F-BCBA-4F45-9EF7-7BA830CA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844-3B82-48E6-8D7B-1CE27265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D78-D0EF-4479-9E41-15789076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EBE-AF6C-4CED-A5A2-54A180ED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AAB-005B-4328-8EA5-547337C4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219-728E-44F9-8A27-E8AA8F1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7AA-8FB0-4006-B49A-82713BB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272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9080" cy="5324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13B0-D3D2-4A74-94F7-EEEBCA5932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FB85-1A43-4134-A917-75D7E24AC4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ru.wikipedia.org/wiki/&#1060;&#1072;&#1081;&#1083;:Isaac-newton_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NewtonsTelescopeReplica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00240" y="2357280"/>
            <a:ext cx="6143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ААК НЬЮТОН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000480" y="4797000"/>
            <a:ext cx="27399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Мельников Еф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7-а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00040" y="2714760"/>
            <a:ext cx="2565360" cy="3512880"/>
          </a:xfrm>
          <a:prstGeom prst="rect">
            <a:avLst/>
          </a:prstGeom>
          <a:ln w="19080">
            <a:solidFill>
              <a:srgbClr val="cccc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3289680" y="62150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1643-1727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282760" cy="3733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79280" y="5013360"/>
            <a:ext cx="3240360" cy="64260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бита кометы по рисунку Исаака Ньютона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560680" cy="15303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80" name="Text Box 7"/>
          <p:cNvSpPr/>
          <p:nvPr/>
        </p:nvSpPr>
        <p:spPr>
          <a:xfrm>
            <a:off x="3348000" y="1700280"/>
            <a:ext cx="2390760" cy="1465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ый телескоп-рефлектор был построен Исааком Ньютоном в 1668 году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3744720" cy="26640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82" name="WordArt 11"/>
          <p:cNvSpPr txBox="1"/>
          <p:nvPr/>
        </p:nvSpPr>
        <p:spPr>
          <a:xfrm>
            <a:off x="900000" y="260280"/>
            <a:ext cx="741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000099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  ГИПОТЕЗ  НЕ  ИЗМЫШЛЯЮ"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000099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5724360" y="573408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Надгробие на могиле Ньютона</a:t>
            </a:r>
            <a:r>
              <a:rPr b="1" lang="ru-RU" sz="14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57120" y="1857240"/>
            <a:ext cx="4383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1a83"/>
                </a:solidFill>
                <a:latin typeface="Arial"/>
              </a:rPr>
              <a:t>Исаак Ньютон был торжественно похоронен в Вестминстерском аббатстве. Над его могилой высится памятник с бюстом и эпитафией: </a:t>
            </a: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«Здесь покоится сэр Исаак Ньютон, дворянин, который почти божественным разумом первый доказал с факелом математики движение планет, пути комет и приливы океанов. Он исследовал различие световых лучей и проявляющиеся при этом различные свойства цветов... Пусть смертные радуются, что существует такое украшение рода человеческого»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035600" cy="53722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87" name="AutoShape 8"/>
          <p:cNvSpPr/>
          <p:nvPr/>
        </p:nvSpPr>
        <p:spPr>
          <a:xfrm rot="10800000">
            <a:off x="5651640" y="5733720"/>
            <a:ext cx="2016000" cy="609480"/>
          </a:xfrm>
          <a:prstGeom prst="wedgeRoundRectCallout">
            <a:avLst>
              <a:gd name="adj1" fmla="val -115356"/>
              <a:gd name="adj2" fmla="val 63800"/>
              <a:gd name="adj3" fmla="val 16667"/>
            </a:avLst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57120" y="1143000"/>
            <a:ext cx="43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ьютон умер в Кенсингтоне, под Лондоном, в марте 1727 года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Греция в литературе - В Греции всё есть - Греция сегодня"/>
          <p:cNvPicPr/>
          <p:nvPr/>
        </p:nvPicPr>
        <p:blipFill>
          <a:blip r:embed="rId1"/>
          <a:stretch/>
        </p:blipFill>
        <p:spPr>
          <a:xfrm>
            <a:off x="1042920" y="1268280"/>
            <a:ext cx="6842160" cy="48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1785960" y="285840"/>
            <a:ext cx="547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4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ААК  НЬЮТОН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51480" y="2055960"/>
            <a:ext cx="326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286160" y="1214280"/>
            <a:ext cx="42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«ВЕЛИЧАЙШИЙ МАТЕМАТИК ВСЕХ ВРЕМЕН И НАРОДОВ»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Крылов А.Н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6" name="Picture 17" descr="a3"/>
          <p:cNvPicPr/>
          <p:nvPr/>
        </p:nvPicPr>
        <p:blipFill>
          <a:blip r:embed="rId1"/>
          <a:stretch/>
        </p:blipFill>
        <p:spPr>
          <a:xfrm>
            <a:off x="6732720" y="515772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3203640" y="213372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тот человек сформулировал основные законы механики, открыл закон всемирного тяготения, открыл законы разложения белого света и выдвинул корпускулярно-волновую теорию света, разработал дифференциальное и интегральное исчисления, открыл закон охлаждения нагретого тела, открыл закон сопротивления движению в вязкой жидкости, сконструировал один из первых термометров, впервые построил отражательный телескоп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900000" y="5589720"/>
            <a:ext cx="55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«Он самый счастливый — систему мира можно установить только один раз»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Лагранж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9" name="Рисунок 9" descr="http://upload.wikimedia.org/wikipedia/commons/2/21/Isaac-newton_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1571760"/>
            <a:ext cx="2500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1" descr="http://upload.wikimedia.org/wikipedia/commons/thumb/c/cc/NewtonsTelescopeReplica.jpg/220px-NewtonsTelescopeReplic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1357200"/>
            <a:ext cx="2928600" cy="2549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500040" y="4133880"/>
            <a:ext cx="30002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Телескоп-Рефлектор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ьютона: линза и вогнутое сферическое зеркало, которое сделал и отполировал сам, она давала 40-кратное увеличение превосходного качества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3857760" y="1428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еликий труд Ньютона — получил название </a:t>
            </a:r>
            <a:r>
              <a:rPr b="0" lang="ru-RU" sz="1800" spc="-1" strike="noStrike">
                <a:solidFill>
                  <a:srgbClr val="3f1a83"/>
                </a:solidFill>
                <a:latin typeface="Arial"/>
              </a:rPr>
              <a:t>«</a:t>
            </a:r>
            <a:r>
              <a:rPr b="0" lang="ru-RU" sz="1800" spc="-1" strike="noStrike" u="sng">
                <a:solidFill>
                  <a:srgbClr val="3f1a83"/>
                </a:solidFill>
                <a:uFillTx/>
                <a:latin typeface="Arial"/>
              </a:rPr>
              <a:t>Математические начала натуральной философии</a:t>
            </a:r>
            <a:r>
              <a:rPr b="0" lang="ru-RU" sz="1800" spc="-1" strike="noStrike">
                <a:solidFill>
                  <a:srgbClr val="3f1a83"/>
                </a:solidFill>
                <a:latin typeface="Arial"/>
              </a:rPr>
              <a:t>»,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о есть, на современном языке, «Математические основы физики». При жизни автора книга выдержала три издания. Слава Ньютона стала всемирной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3" name="Рисунок 14" descr="http://upload.wikimedia.org/wikipedia/commons/thumb/d/d0/Principia_Page_1726.jpg/220px-Principia_Page_1726.jpg"/>
          <p:cNvPicPr/>
          <p:nvPr/>
        </p:nvPicPr>
        <p:blipFill>
          <a:blip r:embed="rId3"/>
          <a:stretch/>
        </p:blipFill>
        <p:spPr>
          <a:xfrm>
            <a:off x="7072200" y="3571920"/>
            <a:ext cx="1689120" cy="2398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215040" y="600228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1c56"/>
                </a:solidFill>
                <a:latin typeface="Arial"/>
                <a:ea typeface="Times New Roman"/>
              </a:rPr>
              <a:t>Страница из «Начал» Ньютона (3-е изд., 1726)</a:t>
            </a:r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5" name="Рисунок 13" descr="http://upload.wikimedia.org/wikipedia/commons/1/17/Prinicipia-title.png"/>
          <p:cNvPicPr/>
          <p:nvPr/>
        </p:nvPicPr>
        <p:blipFill>
          <a:blip r:embed="rId4"/>
          <a:stretch/>
        </p:blipFill>
        <p:spPr>
          <a:xfrm>
            <a:off x="4000680" y="3500280"/>
            <a:ext cx="221580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185724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аак Ньютон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одился        в небольшом селении Вульстор примерно в 200 км от Лондона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059280" y="1773360"/>
            <a:ext cx="45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63640" y="1484280"/>
            <a:ext cx="638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85880" y="4214880"/>
            <a:ext cx="3643200" cy="21254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40" name="Text Box 8"/>
          <p:cNvSpPr/>
          <p:nvPr/>
        </p:nvSpPr>
        <p:spPr>
          <a:xfrm>
            <a:off x="5214960" y="142884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ец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Ньютона, также Исаак Ньютон, скончался до рождения сына, т.е. Ньютон не видал своего отца. Известно лишь, что он «был диким, чудным и слабым человеком»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429160" y="3643200"/>
            <a:ext cx="351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ть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Ньютона, происходившая из уважаемой в округе семьи, по-видимому, тоже фермерской, наоборот, в воспоминаниях характеризуется как «женщина исключительных достоинств и доброты»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WordArt 10"/>
          <p:cNvSpPr txBox="1"/>
          <p:nvPr/>
        </p:nvSpPr>
        <p:spPr>
          <a:xfrm>
            <a:off x="1214280" y="35712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Т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3" name="Picture 3" descr="ребёнок"/>
          <p:cNvPicPr/>
          <p:nvPr/>
        </p:nvPicPr>
        <p:blipFill>
          <a:blip r:embed="rId2"/>
          <a:stretch/>
        </p:blipFill>
        <p:spPr>
          <a:xfrm>
            <a:off x="3071880" y="1143000"/>
            <a:ext cx="20718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1258920" y="350028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ом в Вульсторпе, где родился Ньютон</a:t>
            </a:r>
            <a:r>
              <a:rPr b="1" lang="ru-RU" sz="1200" spc="-1" strike="noStrike">
                <a:solidFill>
                  <a:srgbClr val="9bd3e5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1258920" y="3500280"/>
            <a:ext cx="1873080" cy="505080"/>
          </a:xfrm>
          <a:prstGeom prst="wedgeRectCallout">
            <a:avLst>
              <a:gd name="adj1" fmla="val -96777"/>
              <a:gd name="adj2" fmla="val -65092"/>
            </a:avLst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1357200" y="4071960"/>
            <a:ext cx="2989440" cy="224640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147" name="Text Box 11"/>
          <p:cNvSpPr/>
          <p:nvPr/>
        </p:nvSpPr>
        <p:spPr>
          <a:xfrm>
            <a:off x="4643280" y="5715000"/>
            <a:ext cx="35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 легенде, эта яблоня выращена из семечка яблока, упавшего на голову Исаака.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51280" y="1357200"/>
            <a:ext cx="52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Из окон  родного дома открывался живописный вид сада, где Ньютон любил сидеть. Может быть, именно в этом саду упало знаменитое яблоко, "подсказавшее" Ньютону закон всемирного тяготения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9" name="Рисунок 1" descr="http://upload.wikimedia.org/wikipedia/commons/thumb/9/9b/Woolsthorpe_manor.jpg/220px-Woolsthorpe_manor.jpg"/>
          <p:cNvPicPr/>
          <p:nvPr/>
        </p:nvPicPr>
        <p:blipFill>
          <a:blip r:embed="rId2"/>
          <a:stretch/>
        </p:blipFill>
        <p:spPr>
          <a:xfrm>
            <a:off x="214200" y="1285920"/>
            <a:ext cx="3357720" cy="2136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лавка"/>
          <p:cNvPicPr/>
          <p:nvPr/>
        </p:nvPicPr>
        <p:blipFill>
          <a:blip r:embed="rId3"/>
          <a:stretch/>
        </p:blipFill>
        <p:spPr>
          <a:xfrm>
            <a:off x="4786200" y="3143160"/>
            <a:ext cx="3854520" cy="238284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низ 1"/>
          <p:cNvSpPr/>
          <p:nvPr/>
        </p:nvSpPr>
        <p:spPr>
          <a:xfrm rot="7072200">
            <a:off x="3527640" y="4740840"/>
            <a:ext cx="700200" cy="1682640"/>
          </a:xfrm>
          <a:prstGeom prst="down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85840" y="157176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12 лет Ньютона поместили в</a:t>
            </a:r>
            <a:r>
              <a:rPr b="1" lang="ru-RU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ролевскую школу в дали от дома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Жил он на квартире у аптекаря Кларка, общение с которым возбудило в нем влечение к химическим опытам; что касается школьных предметов, то они не давались ему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4714920" y="2786040"/>
            <a:ext cx="3816360" cy="26766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55" name="Text Box 10"/>
          <p:cNvSpPr/>
          <p:nvPr/>
        </p:nvSpPr>
        <p:spPr>
          <a:xfrm>
            <a:off x="4429080" y="5643720"/>
            <a:ext cx="3816360" cy="3373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мещение школы в Грэнтэме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435780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альчик стал усиленно заниматься по всем предметам и вскоре сделался первым учеником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7"/>
          <p:cNvSpPr/>
          <p:nvPr/>
        </p:nvSpPr>
        <p:spPr>
          <a:xfrm>
            <a:off x="4429080" y="515772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 вечерам Ньютон запускал воздушные змеи с прикрепленными к ним небольшими фонариками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14200" y="1428840"/>
            <a:ext cx="71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н построил миниатюрную ветряную мельницу, возбуждавшую восхищение не только детей, но и взрослых. При ветре мельница могла смолоть даже горсть зерна. А в безветренную погоду мельницу двигал живой "мельник": эту роль выполняла мышь, которая двигала колеса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 flipV="1" rot="10800000">
            <a:off x="2499840" y="3549240"/>
            <a:ext cx="585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четырнадцатилетнем возрасте Ньютон изобрел водяные часы и своеобразный самокат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асы были настолько верны, что семейство аптекаря пользовалось только ими.</a:t>
            </a:r>
            <a:r>
              <a:rPr b="1" lang="ru-RU" sz="1800" spc="-1" strike="noStrike">
                <a:solidFill>
                  <a:srgbClr val="9bd3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61" name="Picture 8" descr="С самого рождения Ньютону не повезло. Он родился необычайно …"/>
          <p:cNvPicPr/>
          <p:nvPr/>
        </p:nvPicPr>
        <p:blipFill>
          <a:blip r:embed="rId2"/>
          <a:srcRect l="60070" t="33002" r="8693" b="2362"/>
          <a:stretch/>
        </p:blipFill>
        <p:spPr>
          <a:xfrm>
            <a:off x="539640" y="2989440"/>
            <a:ext cx="168120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Воздушные змеи. Хобби. Познавательные статьи и необычные фотографии."/>
          <p:cNvPicPr/>
          <p:nvPr/>
        </p:nvPicPr>
        <p:blipFill>
          <a:blip r:embed="rId3"/>
          <a:stretch/>
        </p:blipFill>
        <p:spPr>
          <a:xfrm>
            <a:off x="2220840" y="5235480"/>
            <a:ext cx="22557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1209600"/>
            <a:ext cx="3533760" cy="26510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64" name="WordArt 5"/>
          <p:cNvSpPr txBox="1"/>
          <p:nvPr/>
        </p:nvSpPr>
        <p:spPr>
          <a:xfrm>
            <a:off x="1214280" y="428760"/>
            <a:ext cx="6480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ЛОДЫЕ 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480680" y="383364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Кембридже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214880" y="14288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5 июня 1661 г. он принят в Тринити-колледж (коллегия Троицы) в Кембридже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50920" y="4508640"/>
            <a:ext cx="417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фессор Барроу, выступая перед студентами, публично объявил его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"мужем славным и выдающихся знаний".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2387520" cy="35431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69" name="Text Box 10"/>
          <p:cNvSpPr/>
          <p:nvPr/>
        </p:nvSpPr>
        <p:spPr>
          <a:xfrm>
            <a:off x="6877080" y="3357720"/>
            <a:ext cx="226692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атуя сэра Исаака Ньютона над входом в Тринити-колледж, Кембридж. 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 статуе высечены слова Лукреция: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«Разумом он превосходил род человеческий»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5"/>
          <p:cNvSpPr txBox="1"/>
          <p:nvPr/>
        </p:nvSpPr>
        <p:spPr>
          <a:xfrm>
            <a:off x="1332000" y="260280"/>
            <a:ext cx="6480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Times New Roman"/>
              </a:rPr>
              <a:t>МОЛОДЫЕ 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429160" y="1357200"/>
            <a:ext cx="3171960" cy="2197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72" name="Text Box 7"/>
          <p:cNvSpPr/>
          <p:nvPr/>
        </p:nvSpPr>
        <p:spPr>
          <a:xfrm>
            <a:off x="826920" y="1413000"/>
            <a:ext cx="441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1664–1667 годах, спасаясь от ужасов чумы, он уезжает на два года в родную деревушку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928800" y="2857680"/>
            <a:ext cx="3960720" cy="3294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74" name="Text Box 9"/>
          <p:cNvSpPr/>
          <p:nvPr/>
        </p:nvSpPr>
        <p:spPr>
          <a:xfrm>
            <a:off x="5148360" y="378936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то были годы поистине титанической творческой активности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19640" y="4941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4dd9"/>
                </a:solidFill>
                <a:latin typeface="Arial"/>
              </a:rPr>
              <a:t>Исаак Ньютон заложил основы классической механики и сформулировал закон всемирного тяготения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Наташа</cp:lastModifiedBy>
  <dcterms:modified xsi:type="dcterms:W3CDTF">2015-03-15T13:15:21Z</dcterms:modified>
  <cp:revision>13</cp:revision>
  <dc:subject/>
  <dc:title>Слайд 1</dc:title>
</cp:coreProperties>
</file>