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639-222A-4601-A4A3-9ADD1221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AA3-6586-4F17-88AD-D56CBC37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D9F-D427-475B-832E-BF4B01D2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7EF-9F26-4719-A76B-98AA400A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85DA-E981-413B-8D81-3240A79E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7951-7618-4ADF-958D-393E52F7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DCFB-CBCB-4CEA-A1B1-A5EEA4D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F31F-60AD-44B3-AAD4-0085C1F0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4DAC-3F23-485E-BB7D-B51342AE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C5D2-8607-4381-A307-2D3756C9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8793-2495-427A-A24F-1A35273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4EA-14E1-4672-9096-4E7A905C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5DB-E0DC-4882-A18B-AE7D601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F9A4-628B-4D63-A7F4-9BBB7DC9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7F3B-84B6-43F5-B430-B138C271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C96-43A7-47BA-B419-A7AE3869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D6CB-64AB-470B-A794-78678019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D15D-4CAD-4726-B691-F63163A0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FC7F-2F0E-4100-AF31-DAE98369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2098-CC76-498D-8FCB-395E696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096A-7438-4B37-86B9-5335D55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C6D8-C36B-4470-926F-E8D0348C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C63-29F3-4A33-81C7-336B8566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876F-0854-4A0F-86E6-1EFE3ED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0731-BBBD-4DE0-A0F9-B09E499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89F8-0A3E-4D60-A67D-2692527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B87E-3C29-46C6-911D-6E77F4E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8B68-A358-410A-9903-579F2101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5519-66FB-41E8-A1D0-DFC39B97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89F1-61B7-4C4B-A594-6ED8A91A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2ECB-16D8-43F4-B5E4-AE26A4A2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E477-78DF-4816-9BC9-B5A0C02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A5DE-B5E5-4D07-AE80-E537466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1D1-91F8-433A-B8D0-ABFE3F7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11F7-F1DA-4083-BBD5-2548C4F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8454-0A88-4111-9F55-D87F9F39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8AC7-1847-4D22-8ED5-965FB26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33C7-654C-4A03-8AAE-0A70BD0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F0A1-CC78-4679-BAEA-5C6D951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6B2D-DB9A-41D0-AEF3-8B25281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2098-CC2F-4DB3-8D4E-B0AB1A50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3AD9-FF30-4AA4-B39D-26AB9A29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4B81-46CD-4226-B3AE-4F3A6D94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B424B-4C38-450D-B9E5-0944B2D7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F85-0B6A-4068-8410-6FD46909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29D8-970B-4565-80A0-33FE429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D2E3-8AC3-4A98-95B6-58BE604E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4040-15CE-42E6-8B78-FBB52576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6C89-5E54-4D80-962B-CA5CF32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93C9-ADE7-4C7A-9428-335B2D47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D2F48-3A03-471E-8F80-EEA0538F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A31E-2CE9-417E-B9F3-5617D4D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3B7D-0701-4E91-8D78-04794F8E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7046-5779-4841-8D55-8A328BAB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7074-2084-4DA1-A667-175A2A55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D81-44F8-4192-8AD2-976DD4D6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4DD6-3933-4880-8147-0EB84F53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A85-2B6C-4EB6-88CB-11F2289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EDA-0C64-4FFA-B178-690D1F1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C44-BC71-4B23-BFDA-12EFB71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169-EDAB-45C7-9A60-8BA24614D1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5367-3FB8-4FDB-AAE4-5F74F282C9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803-2D45-4264-BEF9-B50C2F810B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2969-EA2B-4230-BB6C-25D5A9AA7A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F1B-8410-4AA9-A217-23E7F5A779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c00000"/>
                </a:solidFill>
                <a:latin typeface="Arial"/>
              </a:rPr>
              <a:t>П</a:t>
            </a:r>
            <a:r>
              <a:rPr b="1" lang="ru-RU" sz="4100" spc="-1" strike="noStrike">
                <a:solidFill>
                  <a:srgbClr val="c00000"/>
                </a:solidFill>
                <a:latin typeface="Verdana"/>
              </a:rPr>
              <a:t>роблемно</a:t>
            </a:r>
            <a:r>
              <a:rPr b="1" lang="ru-RU" sz="4100" spc="-1" strike="noStrike">
                <a:solidFill>
                  <a:srgbClr val="c00000"/>
                </a:solidFill>
                <a:latin typeface="Arial"/>
              </a:rPr>
              <a:t>-диалогическое</a:t>
            </a:r>
            <a:r>
              <a:rPr b="1" lang="ru-RU" sz="4100" spc="-1" strike="noStrike">
                <a:solidFill>
                  <a:srgbClr val="c00000"/>
                </a:solidFill>
                <a:latin typeface="Verdana"/>
              </a:rPr>
              <a:t> обучение на уроках русского языка и литературы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179280" y="3419640"/>
            <a:ext cx="3529080" cy="2992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"/>
          <p:cNvSpPr/>
          <p:nvPr/>
        </p:nvSpPr>
        <p:spPr>
          <a:xfrm>
            <a:off x="3851280" y="422100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Из опыта раб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Симоновой Ирины Александровн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учителя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МОУ «Александровская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Схема 7" descr=""/>
          <p:cNvPicPr/>
          <p:nvPr/>
        </p:nvPicPr>
        <p:blipFill>
          <a:blip r:embed="rId1"/>
          <a:stretch/>
        </p:blipFill>
        <p:spPr>
          <a:xfrm>
            <a:off x="390600" y="542880"/>
            <a:ext cx="828972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ды диалогов</a:t>
            </a:r>
            <a:endParaRPr b="1" lang="en-US" sz="3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464000" cy="509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Побуждающий диало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ff"/>
                </a:solidFill>
                <a:latin typeface="Arial"/>
              </a:rPr>
              <a:t>Вопросы учителя, побуждающие детей высказывать различные версии решения проблем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Развивает творческое мышл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ксимально близок к жизненным ситуация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703dd"/>
                </a:solidFill>
                <a:latin typeface="Arial"/>
              </a:rPr>
              <a:t>-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Ученики могут увести в сторону от тем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703dd"/>
                </a:solidFill>
                <a:latin typeface="Arial"/>
              </a:rPr>
              <a:t>-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Невозможно рассчитать время на урок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0" y="1125000"/>
            <a:ext cx="4387680" cy="5099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b9f25"/>
                </a:solidFill>
                <a:uFillTx/>
                <a:latin typeface="Arial"/>
              </a:rPr>
              <a:t>Подводящий диало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ff"/>
                </a:solidFill>
                <a:latin typeface="Arial"/>
              </a:rPr>
              <a:t>Цепочка вопросов, последовательно приводящих к правильному ответу, запланированному учител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Развивает логическое мышл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Просчитывается по времен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Ведет к нужному результату коротким пут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703dd"/>
                </a:solidFill>
                <a:latin typeface="Arial"/>
              </a:rPr>
              <a:t>-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В меньшей степени развивает творчество и инициатив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БЛЕМНАЯ СИТУ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роблемная ситуация —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состояние умственного затруднения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, вызванного в определенной учебной ситуации объективной недостаточностью ранее усвоенных учащимися знаний и способов умственной и практической деятельности для решения возникшей познавательной задач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348000" y="6535800"/>
            <a:ext cx="1042920" cy="322200"/>
          </a:xfrm>
          <a:custGeom>
            <a:avLst/>
            <a:gdLst>
              <a:gd name="textAreaLeft" fmla="*/ 20880 w 1042920"/>
              <a:gd name="textAreaRight" fmla="*/ 1022040 w 1042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69863" h="21600">
                <a:moveTo>
                  <a:pt x="0" y="0"/>
                </a:moveTo>
                <a:lnTo>
                  <a:pt x="69863" y="0"/>
                </a:lnTo>
                <a:lnTo>
                  <a:pt x="69863" y="21600"/>
                </a:lnTo>
                <a:lnTo>
                  <a:pt x="0" y="21600"/>
                </a:lnTo>
                <a:close/>
              </a:path>
              <a:path fill="lightenLess" w="69863" h="21600">
                <a:moveTo>
                  <a:pt x="0" y="0"/>
                </a:moveTo>
                <a:lnTo>
                  <a:pt x="69863" y="0"/>
                </a:lnTo>
                <a:lnTo>
                  <a:pt x="68463" y="1400"/>
                </a:lnTo>
                <a:lnTo>
                  <a:pt x="1400" y="1400"/>
                </a:lnTo>
                <a:close/>
              </a:path>
              <a:path fill="darken" w="69863" h="21600">
                <a:moveTo>
                  <a:pt x="69863" y="0"/>
                </a:moveTo>
                <a:lnTo>
                  <a:pt x="69863" y="21600"/>
                </a:lnTo>
                <a:lnTo>
                  <a:pt x="68463" y="20200"/>
                </a:lnTo>
                <a:lnTo>
                  <a:pt x="68463" y="1400"/>
                </a:lnTo>
                <a:close/>
              </a:path>
              <a:path fill="darkenLess" w="69863" h="21600">
                <a:moveTo>
                  <a:pt x="69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63" y="20200"/>
                </a:lnTo>
                <a:close/>
              </a:path>
              <a:path fill="lighten" w="69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863" h="21600">
                <a:moveTo>
                  <a:pt x="27925" y="3794"/>
                </a:moveTo>
                <a:lnTo>
                  <a:pt x="41938" y="10800"/>
                </a:lnTo>
                <a:lnTo>
                  <a:pt x="27925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ип проблемной ситуаци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2920" y="134136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9f25"/>
                </a:solidFill>
                <a:latin typeface="Verdana"/>
              </a:rPr>
              <a:t>С затруднение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11280" y="1268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С удивл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767120" y="179244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11"/>
          <p:cNvSpPr/>
          <p:nvPr/>
        </p:nvSpPr>
        <p:spPr>
          <a:xfrm>
            <a:off x="6443640" y="6524640"/>
            <a:ext cx="1042920" cy="333360"/>
          </a:xfrm>
          <a:custGeom>
            <a:avLst/>
            <a:gdLst>
              <a:gd name="textAreaLeft" fmla="*/ 21600 w 1042920"/>
              <a:gd name="textAreaRight" fmla="*/ 1021320 w 104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6126" y="1400"/>
                </a:lnTo>
                <a:lnTo>
                  <a:pt x="1400" y="1400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6126" y="20200"/>
                </a:lnTo>
                <a:lnTo>
                  <a:pt x="66126" y="1400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126" y="20200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526" h="21600">
                <a:moveTo>
                  <a:pt x="26757" y="10800"/>
                </a:moveTo>
                <a:lnTo>
                  <a:pt x="40770" y="3794"/>
                </a:lnTo>
                <a:lnTo>
                  <a:pt x="40770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7451640" y="6524640"/>
            <a:ext cx="1042920" cy="333360"/>
          </a:xfrm>
          <a:custGeom>
            <a:avLst/>
            <a:gdLst>
              <a:gd name="textAreaLeft" fmla="*/ 21600 w 1042920"/>
              <a:gd name="textAreaRight" fmla="*/ 1021320 w 104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6126" y="1400"/>
                </a:lnTo>
                <a:lnTo>
                  <a:pt x="1400" y="1400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6126" y="20200"/>
                </a:lnTo>
                <a:lnTo>
                  <a:pt x="66126" y="1400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126" y="20200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526" h="21600">
                <a:moveTo>
                  <a:pt x="26757" y="3794"/>
                </a:moveTo>
                <a:lnTo>
                  <a:pt x="40770" y="10800"/>
                </a:lnTo>
                <a:lnTo>
                  <a:pt x="26757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11" descr="http://t1.pfst.net/2012.02/111885422882d754e5ef37ef1ed2b689a466155a610_b.jpg"/>
          <p:cNvPicPr/>
          <p:nvPr/>
        </p:nvPicPr>
        <p:blipFill>
          <a:blip r:embed="rId1"/>
          <a:stretch/>
        </p:blipFill>
        <p:spPr>
          <a:xfrm>
            <a:off x="714240" y="192888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photoshopia.su/uploads/posts/2011-09/5pxtw10jsso.jpg"/>
          <p:cNvPicPr/>
          <p:nvPr/>
        </p:nvPicPr>
        <p:blipFill>
          <a:blip r:embed="rId2"/>
          <a:stretch/>
        </p:blipFill>
        <p:spPr>
          <a:xfrm>
            <a:off x="5643720" y="2500200"/>
            <a:ext cx="20286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542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буждающий от проблемной ситуации диалог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981000"/>
          <a:ext cx="9144000" cy="5595840"/>
        </p:xfrm>
        <a:graphic>
          <a:graphicData uri="http://schemas.openxmlformats.org/drawingml/2006/table">
            <a:tbl>
              <a:tblPr/>
              <a:tblGrid>
                <a:gridCol w="3989520"/>
                <a:gridCol w="5154480"/>
              </a:tblGrid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риё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опросы учащим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Одновременное предъявление противоречивых фактов, теорий, мнений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то вас удивило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то интересного заметили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акое противоречие налицо?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Mincho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Столкновение мнений учеников вопросом или практическим заданием на новый материа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опрос был один?  А мнений сколько?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Mincho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07f09"/>
                          </a:solidFill>
                          <a:latin typeface="Times New Roman"/>
                          <a:ea typeface="MS Mincho"/>
                        </a:rPr>
                        <a:t>2.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адание было одно? А выполнили вы его как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07f09"/>
                          </a:solidFill>
                          <a:latin typeface="Times New Roman"/>
                          <a:ea typeface="MS Mincho"/>
                        </a:rPr>
                        <a:t>3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  Почему так получилось? Чего мы еще не знаем?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Mincho"/>
                        </a:rPr>
                        <a:t>»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Mincho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3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Противоречие между житейским представлением  и научным факт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ы что думали сначала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 что оказывается на самом деле?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Mincho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Противоречие между необходимостью и невозможностью выполнить задание учителя</a:t>
                      </a: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Lucida Sans Unicode"/>
                          <a:ea typeface="MS Gothic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ы смогли выполнить задани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 чем затруднени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07f09"/>
                        </a:buClr>
                        <a:buSzPct val="68000"/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Чем это задание не похоже на предыдуще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AutoShape 101"/>
          <p:cNvSpPr/>
          <p:nvPr/>
        </p:nvSpPr>
        <p:spPr>
          <a:xfrm>
            <a:off x="3492360" y="6534000"/>
            <a:ext cx="1043280" cy="324000"/>
          </a:xfrm>
          <a:custGeom>
            <a:avLst/>
            <a:gdLst>
              <a:gd name="textAreaLeft" fmla="*/ 20880 w 1043280"/>
              <a:gd name="textAreaRight" fmla="*/ 1022400 w 104328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69499" h="21600">
                <a:moveTo>
                  <a:pt x="0" y="0"/>
                </a:moveTo>
                <a:lnTo>
                  <a:pt x="69499" y="0"/>
                </a:lnTo>
                <a:lnTo>
                  <a:pt x="69499" y="21600"/>
                </a:lnTo>
                <a:lnTo>
                  <a:pt x="0" y="21600"/>
                </a:lnTo>
                <a:close/>
              </a:path>
              <a:path fill="lightenLess" w="69499" h="21600">
                <a:moveTo>
                  <a:pt x="0" y="0"/>
                </a:moveTo>
                <a:lnTo>
                  <a:pt x="69499" y="0"/>
                </a:lnTo>
                <a:lnTo>
                  <a:pt x="68099" y="1400"/>
                </a:lnTo>
                <a:lnTo>
                  <a:pt x="1400" y="1400"/>
                </a:lnTo>
                <a:close/>
              </a:path>
              <a:path fill="darken" w="69499" h="21600">
                <a:moveTo>
                  <a:pt x="69499" y="0"/>
                </a:moveTo>
                <a:lnTo>
                  <a:pt x="69499" y="21600"/>
                </a:lnTo>
                <a:lnTo>
                  <a:pt x="68099" y="20200"/>
                </a:lnTo>
                <a:lnTo>
                  <a:pt x="68099" y="1400"/>
                </a:lnTo>
                <a:close/>
              </a:path>
              <a:path fill="darkenLess" w="69499" h="21600">
                <a:moveTo>
                  <a:pt x="69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099" y="20200"/>
                </a:lnTo>
                <a:close/>
              </a:path>
              <a:path fill="lighten" w="69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499" h="21600">
                <a:moveTo>
                  <a:pt x="27743" y="3794"/>
                </a:moveTo>
                <a:lnTo>
                  <a:pt x="41756" y="10800"/>
                </a:lnTo>
                <a:lnTo>
                  <a:pt x="27743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Приемы создания проблемных ситуаци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557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«Подводящий диалог»: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помни, выполни, раздели на группы, сравни, проанализируй, сделай выв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Ситуация с «затруднением»</a:t>
            </a:r>
            <a:r>
              <a:rPr b="1" i="1" lang="ru-RU" sz="2000" spc="-1" strike="noStrike">
                <a:solidFill>
                  <a:srgbClr val="ffff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противоречие между необходимостью выполнить практическое задание учениками и невозможностью это сделать без сегодняшне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Мотивирующее пятно: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яркое пятно», интригующий материал в начале ур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Применение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енных знаний в новой ситу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Столкнов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зных точек зрения по одному вопрос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Задачи 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недостаточными данными (восстанови    определение, словообразовательную цепочку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избыточными данными (найди лишнее, подчеркни то, что относится к .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заведомыми ошибк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ограничением во времени реш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Verdana"/>
              </a:rPr>
              <a:t>Преимущества </a:t>
            </a:r>
            <a:r>
              <a:rPr b="1" lang="ru-RU" sz="3100" spc="-1" strike="noStrike">
                <a:solidFill>
                  <a:srgbClr val="0070c0"/>
                </a:solidFill>
                <a:latin typeface="Arial"/>
              </a:rPr>
              <a:t>технологии проблемного диалога</a:t>
            </a:r>
            <a:endParaRPr b="1" lang="en-US" sz="3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83520" cy="519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35e40"/>
                </a:solidFill>
                <a:latin typeface="Verdana"/>
              </a:rPr>
              <a:t>Проблемный диалог является мощным источником мотивации познавательной деятельности учащихся</a:t>
            </a:r>
            <a:r>
              <a:rPr b="1" lang="ru-RU" sz="2500" spc="-1" strike="noStrike">
                <a:solidFill>
                  <a:srgbClr val="717895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cc"/>
                </a:solidFill>
                <a:latin typeface="Verdana"/>
              </a:rPr>
              <a:t>Проблемный диалог реализуется на любой ступени об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роблемный диалог дает учителю широкие возможности выбора методов, форм и средств обуч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07f09"/>
                </a:solidFill>
                <a:latin typeface="Verdana"/>
              </a:rPr>
              <a:t>В работу включается практически весь класс, что гарантирует усвоение нового материала большинством ученик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беспечивает  более качественное усвоение знаний, приучает учащихся мыслить, развивает их интеллектуальные способности и активнос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Рефлекс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G:\картинки\motivator-29327.jpeg"/>
          <p:cNvPicPr/>
          <p:nvPr/>
        </p:nvPicPr>
        <p:blipFill>
          <a:blip r:embed="rId1"/>
          <a:srcRect l="4384" t="3985" r="4314" b="13215"/>
          <a:stretch/>
        </p:blipFill>
        <p:spPr>
          <a:xfrm>
            <a:off x="6084720" y="3357720"/>
            <a:ext cx="2557800" cy="298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20711400">
            <a:off x="743040" y="985680"/>
            <a:ext cx="7416720" cy="423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кажи мне, и я забуду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кажи мне - я смогу запомнить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зволь мне это сделать самому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И это станет моим навсег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Древняя мудр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250920" y="90360"/>
            <a:ext cx="849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ФГОС: каким образом можно получить </a:t>
            </a: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новый результат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95280" y="1413000"/>
            <a:ext cx="85694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b03f5"/>
                </a:solidFill>
                <a:latin typeface="Times New Roman"/>
              </a:rPr>
              <a:t>организовать </a:t>
            </a:r>
            <a:r>
              <a:rPr b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ДЕЯТЕЛЬНОСТЬ</a:t>
            </a:r>
            <a:r>
              <a:rPr b="1" lang="ru-RU" sz="3000" spc="-1" strike="noStrike">
                <a:solidFill>
                  <a:srgbClr val="2b03f5"/>
                </a:solidFill>
                <a:latin typeface="Times New Roman"/>
              </a:rPr>
              <a:t> ученик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7920" y="53514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ОВРЕМЕН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РАЗОВАТЕЛЬНЫХ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4462560"/>
            <a:ext cx="9144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решать учеб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Мы: вместо проверки знаний - проверка умений ими пользоваться!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2205000"/>
            <a:ext cx="30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шении учебных 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156360" y="22050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прогресс</a:t>
            </a:r>
            <a:r>
              <a:rPr b="1" i="1" lang="ru-RU" sz="2400" spc="-1" strike="noStrike">
                <a:solidFill>
                  <a:srgbClr val="2b03f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в личностном развит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1"/>
          <a:stretch/>
        </p:blipFill>
        <p:spPr>
          <a:xfrm>
            <a:off x="3214800" y="1952640"/>
            <a:ext cx="331128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5712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c000"/>
                </a:solidFill>
                <a:latin typeface="Arial Black"/>
              </a:rPr>
              <a:t>Проблемно-диалогическое  обучение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это тип развивающего обучения,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в котором  сочетается систематическая самостоятельная поисковая деятельность обучающихся с усвоением ими готовых выводов науки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11280" y="529920"/>
            <a:ext cx="8075520" cy="30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олько в диалоге развивается способность мысли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беседе, спрашиван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здаются услов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взаимодейств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имающих сознан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. М. Бахти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D:\Users\Дом\Desktop\Безымянный22222.png"/>
          <p:cNvPicPr/>
          <p:nvPr/>
        </p:nvPicPr>
        <p:blipFill>
          <a:blip r:embed="rId1"/>
          <a:stretch/>
        </p:blipFill>
        <p:spPr>
          <a:xfrm>
            <a:off x="3780000" y="2655720"/>
            <a:ext cx="47955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анная технология является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360" y="1557360"/>
            <a:ext cx="7991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ивной, поскольку обеспечивает высокое качество усвоения знаний, эффективной развитие интеллекта и творческих способностей младших школьников, воспитание активной личности обучающихся, развитие универсальных учебных 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доровьесберегающей, потому что позволяет снижать нервно-психические нагрузки учащихся за счет стимуляции познавательной мотивации и «открытия» знаний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Автор технологи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3889440" cy="2663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Лауреат премии Правительства Р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Кандидат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ц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C:\Users\BOBA\Desktop\clip_pic.jpg"/>
          <p:cNvPicPr/>
          <p:nvPr/>
        </p:nvPicPr>
        <p:blipFill>
          <a:blip r:embed="rId1"/>
          <a:stretch/>
        </p:blipFill>
        <p:spPr>
          <a:xfrm>
            <a:off x="468360" y="1413000"/>
            <a:ext cx="4152960" cy="2952720"/>
          </a:xfrm>
          <a:prstGeom prst="rect">
            <a:avLst/>
          </a:prstGeom>
          <a:ln w="0">
            <a:noFill/>
          </a:ln>
        </p:spPr>
      </p:pic>
      <p:sp>
        <p:nvSpPr>
          <p:cNvPr id="240" name="Заголовок 6"/>
          <p:cNvSpPr/>
          <p:nvPr/>
        </p:nvSpPr>
        <p:spPr>
          <a:xfrm>
            <a:off x="324000" y="4581360"/>
            <a:ext cx="856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Мельникова Елена Леонид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83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Главное «действующее лицо» урока -ученик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360" y="1125000"/>
            <a:ext cx="8183520" cy="512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самостоятельно формулируют цели уро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осознают недостаточность имеющихся знаний (учитель способствует возникновению на уроке проблемной ситуации, в ходе анализа которой учащиеся понимают, что имеющихся знаний для ее решения недостаточно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самостоятельно добывают знания в ходе поисковой и исследовательской деятельности, работы в парах и группа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осуществляют взаимопроверку, взаимоконтрол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становятся в ситуацию, когда необходимо проанализировать свою деятельность на уро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их этапов состоит 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-диалогический урок?</a:t>
            </a:r>
            <a:endParaRPr b="1" lang="en-US" sz="3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0920" y="15573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проблемной ситу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елем и формулирование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учебной пробл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5840" y="2571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версий решения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324000" y="3213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Актуализ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хся зн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324000" y="3716280"/>
            <a:ext cx="92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пла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4000" y="42210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решения пробл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ткрытие нового 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24000" y="5084640"/>
            <a:ext cx="83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Выражение реш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ы и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  <a:ea typeface="Times New Roman"/>
              </a:rPr>
              <a:t>приме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 знания на прак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0:19:00Z</dcterms:created>
  <dc:creator>oem</dc:creator>
  <dc:description/>
  <dc:language>en-US</dc:language>
  <cp:lastModifiedBy>USER</cp:lastModifiedBy>
  <cp:lastPrinted>2013-05-24T09:01:36Z</cp:lastPrinted>
  <dcterms:modified xsi:type="dcterms:W3CDTF">2015-03-15T18:50:16Z</dcterms:modified>
  <cp:revision>97</cp:revision>
  <dc:subject/>
  <dc:title>Метод проблемного обучения на уроках русского языка и литературы</dc:title>
</cp:coreProperties>
</file>