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37A-7694-4C13-BD35-9A8C09A2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56F-F299-4B87-B5C3-C044D16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56F-45AF-4FD5-A07F-FEF6E29E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6BD-D014-435B-A08D-0C97D17F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50F-9B62-4CF1-A020-F93527D0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71B-730B-47A4-8F3F-5D294110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A4B-D5F0-4437-A5E7-FE8ED16D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0185-5673-4029-9B20-AD3DCB5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808B-794C-4D1B-8F05-90449C06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06C-1990-417D-9CD0-549D5CD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842-E7C7-48BD-AB3B-2FA3DFC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2D6-D70D-4662-B14C-D549D4F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4A6-CB40-40B5-A796-51B75A7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D5D4-9E2F-4F12-BF69-17D6036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241-1D20-4F0D-8761-F4BC076D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A28-700A-41A5-A983-BEC9F386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09D-0FED-4DED-9A50-10CFF474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DFF-C972-4FF3-BE84-8440BA0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6E6-CFE3-46DD-BC95-ADC3A900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007-C90C-42A7-8686-39C94EAE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15B-13F8-4D34-A0FC-0FF7B7E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35E-29F6-4FE5-9E90-980378C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9D-9A10-460B-8612-73B2D32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61C-0099-4843-B03F-7D736DA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6CDA-9D9A-425F-8DCB-8F6DAFAF7A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21E-3DA8-4597-9C53-373BFC4E3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960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ЕКТ «Мое право на образование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400" y="2133360"/>
            <a:ext cx="6756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Тема «Содействие развитию прав ребенка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Автор разрабчи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удылина Маргар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Консультант проект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Шильникова Е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Омск,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1295280" y="3657600"/>
          <a:ext cx="24386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57600"/>
                    <a:ext cx="2438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7000920" y="3643200"/>
          <a:ext cx="18097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00920" y="3643200"/>
                    <a:ext cx="1809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ИНДИВИДУАЛЬНЫЕ ДОСТИЖ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нятия на подготовительных курсах при ВУЗах города Омс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падение диагностик и выбора старшекласс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знанное поступление в ВУ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j0345557"/>
          <p:cNvPicPr/>
          <p:nvPr/>
        </p:nvPicPr>
        <p:blipFill>
          <a:blip r:embed="rId1"/>
          <a:stretch/>
        </p:blipFill>
        <p:spPr>
          <a:xfrm>
            <a:off x="3429000" y="4800600"/>
            <a:ext cx="1411200" cy="178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345559"/>
          <p:cNvPicPr/>
          <p:nvPr/>
        </p:nvPicPr>
        <p:blipFill>
          <a:blip r:embed="rId2"/>
          <a:stretch/>
        </p:blipFill>
        <p:spPr>
          <a:xfrm>
            <a:off x="4343400" y="4724280"/>
            <a:ext cx="1424160" cy="179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j0345561"/>
          <p:cNvPicPr/>
          <p:nvPr/>
        </p:nvPicPr>
        <p:blipFill>
          <a:blip r:embed="rId3"/>
          <a:stretch/>
        </p:blipFill>
        <p:spPr>
          <a:xfrm>
            <a:off x="5410080" y="4800600"/>
            <a:ext cx="1406520" cy="177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j0345563"/>
          <p:cNvPicPr/>
          <p:nvPr/>
        </p:nvPicPr>
        <p:blipFill>
          <a:blip r:embed="rId4"/>
          <a:stretch/>
        </p:blipFill>
        <p:spPr>
          <a:xfrm>
            <a:off x="6553080" y="4724280"/>
            <a:ext cx="1417680" cy="1795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j0345565"/>
          <p:cNvPicPr/>
          <p:nvPr/>
        </p:nvPicPr>
        <p:blipFill>
          <a:blip r:embed="rId5"/>
          <a:stretch/>
        </p:blipFill>
        <p:spPr>
          <a:xfrm>
            <a:off x="7238880" y="3657600"/>
            <a:ext cx="1398600" cy="178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j0345587"/>
          <p:cNvPicPr/>
          <p:nvPr/>
        </p:nvPicPr>
        <p:blipFill>
          <a:blip r:embed="rId6"/>
          <a:stretch/>
        </p:blipFill>
        <p:spPr>
          <a:xfrm>
            <a:off x="1371600" y="4648320"/>
            <a:ext cx="13701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ПРОЕКТА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ьник знает систему высших учебных заведений г. Ом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ьник владеет навыками работы с документами для прие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ьник определяет приоритетные направления будуще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6"/>
          <p:cNvGraphicFramePr/>
          <p:nvPr/>
        </p:nvGraphicFramePr>
        <p:xfrm>
          <a:off x="4038480" y="5334120"/>
          <a:ext cx="129564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334120"/>
                    <a:ext cx="12956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ЗАДАЧИ ПРО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ть теоретическое обоснование необходимости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аботать положение о профориентационном клуб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аботать основные направления деятельности клу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62720" y="5410080"/>
          <a:ext cx="914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4100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3581280" y="5410080"/>
          <a:ext cx="9907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41008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8760"/>
            <a:ext cx="7721640" cy="1441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1828800"/>
            <a:ext cx="6756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ект предполагает создание профориентационного центра для школьников 10 классов средней общеобразовательной школ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та центра рассчитана на 1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j0279242"/>
          <p:cNvPicPr/>
          <p:nvPr/>
        </p:nvPicPr>
        <p:blipFill>
          <a:blip r:embed="rId1"/>
          <a:stretch/>
        </p:blipFill>
        <p:spPr>
          <a:xfrm>
            <a:off x="3962520" y="4724280"/>
            <a:ext cx="1760400" cy="18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5"/>
          <p:cNvGraphicFramePr/>
          <p:nvPr/>
        </p:nvGraphicFramePr>
        <p:xfrm>
          <a:off x="6553080" y="4800600"/>
          <a:ext cx="19051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4800600"/>
                    <a:ext cx="1905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1143000" y="4800600"/>
          <a:ext cx="2057400" cy="175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800600"/>
                    <a:ext cx="2057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j0309629"/>
          <p:cNvPicPr/>
          <p:nvPr/>
        </p:nvPicPr>
        <p:blipFill>
          <a:blip r:embed="rId1"/>
          <a:stretch/>
        </p:blipFill>
        <p:spPr>
          <a:xfrm>
            <a:off x="3962520" y="1219320"/>
            <a:ext cx="4190760" cy="51051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ЦЕЛЬ-РЕЗУЛЬТА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ированная профессиональная 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ированная правовая грамотность в работе с документацией абитури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азание психологической поддержки в выборе будущей профе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j0280731"/>
          <p:cNvPicPr/>
          <p:nvPr/>
        </p:nvPicPr>
        <p:blipFill>
          <a:blip r:embed="rId1"/>
          <a:stretch/>
        </p:blipFill>
        <p:spPr>
          <a:xfrm>
            <a:off x="7010280" y="4191120"/>
            <a:ext cx="1695600" cy="23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РЕСУРСЫ И КАД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щение для профориентационного цен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-компьютерная б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данных по ВУЗам г. Омска (формируется в течение г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ор диагнос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ициативная группа из преподавателей и старшекласс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ьный психо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бор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7620120" cy="4324320"/>
        </p:xfrm>
        <a:graphic>
          <a:graphicData uri="http://schemas.openxmlformats.org/drawingml/2006/table">
            <a:tbl>
              <a:tblPr/>
              <a:tblGrid>
                <a:gridCol w="304920"/>
                <a:gridCol w="2133720"/>
                <a:gridCol w="2819160"/>
                <a:gridCol w="236232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р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профориентацио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го цен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пределение направлени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Подбор актива цен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рофориентационном цент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ориентацио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я работа со старшекласс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Сбор информации об   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Проведение системы классных ча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е карты старшекласс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он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Сбор информации о ВУЗах города 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Создание индивидуальных профориентационных к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й пакет документов дл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МОДЕЛЬ ПРОГРАММЫ РАБОТЫ КЛУБ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1-е направление: Оказание психологиче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ое диагнос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ориентационное диагнос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на выработку уверенности в себ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кумы по заполнению докум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овые и имитационные игры «Я – абитуриен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2-е направление: Оказание профориентационное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встреч с представителями ВУЗ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экскурс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дней открытых дверей в ВУЗ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ие информационных бесед со старшекласс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 над созданием индивидуального пакета документов абитур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3809880" y="5257800"/>
          <a:ext cx="1400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257800"/>
                    <a:ext cx="1400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7848720" y="685800"/>
          <a:ext cx="60948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85800"/>
                    <a:ext cx="609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7"/>
          <p:cNvGraphicFramePr/>
          <p:nvPr/>
        </p:nvGraphicFramePr>
        <p:xfrm>
          <a:off x="1295280" y="685800"/>
          <a:ext cx="60984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685800"/>
                    <a:ext cx="609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КРИТЕРИИ РЕАЛИЗАЦИИ ПРОЕК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бор диагностических материа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ожение о профориентационном цент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онное собрание старшеклассников и определение направлени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6781680" y="4724280"/>
          <a:ext cx="1905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724280"/>
                    <a:ext cx="1905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3048120" y="3657600"/>
          <a:ext cx="243828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657600"/>
                    <a:ext cx="24382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7"/>
          <p:cNvGraphicFramePr/>
          <p:nvPr/>
        </p:nvGraphicFramePr>
        <p:xfrm>
          <a:off x="7391520" y="2971800"/>
          <a:ext cx="11430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971800"/>
                    <a:ext cx="1143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6:45:58Z</dcterms:created>
  <dc:creator>user</dc:creator>
  <dc:description/>
  <dc:language>en-US</dc:language>
  <cp:lastModifiedBy>Elfirion</cp:lastModifiedBy>
  <dcterms:modified xsi:type="dcterms:W3CDTF">2013-01-24T03:49:38Z</dcterms:modified>
  <cp:revision>17</cp:revision>
  <dc:subject/>
  <dc:title>МОЕ ПРАВО НА ОБРАЗОВАНИЕ</dc:title>
</cp:coreProperties>
</file>