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8019-6E5B-4093-9CE5-67AF70A6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9A65-2644-4B24-A38E-EB32296C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81C-25DC-48FF-8859-033AFEB6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DB7-8018-452D-8E43-A5420EDB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1DBC-9F99-4356-80CA-2FA17229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00AB-FC79-4F04-9421-40E74741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B61-2EA0-4430-BD90-E73CDBC5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876-1D47-4920-9B73-EF60DE0D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7C8-BF44-4837-875D-416FA567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782-D9CA-414F-9051-1C6531AB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4F6-130A-404C-AACF-17208BDF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33E3-2463-4D65-8ACB-61543224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5036-2F80-45E3-AB9E-A8044295B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0;&#1085;&#1075;&#1083;&#1080;&#1081;&#1089;&#1082;&#1080;&#1081;_&#1103;&#1079;&#1099;&#1082;" TargetMode="External"/><Relationship Id="rId2" Type="http://schemas.openxmlformats.org/officeDocument/2006/relationships/hyperlink" Target="https://ru.wikipedia.org/wiki/&#1055;&#1072;&#1088;&#1086;&#1093;&#1086;&#1076;" TargetMode="External"/><Relationship Id="rId3" Type="http://schemas.openxmlformats.org/officeDocument/2006/relationships/hyperlink" Target="https://ru.wikipedia.org/wiki/&#1054;&#1083;&#1080;&#1084;&#1087;&#1080;&#1082;_(&#1082;&#1083;&#1072;&#1089;&#1089;_&#1086;&#1082;&#1077;&#1072;&#1085;&#1089;&#1082;&#1080;&#1093;_&#1083;&#1072;&#1081;&#1085;&#1077;&#1088;&#1086;&#1074;)" TargetMode="External"/><Relationship Id="rId4" Type="http://schemas.openxmlformats.org/officeDocument/2006/relationships/hyperlink" Target="https://ru.wikipedia.org/wiki/&#1054;&#1083;&#1080;&#1084;&#1087;&#1080;&#1082;_(&#1082;&#1083;&#1072;&#1089;&#1089;_&#1086;&#1082;&#1077;&#1072;&#1085;&#1089;&#1082;&#1080;&#1093;_&#1083;&#1072;&#1081;&#1085;&#1077;&#1088;&#1086;&#1074;)" TargetMode="External"/><Relationship Id="rId5" Type="http://schemas.openxmlformats.org/officeDocument/2006/relationships/hyperlink" Target="https://ru.wikipedia.org/wiki/&#1054;&#1083;&#1080;&#1084;&#1087;&#1080;&#1082;_(&#1082;&#1083;&#1072;&#1089;&#1089;_&#1086;&#1082;&#1077;&#1072;&#1085;&#1089;&#1082;&#1080;&#1093;_&#1083;&#1072;&#1081;&#1085;&#1077;&#1088;&#1086;&#1074;)" TargetMode="External"/><Relationship Id="rId6" Type="http://schemas.openxmlformats.org/officeDocument/2006/relationships/hyperlink" Target="https://ru.wikipedia.org/wiki/&#1041;&#1077;&#1083;&#1092;&#1072;&#1089;&#1090;" TargetMode="External"/><Relationship Id="rId7" Type="http://schemas.openxmlformats.org/officeDocument/2006/relationships/hyperlink" Target="https://ru.wikipedia.org/wiki/&#1061;&#1072;&#1088;&#1083;&#1077;&#1085;&#1076;_&#1101;&#1085;&#1076;_&#1042;&#1091;&#1083;&#1092;" TargetMode="External"/><Relationship Id="rId8" Type="http://schemas.openxmlformats.org/officeDocument/2006/relationships/hyperlink" Target="https://ru.wikipedia.org/wiki/&#1061;&#1072;&#1088;&#1083;&#1077;&#1085;&#1076;_&#1101;&#1085;&#1076;_&#1042;&#1091;&#1083;&#1092;" TargetMode="External"/><Relationship Id="rId9" Type="http://schemas.openxmlformats.org/officeDocument/2006/relationships/hyperlink" Target="https://ru.wikipedia.org/wiki/&#1061;&#1072;&#1088;&#1083;&#1077;&#1085;&#1076;_&#1101;&#1085;&#1076;_&#1042;&#1091;&#1083;&#1092;" TargetMode="External"/><Relationship Id="rId10" Type="http://schemas.openxmlformats.org/officeDocument/2006/relationships/hyperlink" Target="https://ru.wikipedia.org/wiki/&#1061;&#1072;&#1088;&#1083;&#1077;&#1085;&#1076;_&#1101;&#1085;&#1076;_&#1042;&#1091;&#1083;&#1092;" TargetMode="External"/><Relationship Id="rId11" Type="http://schemas.openxmlformats.org/officeDocument/2006/relationships/hyperlink" Target="https://ru.wikipedia.org/wiki/1909" TargetMode="External"/><Relationship Id="rId12" Type="http://schemas.openxmlformats.org/officeDocument/2006/relationships/hyperlink" Target="https://ru.wikipedia.org/wiki/1912_&#1075;&#1086;&#1076;" TargetMode="External"/><Relationship Id="rId13" Type="http://schemas.openxmlformats.org/officeDocument/2006/relationships/hyperlink" Target="https://ru.wikipedia.org/wiki/White_Star_Line" TargetMode="External"/><Relationship Id="rId14" Type="http://schemas.openxmlformats.org/officeDocument/2006/relationships/hyperlink" Target="https://ru.wikipedia.org/wiki/White_Star_Line" TargetMode="Externa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s://ru.wikipedia.org/wiki/&#1057;&#1084;&#1080;&#1090;,_&#1069;&#1076;&#1074;&#1072;&#1088;&#1076;_&#1044;&#1078;&#1086;&#1085;" TargetMode="External"/><Relationship Id="rId5" Type="http://schemas.openxmlformats.org/officeDocument/2006/relationships/hyperlink" Target="https://ru.wikipedia.org/wiki/&#1060;&#1088;&#1077;&#1076;&#1077;&#1088;&#1080;&#1082;_&#1060;&#1083;&#1080;&#1090;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s://ru.wikipedia.org/wiki/&#1044;&#1078;&#1086;&#1079;&#1077;&#1092;_&#1041;&#1088;&#1102;&#1089;_&#1048;&#1089;&#1084;&#1077;&#1081;" TargetMode="External"/><Relationship Id="rId8" Type="http://schemas.openxmlformats.org/officeDocument/2006/relationships/hyperlink" Target="https://ru.wikipedia.org/wiki/&#1044;&#1078;&#1086;&#1079;&#1077;&#1092;_&#1041;&#1088;&#1102;&#1089;_&#1048;&#1089;&#1084;&#1077;&#1081;" TargetMode="External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тория создания и трагическая гибель парохода «Тита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95680" y="4419720"/>
            <a:ext cx="4343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Работу выполн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гиров  Ви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 6 «А» класса МОУ СОШ № 8                                                                            Люберецкий муниципальный рай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учин Андрей Александрович                                                                            учитель  технологии, МОУ СОШ №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18" descr="«Титаник» выходит из Саутгемптона в первый и последний рейс 10 апреля 1912 года"/>
          <p:cNvPicPr/>
          <p:nvPr/>
        </p:nvPicPr>
        <p:blipFill>
          <a:blip r:embed="rId1"/>
          <a:stretch/>
        </p:blipFill>
        <p:spPr>
          <a:xfrm>
            <a:off x="2133720" y="1447920"/>
            <a:ext cx="464796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4"/>
          <p:cNvSpPr/>
          <p:nvPr/>
        </p:nvSpPr>
        <p:spPr>
          <a:xfrm>
            <a:off x="457200" y="228600"/>
            <a:ext cx="8534520" cy="838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Цель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знать больше информации о пароходе «Тита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6"/>
          <p:cNvSpPr/>
          <p:nvPr/>
        </p:nvSpPr>
        <p:spPr>
          <a:xfrm>
            <a:off x="533520" y="4267080"/>
            <a:ext cx="8381880" cy="228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брать мод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нести информацию до однокласс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казать или опровергнуть гипотез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оход «Титаник» мог избежать трагед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8098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36880" y="129528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ЕТОДЫ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335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ИСК 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5335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АЛИЗ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057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ЕСЕДА С ПРЕПОДАВАТЕЛ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БОРКА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80880"/>
            <a:ext cx="3200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380880"/>
            <a:ext cx="2971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76520" y="2949480"/>
            <a:ext cx="5410080" cy="356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724280" y="685800"/>
            <a:ext cx="990720" cy="457200"/>
          </a:xfrm>
          <a:custGeom>
            <a:avLst/>
            <a:gdLst>
              <a:gd name="textAreaLeft" fmla="*/ 0 w 990720"/>
              <a:gd name="textAreaRight" fmla="*/ 991080 w 990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aca1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809880" y="685800"/>
            <a:ext cx="914400" cy="457200"/>
          </a:xfrm>
          <a:custGeom>
            <a:avLst/>
            <a:gdLst>
              <a:gd name="textAreaLeft" fmla="*/ 360 w 914400"/>
              <a:gd name="textAreaRight" fmla="*/ 915120 w 914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aca1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160020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16002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80880"/>
            <a:ext cx="86868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ческая справ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Тита́ник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нг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Titani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 — британский трансатлантический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арохо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торой лайнер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ласса «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Олимпик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троился в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Белфас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верфи «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Харленд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энд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Вул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с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190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1912 го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заказу судоходной компании «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Уайт Стар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Лай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. На момент ввода в эксплуатацию являлся самым большим судном в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5"/>
          <a:stretch/>
        </p:blipFill>
        <p:spPr>
          <a:xfrm>
            <a:off x="914400" y="2671920"/>
            <a:ext cx="7010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98" descr="Edward J. Smith.jpg"/>
          <p:cNvPicPr/>
          <p:nvPr/>
        </p:nvPicPr>
        <p:blipFill>
          <a:blip r:embed="rId1"/>
          <a:stretch/>
        </p:blipFill>
        <p:spPr>
          <a:xfrm>
            <a:off x="457200" y="1676520"/>
            <a:ext cx="1525680" cy="20574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0" descr="Frederick Fleet Titanic.jpg"/>
          <p:cNvPicPr/>
          <p:nvPr/>
        </p:nvPicPr>
        <p:blipFill>
          <a:blip r:embed="rId2"/>
          <a:stretch/>
        </p:blipFill>
        <p:spPr>
          <a:xfrm>
            <a:off x="304920" y="3929040"/>
            <a:ext cx="1743120" cy="12906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82" descr="Thomas Andrews ül.jpg"/>
          <p:cNvPicPr/>
          <p:nvPr/>
        </p:nvPicPr>
        <p:blipFill>
          <a:blip r:embed="rId3"/>
          <a:stretch/>
        </p:blipFill>
        <p:spPr>
          <a:xfrm>
            <a:off x="4952880" y="1752480"/>
            <a:ext cx="1209960" cy="1908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324480" y="1828800"/>
            <a:ext cx="2438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й констру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итани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мас Эндрю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1752480"/>
            <a:ext cx="25905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питан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Эдвард Смит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борту «Титаника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3962520"/>
            <a:ext cx="243864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ерёдсмотрящ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Фредерик Флит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80" descr="https://upload.wikimedia.org/wikipedia/commons/thumb/1/11/J._Bruce_Ismay.jpeg/200px-J._Bruce_Ismay.jpeg"/>
          <p:cNvPicPr/>
          <p:nvPr/>
        </p:nvPicPr>
        <p:blipFill>
          <a:blip r:embed="rId6"/>
          <a:stretch/>
        </p:blipFill>
        <p:spPr>
          <a:xfrm>
            <a:off x="4800600" y="3962520"/>
            <a:ext cx="1409760" cy="1828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400800" y="4343400"/>
            <a:ext cx="2362320" cy="1447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Джозеф Брюс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Исм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410080"/>
            <a:ext cx="43434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23:39 14 апреля вперёдсмотря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едерик Флит заметил прямо по кур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рно в 650 м айсбер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2895480"/>
            <a:ext cx="2971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абль мож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ваться на плав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более полутора ча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2819520"/>
            <a:ext cx="2590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0:05 капитан См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казал экипаж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товить спас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люпки к спус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5867280"/>
            <a:ext cx="40384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л решение о строитель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перлайнерА «Титаник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юди сыгравшую определённую роль в создании и гибели «Титани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16" descr="https://upload.wikimedia.org/wikipedia/commons/thumb/5/5d/Titanic_iceberg.jpg/250px-Titanic_iceberg.jpg"/>
          <p:cNvPicPr/>
          <p:nvPr/>
        </p:nvPicPr>
        <p:blipFill>
          <a:blip r:embed="rId1"/>
          <a:stretch/>
        </p:blipFill>
        <p:spPr>
          <a:xfrm>
            <a:off x="4343400" y="1523880"/>
            <a:ext cx="4689360" cy="25304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аге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4" descr="Titanic memorial cruise sets sail from Southampton to wreck site"/>
          <p:cNvPicPr/>
          <p:nvPr/>
        </p:nvPicPr>
        <p:blipFill>
          <a:blip r:embed="rId2"/>
          <a:stretch/>
        </p:blipFill>
        <p:spPr>
          <a:xfrm>
            <a:off x="304920" y="3657600"/>
            <a:ext cx="4038480" cy="2682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1511640"/>
            <a:ext cx="38862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23:40 14 апреля 1912 года «Титаник» по касательной столкнулся с айсберг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2:20 «Титаник» полностью скрылся под в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40183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результате столкновения в обшивке правого борта образовалось шесть пробоин суммарной длиной около 90 м. В результате контакта с айсбергом повреждёнными оказались пять носовых отсеков, на это система непотопляемости лайнера не была рассчит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ывод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5345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конечно можно было бы сказать, что стечение обстоятельств, плохая погода, видимость плохая и т. д. Но Я пришёл к выводу, после анализа информации, что в большинстве виноват человеческий фактор (разгильдяйство, отсутствие ответственности, необязательность и т. д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705480"/>
            <a:ext cx="838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Отсеки не были перекрыты сверх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члены экипажа были взяты всего за несколько часов до отплытия и те не успели ознакомиться с особенностями лайнер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в ящике в вороньем гнезде отсутствуют бинок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гонка за скоростью, сыграла роковую ро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вахтенные на «Калифорниэне» видели все восемь ракет, выпущенных с «Титаника», но посчитали, что какое-то судно без радиотелеграфа информирует о том, что остановилось во льдах, а единственный радист «Калифорниэна» в это время сп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10:50:08Z</dcterms:created>
  <dc:creator>ВОТ ЭТО ДАААА!</dc:creator>
  <dc:description/>
  <dc:language>en-US</dc:language>
  <cp:lastModifiedBy>АНДРЕЙ</cp:lastModifiedBy>
  <dcterms:modified xsi:type="dcterms:W3CDTF">2014-11-13T12:55:35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