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702-E207-4E9A-BC42-151DDEAF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09D-7FAB-49B2-B98B-3BE56E0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27F-14AE-43E6-87F6-4A5C2D2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55F-B097-4E11-97BD-653A371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0C5-86CF-4D6F-AC0B-E5CEBE12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56A-1DF9-4D4B-A5C1-8E02356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961-84BC-4A52-9EB0-80F0708A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4FC-6EE6-4091-9FA4-7A03C30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21DF-8469-48CD-ADF1-3DCBF94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748A-040B-46C6-B9E4-1E595562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3D9-7BDD-43EA-800B-7E8D3FE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ADA-54B0-49A4-930B-DA14B3C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B116-F66C-4221-BCB1-BD8F84C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93A1-8981-4C25-9DFB-0FEE55F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E06-542A-4E66-87D6-312D7ED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70C-E7C2-479C-9276-E72EF497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9D1-D680-4643-BEA8-C4A2049F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C2C-6D9C-491D-AF03-6BBA1FC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182-C186-4956-ACF7-C1196A5F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B5B-0BA6-487B-B4DA-5EF7DF2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AFA-082C-489A-979C-82579E4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6A9-B5B7-4A7B-B775-62463EB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FFB-8357-4259-A4D6-E6176CD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93-5839-48C3-886C-48D1C45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ffad"/>
            </a:gs>
            <a:gs pos="100000">
              <a:srgbClr val="fae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CD8-5A1F-4DFC-B07B-C21A58A81B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ffad"/>
            </a:gs>
            <a:gs pos="100000">
              <a:srgbClr val="fae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498-D309-4BF6-960C-800D2524FE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ЕМА УРОКА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«Признаки параллельности прямых»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ыполнила Балабина Алла Григорьевна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6659640" y="414972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абота в классе: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№186 (а),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№187,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№190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На дом: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№186 (в),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№190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СПАСИБО ЗА УРОК!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Group 19"/>
          <p:cNvGrpSpPr/>
          <p:nvPr/>
        </p:nvGrpSpPr>
        <p:grpSpPr>
          <a:xfrm>
            <a:off x="1333440" y="1557360"/>
            <a:ext cx="7416720" cy="5068080"/>
            <a:chOff x="1333440" y="1557360"/>
            <a:chExt cx="7416720" cy="5068080"/>
          </a:xfrm>
        </p:grpSpPr>
        <p:sp>
          <p:nvSpPr>
            <p:cNvPr id="92" name="Line 5"/>
            <p:cNvSpPr/>
            <p:nvPr/>
          </p:nvSpPr>
          <p:spPr>
            <a:xfrm flipV="1">
              <a:off x="1403280" y="2276640"/>
              <a:ext cx="7056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1333440" y="5375160"/>
              <a:ext cx="74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403280" y="2276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1476360" y="47991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4429080" y="1989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5076720" y="1844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5076720" y="2349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4500360" y="24940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3781440" y="4941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4429080" y="48704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4357440" y="54468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3709800" y="53751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 flipH="1">
              <a:off x="3924000" y="1557360"/>
              <a:ext cx="1223640" cy="49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4140000" y="6165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8" descr=""/>
          <p:cNvPicPr/>
          <p:nvPr/>
        </p:nvPicPr>
        <p:blipFill>
          <a:blip r:embed="rId1"/>
          <a:stretch/>
        </p:blipFill>
        <p:spPr>
          <a:xfrm>
            <a:off x="108000" y="1382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Признаки параллельности прямы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9640" y="15573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двух прямых секущей накрест лежащие углы 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924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Если при пересечении двух прямых секущей соответственные углы 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60440" y="436572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Если при пересечении двух прямых секущей сумма односторонних углов равна 180 градусов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580000" y="1773360"/>
            <a:ext cx="3168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раллельны ли прямые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угол 1 = углу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угол 1 = углу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) угол 1 + угол 2 = 18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) угол 5 = углу 6 = 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) угол 1 = углу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8"/>
          <p:cNvGrpSpPr/>
          <p:nvPr/>
        </p:nvGrpSpPr>
        <p:grpSpPr>
          <a:xfrm>
            <a:off x="250920" y="1916280"/>
            <a:ext cx="4968720" cy="4176720"/>
            <a:chOff x="250920" y="1916280"/>
            <a:chExt cx="4968720" cy="4176720"/>
          </a:xfrm>
        </p:grpSpPr>
        <p:sp>
          <p:nvSpPr>
            <p:cNvPr id="114" name="Line 13"/>
            <p:cNvSpPr/>
            <p:nvPr/>
          </p:nvSpPr>
          <p:spPr>
            <a:xfrm>
              <a:off x="1258920" y="2708280"/>
              <a:ext cx="309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250920" y="4869000"/>
              <a:ext cx="47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>
              <a:off x="1692360" y="2133720"/>
              <a:ext cx="0" cy="35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>
              <a:off x="2411280" y="2133720"/>
              <a:ext cx="2808360" cy="39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12589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411280" y="191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971640" y="27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9640" y="4941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1763640" y="278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1692360" y="450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4"/>
            <p:cNvSpPr/>
            <p:nvPr/>
          </p:nvSpPr>
          <p:spPr>
            <a:xfrm>
              <a:off x="3059280" y="2708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4284720" y="450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3780000" y="43657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7"/>
            <p:cNvSpPr/>
            <p:nvPr/>
          </p:nvSpPr>
          <p:spPr>
            <a:xfrm>
              <a:off x="4643280" y="4941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2457360" y="2571840"/>
            <a:ext cx="185760" cy="414360"/>
          </a:xfrm>
          <a:custGeom>
            <a:avLst/>
            <a:gdLst/>
            <a:ahLst/>
            <a:rect l="l" t="t" r="r" b="b"/>
            <a:pathLst>
              <a:path w="117" h="261">
                <a:moveTo>
                  <a:pt x="0" y="0"/>
                </a:moveTo>
                <a:cubicBezTo>
                  <a:pt x="8" y="94"/>
                  <a:pt x="4" y="179"/>
                  <a:pt x="81" y="243"/>
                </a:cubicBezTo>
                <a:cubicBezTo>
                  <a:pt x="88" y="249"/>
                  <a:pt x="100" y="248"/>
                  <a:pt x="108" y="252"/>
                </a:cubicBezTo>
                <a:cubicBezTo>
                  <a:pt x="112" y="254"/>
                  <a:pt x="114" y="258"/>
                  <a:pt x="117" y="2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1"/>
          <p:cNvSpPr/>
          <p:nvPr/>
        </p:nvSpPr>
        <p:spPr>
          <a:xfrm>
            <a:off x="2340000" y="2565360"/>
            <a:ext cx="216000" cy="503280"/>
          </a:xfrm>
          <a:custGeom>
            <a:avLst/>
            <a:gdLst/>
            <a:ahLst/>
            <a:rect l="l" t="t" r="r" b="b"/>
            <a:pathLst>
              <a:path w="117" h="261">
                <a:moveTo>
                  <a:pt x="0" y="0"/>
                </a:moveTo>
                <a:cubicBezTo>
                  <a:pt x="8" y="94"/>
                  <a:pt x="4" y="179"/>
                  <a:pt x="81" y="243"/>
                </a:cubicBezTo>
                <a:cubicBezTo>
                  <a:pt x="88" y="249"/>
                  <a:pt x="100" y="248"/>
                  <a:pt x="108" y="252"/>
                </a:cubicBezTo>
                <a:cubicBezTo>
                  <a:pt x="112" y="254"/>
                  <a:pt x="114" y="258"/>
                  <a:pt x="117" y="2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 rot="16480200">
            <a:off x="1620000" y="3932280"/>
            <a:ext cx="360360" cy="505080"/>
          </a:xfrm>
          <a:custGeom>
            <a:avLst/>
            <a:gdLst/>
            <a:ahLst/>
            <a:rect l="l" t="t" r="r" b="b"/>
            <a:pathLst>
              <a:path w="117" h="261">
                <a:moveTo>
                  <a:pt x="0" y="0"/>
                </a:moveTo>
                <a:cubicBezTo>
                  <a:pt x="8" y="94"/>
                  <a:pt x="4" y="179"/>
                  <a:pt x="81" y="243"/>
                </a:cubicBezTo>
                <a:cubicBezTo>
                  <a:pt x="88" y="249"/>
                  <a:pt x="100" y="248"/>
                  <a:pt x="108" y="252"/>
                </a:cubicBezTo>
                <a:cubicBezTo>
                  <a:pt x="112" y="254"/>
                  <a:pt x="114" y="258"/>
                  <a:pt x="117" y="2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4859280" y="1341360"/>
            <a:ext cx="417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умай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ьны ли прямые д и 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6"/>
          <p:cNvGrpSpPr/>
          <p:nvPr/>
        </p:nvGrpSpPr>
        <p:grpSpPr>
          <a:xfrm>
            <a:off x="468360" y="1197000"/>
            <a:ext cx="3960720" cy="3887280"/>
            <a:chOff x="468360" y="1197000"/>
            <a:chExt cx="3960720" cy="3887280"/>
          </a:xfrm>
        </p:grpSpPr>
        <p:sp>
          <p:nvSpPr>
            <p:cNvPr id="134" name="Line 5"/>
            <p:cNvSpPr/>
            <p:nvPr/>
          </p:nvSpPr>
          <p:spPr>
            <a:xfrm>
              <a:off x="611280" y="2565360"/>
              <a:ext cx="37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468360" y="4005360"/>
              <a:ext cx="39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V="1">
              <a:off x="900000" y="1483920"/>
              <a:ext cx="295128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3132000" y="1197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539640" y="198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468360" y="3500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6"/>
            <p:cNvSpPr/>
            <p:nvPr/>
          </p:nvSpPr>
          <p:spPr>
            <a:xfrm>
              <a:off x="1763640" y="26370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7"/>
            <p:cNvSpPr/>
            <p:nvPr/>
          </p:nvSpPr>
          <p:spPr>
            <a:xfrm>
              <a:off x="1619280" y="429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3"/>
            <p:cNvSpPr/>
            <p:nvPr/>
          </p:nvSpPr>
          <p:spPr>
            <a:xfrm>
              <a:off x="2484360" y="2492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4"/>
            <p:cNvSpPr/>
            <p:nvPr/>
          </p:nvSpPr>
          <p:spPr>
            <a:xfrm>
              <a:off x="1476360" y="357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05092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1"/>
          <p:cNvGrpSpPr/>
          <p:nvPr/>
        </p:nvGrpSpPr>
        <p:grpSpPr>
          <a:xfrm>
            <a:off x="468360" y="1413000"/>
            <a:ext cx="4103640" cy="2547000"/>
            <a:chOff x="468360" y="1413000"/>
            <a:chExt cx="4103640" cy="2547000"/>
          </a:xfrm>
        </p:grpSpPr>
        <p:sp>
          <p:nvSpPr>
            <p:cNvPr id="147" name="Line 5"/>
            <p:cNvSpPr/>
            <p:nvPr/>
          </p:nvSpPr>
          <p:spPr>
            <a:xfrm>
              <a:off x="468360" y="1916280"/>
              <a:ext cx="410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468360" y="3429000"/>
              <a:ext cx="410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 flipV="1">
              <a:off x="971640" y="1916280"/>
              <a:ext cx="2952720" cy="15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116000" y="1916280"/>
              <a:ext cx="2448000" cy="15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755640" y="1413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3564000" y="1484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539640" y="35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3203640" y="35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H="1">
              <a:off x="1476360" y="2060640"/>
              <a:ext cx="216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 flipH="1">
              <a:off x="1547640" y="2133720"/>
              <a:ext cx="2160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H="1">
              <a:off x="2700360" y="2852640"/>
              <a:ext cx="216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 flipH="1">
              <a:off x="2771640" y="2924280"/>
              <a:ext cx="2160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2771640" y="2276640"/>
              <a:ext cx="36036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1692360" y="2852640"/>
              <a:ext cx="36036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20"/>
          <p:cNvSpPr/>
          <p:nvPr/>
        </p:nvSpPr>
        <p:spPr>
          <a:xfrm>
            <a:off x="4788000" y="98100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O = LO; FO = 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    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1"/>
          <p:cNvGrpSpPr/>
          <p:nvPr/>
        </p:nvGrpSpPr>
        <p:grpSpPr>
          <a:xfrm>
            <a:off x="6804000" y="1628640"/>
            <a:ext cx="71640" cy="287280"/>
            <a:chOff x="6804000" y="1628640"/>
            <a:chExt cx="71640" cy="287280"/>
          </a:xfrm>
        </p:grpSpPr>
        <p:sp>
          <p:nvSpPr>
            <p:cNvPr id="163" name="Line 22"/>
            <p:cNvSpPr/>
            <p:nvPr/>
          </p:nvSpPr>
          <p:spPr>
            <a:xfrm>
              <a:off x="6804000" y="162864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6875640" y="162864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4"/>
          <p:cNvSpPr/>
          <p:nvPr/>
        </p:nvSpPr>
        <p:spPr>
          <a:xfrm>
            <a:off x="4932360" y="2565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5076720" y="2637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572000" y="1125360"/>
            <a:ext cx="432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      1 =     2;     2 +     3 = 180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ь: а  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8"/>
          <p:cNvGrpSpPr/>
          <p:nvPr/>
        </p:nvGrpSpPr>
        <p:grpSpPr>
          <a:xfrm>
            <a:off x="5580000" y="1341360"/>
            <a:ext cx="287280" cy="144720"/>
            <a:chOff x="5580000" y="1341360"/>
            <a:chExt cx="287280" cy="144720"/>
          </a:xfrm>
        </p:grpSpPr>
        <p:sp>
          <p:nvSpPr>
            <p:cNvPr id="170" name="Line 16"/>
            <p:cNvSpPr/>
            <p:nvPr/>
          </p:nvSpPr>
          <p:spPr>
            <a:xfrm flipH="1">
              <a:off x="5580000" y="134136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5580000" y="148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Oval 19"/>
          <p:cNvSpPr/>
          <p:nvPr/>
        </p:nvSpPr>
        <p:spPr>
          <a:xfrm>
            <a:off x="5148360" y="155736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0"/>
          <p:cNvGrpSpPr/>
          <p:nvPr/>
        </p:nvGrpSpPr>
        <p:grpSpPr>
          <a:xfrm>
            <a:off x="6372360" y="1341360"/>
            <a:ext cx="287280" cy="144720"/>
            <a:chOff x="6372360" y="1341360"/>
            <a:chExt cx="287280" cy="144720"/>
          </a:xfrm>
        </p:grpSpPr>
        <p:sp>
          <p:nvSpPr>
            <p:cNvPr id="174" name="Line 21"/>
            <p:cNvSpPr/>
            <p:nvPr/>
          </p:nvSpPr>
          <p:spPr>
            <a:xfrm flipH="1">
              <a:off x="6372360" y="134136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6372360" y="148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3"/>
          <p:cNvGrpSpPr/>
          <p:nvPr/>
        </p:nvGrpSpPr>
        <p:grpSpPr>
          <a:xfrm>
            <a:off x="7020000" y="1341360"/>
            <a:ext cx="287280" cy="144720"/>
            <a:chOff x="7020000" y="1341360"/>
            <a:chExt cx="287280" cy="144720"/>
          </a:xfrm>
        </p:grpSpPr>
        <p:sp>
          <p:nvSpPr>
            <p:cNvPr id="177" name="Line 24"/>
            <p:cNvSpPr/>
            <p:nvPr/>
          </p:nvSpPr>
          <p:spPr>
            <a:xfrm flipH="1">
              <a:off x="7020000" y="134136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7020000" y="148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6"/>
          <p:cNvGrpSpPr/>
          <p:nvPr/>
        </p:nvGrpSpPr>
        <p:grpSpPr>
          <a:xfrm>
            <a:off x="7812000" y="1341360"/>
            <a:ext cx="287280" cy="144720"/>
            <a:chOff x="7812000" y="1341360"/>
            <a:chExt cx="287280" cy="144720"/>
          </a:xfrm>
        </p:grpSpPr>
        <p:sp>
          <p:nvSpPr>
            <p:cNvPr id="180" name="Line 27"/>
            <p:cNvSpPr/>
            <p:nvPr/>
          </p:nvSpPr>
          <p:spPr>
            <a:xfrm flipH="1">
              <a:off x="7812000" y="134136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8"/>
            <p:cNvSpPr/>
            <p:nvPr/>
          </p:nvSpPr>
          <p:spPr>
            <a:xfrm>
              <a:off x="7812000" y="148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9"/>
          <p:cNvGrpSpPr/>
          <p:nvPr/>
        </p:nvGrpSpPr>
        <p:grpSpPr>
          <a:xfrm>
            <a:off x="6372360" y="2133720"/>
            <a:ext cx="71280" cy="287280"/>
            <a:chOff x="6372360" y="2133720"/>
            <a:chExt cx="71280" cy="287280"/>
          </a:xfrm>
        </p:grpSpPr>
        <p:sp>
          <p:nvSpPr>
            <p:cNvPr id="183" name="Line 30"/>
            <p:cNvSpPr/>
            <p:nvPr/>
          </p:nvSpPr>
          <p:spPr>
            <a:xfrm>
              <a:off x="6372360" y="21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1"/>
            <p:cNvSpPr/>
            <p:nvPr/>
          </p:nvSpPr>
          <p:spPr>
            <a:xfrm>
              <a:off x="6443640" y="21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32"/>
          <p:cNvSpPr/>
          <p:nvPr/>
        </p:nvSpPr>
        <p:spPr>
          <a:xfrm>
            <a:off x="4643280" y="2852640"/>
            <a:ext cx="424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2"/>
          <p:cNvGrpSpPr/>
          <p:nvPr/>
        </p:nvGrpSpPr>
        <p:grpSpPr>
          <a:xfrm>
            <a:off x="611280" y="1196640"/>
            <a:ext cx="3816360" cy="4032360"/>
            <a:chOff x="611280" y="1196640"/>
            <a:chExt cx="3816360" cy="4032360"/>
          </a:xfrm>
        </p:grpSpPr>
        <p:sp>
          <p:nvSpPr>
            <p:cNvPr id="187" name="Line 5"/>
            <p:cNvSpPr/>
            <p:nvPr/>
          </p:nvSpPr>
          <p:spPr>
            <a:xfrm>
              <a:off x="611280" y="234936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611280" y="314172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611280" y="422100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 flipV="1">
              <a:off x="1763640" y="1196640"/>
              <a:ext cx="1800360" cy="403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611280" y="1916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0"/>
            <p:cNvSpPr/>
            <p:nvPr/>
          </p:nvSpPr>
          <p:spPr>
            <a:xfrm>
              <a:off x="611280" y="263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611280" y="3716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3203640" y="1844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2843280" y="263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1835280" y="3789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42"/>
            <p:cNvSpPr/>
            <p:nvPr/>
          </p:nvSpPr>
          <p:spPr>
            <a:xfrm>
              <a:off x="2124000" y="3141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11280" y="148428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3"/>
          <p:cNvSpPr/>
          <p:nvPr/>
        </p:nvSpPr>
        <p:spPr>
          <a:xfrm flipV="1" rot="6949800">
            <a:off x="863640" y="1303920"/>
            <a:ext cx="287280" cy="71640"/>
          </a:xfrm>
          <a:custGeom>
            <a:avLst/>
            <a:gdLst/>
            <a:ahLst/>
            <a:rect l="l" t="t" r="r" b="b"/>
            <a:pathLst>
              <a:path w="379" h="182">
                <a:moveTo>
                  <a:pt x="0" y="29"/>
                </a:moveTo>
                <a:cubicBezTo>
                  <a:pt x="86" y="0"/>
                  <a:pt x="47" y="10"/>
                  <a:pt x="225" y="29"/>
                </a:cubicBezTo>
                <a:cubicBezTo>
                  <a:pt x="244" y="31"/>
                  <a:pt x="279" y="47"/>
                  <a:pt x="279" y="47"/>
                </a:cubicBezTo>
                <a:cubicBezTo>
                  <a:pt x="332" y="126"/>
                  <a:pt x="301" y="83"/>
                  <a:pt x="369" y="128"/>
                </a:cubicBezTo>
                <a:cubicBezTo>
                  <a:pt x="379" y="170"/>
                  <a:pt x="378" y="152"/>
                  <a:pt x="378" y="1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2916360" y="1773360"/>
            <a:ext cx="142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4067280" y="1413000"/>
            <a:ext cx="47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аллельны ли прямые а и с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1"/>
          <p:cNvGrpSpPr/>
          <p:nvPr/>
        </p:nvGrpSpPr>
        <p:grpSpPr>
          <a:xfrm>
            <a:off x="324000" y="620640"/>
            <a:ext cx="4535280" cy="2670120"/>
            <a:chOff x="324000" y="620640"/>
            <a:chExt cx="4535280" cy="2670120"/>
          </a:xfrm>
        </p:grpSpPr>
        <p:sp>
          <p:nvSpPr>
            <p:cNvPr id="204" name="Line 16"/>
            <p:cNvSpPr/>
            <p:nvPr/>
          </p:nvSpPr>
          <p:spPr>
            <a:xfrm>
              <a:off x="684360" y="2492280"/>
              <a:ext cx="31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900000" y="981000"/>
              <a:ext cx="237672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3348000" y="981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9"/>
            <p:cNvSpPr/>
            <p:nvPr/>
          </p:nvSpPr>
          <p:spPr>
            <a:xfrm>
              <a:off x="3348000" y="198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1042920" y="62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2271600" y="2182680"/>
              <a:ext cx="601920" cy="289080"/>
            </a:xfrm>
            <a:custGeom>
              <a:avLst/>
              <a:gdLst/>
              <a:ahLst/>
              <a:rect l="l" t="t" r="r" b="b"/>
              <a:pathLst>
                <a:path w="379" h="182">
                  <a:moveTo>
                    <a:pt x="0" y="29"/>
                  </a:moveTo>
                  <a:cubicBezTo>
                    <a:pt x="86" y="0"/>
                    <a:pt x="47" y="10"/>
                    <a:pt x="225" y="29"/>
                  </a:cubicBezTo>
                  <a:cubicBezTo>
                    <a:pt x="244" y="31"/>
                    <a:pt x="279" y="47"/>
                    <a:pt x="279" y="47"/>
                  </a:cubicBezTo>
                  <a:cubicBezTo>
                    <a:pt x="332" y="126"/>
                    <a:pt x="301" y="83"/>
                    <a:pt x="369" y="128"/>
                  </a:cubicBezTo>
                  <a:cubicBezTo>
                    <a:pt x="379" y="170"/>
                    <a:pt x="378" y="152"/>
                    <a:pt x="378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flipV="1" rot="6949800">
              <a:off x="984240" y="1330920"/>
              <a:ext cx="287280" cy="71640"/>
            </a:xfrm>
            <a:custGeom>
              <a:avLst/>
              <a:gdLst/>
              <a:ahLst/>
              <a:rect l="l" t="t" r="r" b="b"/>
              <a:pathLst>
                <a:path w="379" h="182">
                  <a:moveTo>
                    <a:pt x="0" y="29"/>
                  </a:moveTo>
                  <a:cubicBezTo>
                    <a:pt x="86" y="0"/>
                    <a:pt x="47" y="10"/>
                    <a:pt x="225" y="29"/>
                  </a:cubicBezTo>
                  <a:cubicBezTo>
                    <a:pt x="244" y="31"/>
                    <a:pt x="279" y="47"/>
                    <a:pt x="279" y="47"/>
                  </a:cubicBezTo>
                  <a:cubicBezTo>
                    <a:pt x="332" y="126"/>
                    <a:pt x="301" y="83"/>
                    <a:pt x="369" y="128"/>
                  </a:cubicBezTo>
                  <a:cubicBezTo>
                    <a:pt x="379" y="170"/>
                    <a:pt x="378" y="152"/>
                    <a:pt x="378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2195640" y="1773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324000" y="1052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826920" y="112536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9"/>
            <p:cNvSpPr/>
            <p:nvPr/>
          </p:nvSpPr>
          <p:spPr>
            <a:xfrm>
              <a:off x="539640" y="2924280"/>
              <a:ext cx="4319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722160" y="2993400"/>
            <a:ext cx="4179600" cy="3521160"/>
            <a:chOff x="722160" y="2993400"/>
            <a:chExt cx="4179600" cy="3521160"/>
          </a:xfrm>
        </p:grpSpPr>
        <p:sp>
          <p:nvSpPr>
            <p:cNvPr id="216" name="Line 30"/>
            <p:cNvSpPr/>
            <p:nvPr/>
          </p:nvSpPr>
          <p:spPr>
            <a:xfrm flipV="1">
              <a:off x="722160" y="3330360"/>
              <a:ext cx="3690720" cy="122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1"/>
            <p:cNvSpPr/>
            <p:nvPr/>
          </p:nvSpPr>
          <p:spPr>
            <a:xfrm flipV="1">
              <a:off x="1211400" y="4807080"/>
              <a:ext cx="3690360" cy="122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2"/>
            <p:cNvSpPr/>
            <p:nvPr/>
          </p:nvSpPr>
          <p:spPr>
            <a:xfrm flipV="1">
              <a:off x="1663560" y="3522960"/>
              <a:ext cx="2166480" cy="235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1304640" y="4359600"/>
              <a:ext cx="269064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4"/>
            <p:cNvSpPr/>
            <p:nvPr/>
          </p:nvSpPr>
          <p:spPr>
            <a:xfrm rot="20500800">
              <a:off x="869760" y="385596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5"/>
            <p:cNvSpPr/>
            <p:nvPr/>
          </p:nvSpPr>
          <p:spPr>
            <a:xfrm rot="20500800">
              <a:off x="3419640" y="308880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6"/>
            <p:cNvSpPr/>
            <p:nvPr/>
          </p:nvSpPr>
          <p:spPr>
            <a:xfrm rot="20500800">
              <a:off x="1351440" y="595908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 rot="20500800">
              <a:off x="3750480" y="5164560"/>
              <a:ext cx="6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8"/>
            <p:cNvSpPr/>
            <p:nvPr/>
          </p:nvSpPr>
          <p:spPr>
            <a:xfrm rot="20500800">
              <a:off x="2459520" y="4734720"/>
              <a:ext cx="68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H="1">
              <a:off x="1744920" y="4328640"/>
              <a:ext cx="12456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0"/>
            <p:cNvSpPr/>
            <p:nvPr/>
          </p:nvSpPr>
          <p:spPr>
            <a:xfrm flipH="1">
              <a:off x="1833120" y="4378680"/>
              <a:ext cx="12456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1"/>
            <p:cNvSpPr/>
            <p:nvPr/>
          </p:nvSpPr>
          <p:spPr>
            <a:xfrm flipH="1">
              <a:off x="3101760" y="4737600"/>
              <a:ext cx="12456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2"/>
            <p:cNvSpPr/>
            <p:nvPr/>
          </p:nvSpPr>
          <p:spPr>
            <a:xfrm flipH="1">
              <a:off x="3189600" y="4785840"/>
              <a:ext cx="12420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3"/>
            <p:cNvSpPr/>
            <p:nvPr/>
          </p:nvSpPr>
          <p:spPr>
            <a:xfrm>
              <a:off x="2910600" y="4218120"/>
              <a:ext cx="41724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4"/>
            <p:cNvSpPr/>
            <p:nvPr/>
          </p:nvSpPr>
          <p:spPr>
            <a:xfrm>
              <a:off x="2125800" y="5101920"/>
              <a:ext cx="41724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47"/>
          <p:cNvSpPr/>
          <p:nvPr/>
        </p:nvSpPr>
        <p:spPr>
          <a:xfrm>
            <a:off x="5076720" y="3284640"/>
            <a:ext cx="406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F = PF; MF = Q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    P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8"/>
          <p:cNvGrpSpPr/>
          <p:nvPr/>
        </p:nvGrpSpPr>
        <p:grpSpPr>
          <a:xfrm>
            <a:off x="7236000" y="4149720"/>
            <a:ext cx="71280" cy="287280"/>
            <a:chOff x="7236000" y="4149720"/>
            <a:chExt cx="71280" cy="287280"/>
          </a:xfrm>
        </p:grpSpPr>
        <p:sp>
          <p:nvSpPr>
            <p:cNvPr id="233" name="Line 49"/>
            <p:cNvSpPr/>
            <p:nvPr/>
          </p:nvSpPr>
          <p:spPr>
            <a:xfrm>
              <a:off x="7236000" y="4149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0"/>
            <p:cNvSpPr/>
            <p:nvPr/>
          </p:nvSpPr>
          <p:spPr>
            <a:xfrm>
              <a:off x="7307280" y="4149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Ответь на вопросы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1557360"/>
            <a:ext cx="7993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такое секущ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овите пары углов, которые образуются                                             при пересечении двух параллельных прямых секу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числите признаки параллельности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21:57Z</dcterms:created>
  <dc:creator>user</dc:creator>
  <dc:description/>
  <dc:language>en-US</dc:language>
  <cp:lastModifiedBy>Алла</cp:lastModifiedBy>
  <dcterms:modified xsi:type="dcterms:W3CDTF">2015-03-12T18:27:37Z</dcterms:modified>
  <cp:revision>9</cp:revision>
  <dc:subject/>
  <dc:title>Задача 1</dc:title>
</cp:coreProperties>
</file>