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32.wmf" ContentType="image/x-wmf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png" ContentType="image/png"/>
  <Override PartName="/ppt/media/image1.jpeg" ContentType="image/jpeg"/>
  <Override PartName="/ppt/media/image10.png" ContentType="image/png"/>
  <Override PartName="/ppt/media/image29.wmf" ContentType="image/x-wmf"/>
  <Override PartName="/ppt/media/image40.jpeg" ContentType="image/jpeg"/>
  <Override PartName="/ppt/media/image44.png" ContentType="image/png"/>
  <Override PartName="/ppt/media/image41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3.wmf" ContentType="image/x-wmf"/>
  <Override PartName="/ppt/media/image28.wmf" ContentType="image/x-wmf"/>
  <Override PartName="/ppt/media/image37.jpeg" ContentType="image/jpeg"/>
  <Override PartName="/ppt/media/image30.wmf" ContentType="image/x-wmf"/>
  <Override PartName="/ppt/media/image27.jpeg" ContentType="image/jpeg"/>
  <Override PartName="/ppt/media/image34.wmf" ContentType="image/x-wmf"/>
  <Override PartName="/ppt/media/image43.jpeg" ContentType="image/jpeg"/>
  <Override PartName="/ppt/media/image38.jpeg" ContentType="image/jpeg"/>
  <Override PartName="/ppt/media/image31.wmf" ContentType="image/x-wmf"/>
  <Override PartName="/ppt/media/image7.jpeg" ContentType="image/jpeg"/>
  <Override PartName="/ppt/media/image36.png" ContentType="image/png"/>
  <Override PartName="/ppt/media/image6.png" ContentType="image/png"/>
  <Override PartName="/ppt/media/image15.gif" ContentType="image/gif"/>
  <Override PartName="/ppt/media/image5.jpeg" ContentType="image/jpeg"/>
  <Override PartName="/ppt/media/image18.wmf" ContentType="image/x-wmf"/>
  <Override PartName="/ppt/media/image26.jpeg" ContentType="image/jpeg"/>
  <Override PartName="/ppt/media/image42.png" ContentType="image/png"/>
  <Override PartName="/ppt/media/image4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A96-4B1F-4D22-A348-644B0868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C66-2662-4CF6-A853-7334D2DC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218E7-61FD-4490-8637-17953546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FA897-FD0A-428C-8C38-F7B3BCF4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A34EE-513C-42CC-8B9B-30A9BFD8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AC6EB-ADBA-449A-9A5B-C281C2FE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7368E-2E07-4A62-8C48-5D30C313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DC5F6-4ADF-4F43-9F13-8E821542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C5982-35FC-4304-883F-D80B55D8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8FB59-32C5-4A48-8825-9A679099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6EC2C-11DF-4430-BA89-2083E1A7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4B4A6-ABDF-4034-BB17-9F434A92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C13A-A040-42C6-9E62-A0E4C9CF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CFACF-54C4-4322-B8C9-38F5B094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7CF50-4387-4501-B8B1-F8989A0B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CEFD9-8F0D-4D5B-BC62-21D9F23F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5A9BD-D473-48C3-8432-718CD6AC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FBFB4-E594-498E-8FD2-B8AE3584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B433F-F868-446B-B9E3-0CA9DBDA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13C85-3969-42ED-AA35-84EBAEE0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3BA3A-FA6F-4244-A458-03BFF8BC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3A3E5-E5AA-4E3F-B3D6-94F8C7F1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144DD-9F22-4F2E-A9B3-6AF4AA72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E84-D09C-442A-8CBD-B75AF014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4540A-AF2D-4CD3-9839-D1342DD6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4E34E-1347-4D4F-9F9A-4B5C8B9D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DCEED-973D-4348-BCF7-90AC0466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A8647-EA8A-45D0-95B5-47F5413E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ACE44-4888-47CC-9AE4-988D4C06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8475B-D4B0-4D97-8515-F173BE54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04578-33EA-4CC1-A01A-2F486187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3B32A-71D6-4A79-9F7F-B7F7B872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22D64-1EB2-4CBD-8283-414C966B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49EB4-BF1D-4A8E-AF8C-2CC523F4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1B9E-727E-4079-87C0-3F7526A0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6708F-3E2D-405D-8689-03F3519F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69FFE-8847-425C-8702-54FF3924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24450-2A60-40F0-B500-90510C4B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C4C0E-2F83-45CE-956D-A2D354E1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B37C5-3574-4F62-B31E-0350E711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6EE19-D8D4-40E7-A896-D8A2B3E2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D9DCE-8141-45BA-82B4-F6D1E8EB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6AA85-6130-4793-B38D-C88C9D02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6E3D2-45AB-42CD-956A-5B2E6142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51D43-8C7E-4479-B959-B4E4AE6F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9274-58F9-4218-A6F7-E12327F3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2C3DB-9598-475B-9A2C-B5687E6D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EF32E-0861-4D36-844B-614CBC43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F868A-9437-468B-8F9E-2BDA763D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12CF7-314B-4266-A026-2B50620D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5B6B1-AC5B-4FB2-BA30-900AEB11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696C-AB55-46C0-BF4E-499E9870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BB47-9200-42C7-97AA-6E3C9978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171B-B5DF-4F22-B34C-F15F42B7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CAD1-A533-4085-BC06-C65B8BA9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0850-624B-47F5-A6FB-30333841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DB01-293C-4DDB-BE4E-A3709DB9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6B23-1B55-40C6-928A-01A42FF2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A276-5E12-4885-8353-18685006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F4BC-87BE-4454-A39B-37E9C73D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2FF1-7B0F-46F9-A334-B3E4115E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B76B-00D2-4CBF-9A9D-BEAB265D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23C4F-E115-4030-815B-F898BB5B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C73EB-B279-44E5-8445-1DE1A511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AAF21-6D3F-4C5B-B85B-D7FECFC5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5F724-A3DA-446F-9FBA-6F7190D9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EED24-6C55-4386-9E62-DC874976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D2D-1A00-43AE-8020-4802E3B8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CEC6D-4087-425A-ABC1-47B55347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D419F-C6DB-4EA6-8AC0-83063797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04B1B-9887-4997-AA5E-9C9822C0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3FCCC-816C-483F-B169-180021AF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E846F-D00E-47A1-8EE1-4BE0B9DA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D231D-0D21-4002-9808-5450C587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75B01-100C-4F6E-ABB5-1C0EE8CF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7FD63-DBCA-4E1F-843D-20CF5F3C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855A0-8E31-40A5-A7AC-1525127E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8CAB8-6ACB-4DBF-874C-33DC9995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F1D3-6706-4F5D-90B1-00583805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E9EE2-528D-4D2C-98AF-53FD6880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A310B-FCB2-45F1-8709-CFF60694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F2C05-72DF-4DEF-A59C-29AA2AD2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61E88-876B-449C-AD00-E16328D4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953F8-C0CC-42FF-947E-F636D62E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F6638-DFFC-4844-BE01-5BCF82B9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43BCF-2DA5-40B5-BE3F-C00B7058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160EE-FAE2-47F8-81BE-7F3F5BF9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C91FE-4C8B-482F-96D3-32750267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1EED6-3DE7-4ACD-B6CD-16C4D3D9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9CF-00F7-45BF-9D36-E4C474A7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30D88-A0A8-4C68-B710-DE1DEFAE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5A673-3C0E-4F8D-9492-5207A6A9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B9592-09B5-41CB-8103-0EC51798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F2513-90A8-4E09-9766-21F42827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47785-C694-4CBB-8699-F208D5EC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83F97-1584-4339-9554-60BB41E9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D7675-3C5C-4D67-BC06-0D3127F6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51A8D-76F6-4F33-AE92-3154351C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27552-2686-4EA3-905C-5951967B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F1461-FA1E-4464-99BE-415C8AE0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B71-6981-4BD7-92CA-6AD25725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2D7A8-C684-4219-B3DA-6F498F0E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B1401-5EE3-47D4-BDFE-986E61AA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661BD-E7F1-46BE-B0FB-0334D442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D08B7-FB7B-453E-97E5-D59F17BE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CB70F-2EF1-44AA-9708-44DE156A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F00D1-AC7F-4757-AFBF-17258BCC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C447A-EAAD-4352-A236-16221B48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769BE-621B-4E4A-9D50-B98DAE3B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7FB8F-547E-41C2-ACB2-83E4A504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78590-BB8D-404D-A945-74E81D89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8B8E-832C-46A0-9CBE-F88B1605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C3385-6349-4CD5-B1CB-E3F714EA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9A57F-89C1-488F-90FA-A5439AD1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CD92B-2AFC-4FB4-8550-2B4F2B5F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01C00-ED8C-47AE-9F90-677B78D8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DBD13-B665-4810-8A95-6A37A55C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9DD0C-BA5A-4F5F-9F47-3725CD22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0FA67-0CA6-4887-96BE-F1C058B9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7445C-F29F-48D6-8F35-5E260E2C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919C4-053E-415D-8E15-3EDB0F78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8B517-2D46-447E-BBA6-3D2AEE31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B88-5CD7-42E9-83B8-64F9C851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443CC-5552-4891-AAAB-CAB71FBF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810F1-1B9A-4E71-9694-1A4C93CA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E4981-7F24-4611-862E-E60D7AD9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837E7-CB8E-4362-A050-0EB07FE9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DBC8A-C4A4-426A-AF05-A06E8EC5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363E2-4512-41C4-9280-B7A5EA07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70222-3572-49EC-B315-22357781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05214-7B67-492F-9A4E-846928AD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F1D1B-4B1C-4DC2-91FD-E8E761E7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A491F-632C-4BB7-85DF-9187733E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DBF7-8BD0-408D-8A1B-EBD09FB4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E90DB-52C1-4500-8AA4-D46AD3C4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1EAC8-B395-4E01-874C-E76F5A56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37851-6DBD-458D-A2EF-D57EBE5E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A98D6-EFA6-4A4E-9D59-F74C5E3F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5503C-A7CA-4031-82F7-13A8FD2A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5302C-490F-4C7A-975D-F1F36045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661E0-92D2-4D24-B080-2894CAE6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2C8A8-BC6F-418F-985F-20AEE3DF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2B44B-F0EF-47D6-ABA2-ECD182F7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76758-9A86-4BA7-9D52-F1B164BA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4478-7FE9-4589-BD71-2BC0817AD2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2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8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9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0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936A-2861-4408-BA79-355E4308DC1D}" type="slidenum">
              <a:rPr b="0" lang="ru-RU" sz="1100" spc="-1" strike="noStrike">
                <a:solidFill>
                  <a:srgbClr val="b13f9a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FA9E-5780-4133-928D-AB90C84B9BC9}" type="slidenum">
              <a:rPr b="0" lang="ru-RU" sz="1100" spc="-1" strike="noStrike">
                <a:solidFill>
                  <a:srgbClr val="f4e7ed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51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4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5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6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8C6B-F5C6-44AB-BE85-CCD5AC532919}" type="slidenum">
              <a:rPr b="0" lang="ru-RU" sz="1100" spc="-1" strike="noStrike">
                <a:solidFill>
                  <a:srgbClr val="b13f9a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F2D3-A831-4AA5-85A8-C25FB5F734B4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DC3C-5A12-44A2-9023-3263E0F14B29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Tahoma"/>
                </a:endParaRPr>
              </a:p>
            </p:txBody>
          </p:sp>
        </p:grpSp>
        <p:grpSp>
          <p:nvGrpSpPr>
            <p:cNvPr id="10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4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9974-5B40-46A0-AE23-6D934F77C371}" type="slidenum">
              <a:rPr b="0" lang="ru-RU" sz="1100" spc="-1" strike="noStrike">
                <a:solidFill>
                  <a:srgbClr val="b13f9a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86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187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188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189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190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191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E522-4AD0-4A95-A83C-F0B70099852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4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grpSp>
        <p:nvGrpSpPr>
          <p:cNvPr id="235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6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37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Tahoma"/>
                </a:endParaRPr>
              </a:p>
            </p:txBody>
          </p:sp>
        </p:grpSp>
        <p:grpSp>
          <p:nvGrpSpPr>
            <p:cNvPr id="239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0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Tahoma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5194-2148-4750-9646-911C2D310DEA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4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grpSp>
        <p:nvGrpSpPr>
          <p:cNvPr id="285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6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87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Tahoma"/>
                </a:endParaRPr>
              </a:p>
            </p:txBody>
          </p:sp>
        </p:grpSp>
        <p:grpSp>
          <p:nvGrpSpPr>
            <p:cNvPr id="289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0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Tahoma"/>
                </a:endParaRPr>
              </a:p>
            </p:txBody>
          </p:sp>
        </p:grp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A18B-3B2C-47A0-81BF-2420E64CEFCC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4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5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6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C03C-20CC-4227-A5C8-DAD96242F140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37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  <p:sp>
        <p:nvSpPr>
          <p:cNvPr id="381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1BD8-E4E0-4553-B0A7-0FE7789DFC3A}" type="slidenum">
              <a:rPr b="0" lang="ru-RU" sz="11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29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slide15.xml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" Target="slide24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9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6553080" cy="4515120"/>
          </a:xfrm>
          <a:prstGeom prst="rect">
            <a:avLst/>
          </a:prstGeom>
          <a:ln w="0">
            <a:noFill/>
          </a:ln>
        </p:spPr>
      </p:pic>
      <p:sp>
        <p:nvSpPr>
          <p:cNvPr id="555" name="WordArt 11"/>
          <p:cNvSpPr txBox="1"/>
          <p:nvPr/>
        </p:nvSpPr>
        <p:spPr>
          <a:xfrm>
            <a:off x="2411280" y="189000"/>
            <a:ext cx="424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россвор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4788000" y="1052640"/>
            <a:ext cx="4032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Единица давления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Единица массы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Кратная единица массы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5076720" y="3573360"/>
            <a:ext cx="33829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4. Единица площади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5. Единица времени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6. Единица силы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7. Единица объема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8. Единица длины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324000" y="665280"/>
            <a:ext cx="84247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Задание группе 4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Можно ли «заставить» картофелину плавать в воде?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Заставьте картофелину плавать в воде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Объясните результаты опыта. Оформите их  в виде рисунков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Оборудование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осуд с водой, пробирка с поваренной солью, ложка, картофелина средней величины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Задание группе 5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Добейтесь, чтобы кусок пластилина плавал в воде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Добейтесь, чтобы кусок фольги плавал в воде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Поясните результаты опыта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Оборудование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осуд с водой; кусок пластилина и  кусочек фольги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496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Задание группе 6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Наблюдение всплытия масляного пятна, под действием выталкивающей силы воды.</a:t>
            </a: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Цель работы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ровести наблюдение за всплытием масла, погруженного в воду, обнаружить на опыте выталкивающее действие воды, указать направление выталкивающей силы. </a:t>
            </a:r>
            <a:br>
              <a:rPr sz="2400"/>
            </a:b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Оборудование: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уды с маслом, водой, пипетка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ледовательность проведения опыт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Возьмите с помощью пипетки несколько капель масла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Опустите пипетку на глубину 3 – 4 см в стакан с водо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Выпустите масло и пронаблюдайте, образование масляного пятна на поверхности воды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На основе проделанного опыта сделайте вывод.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38512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изкультминут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87" name="Picture 3" descr="D:\Новая папка (2)\PM960image001.jpg"/>
          <p:cNvPicPr/>
          <p:nvPr/>
        </p:nvPicPr>
        <p:blipFill>
          <a:blip r:embed="rId1"/>
          <a:stretch/>
        </p:blipFill>
        <p:spPr>
          <a:xfrm>
            <a:off x="785880" y="1928880"/>
            <a:ext cx="4316400" cy="2879640"/>
          </a:xfrm>
          <a:prstGeom prst="rect">
            <a:avLst/>
          </a:prstGeom>
          <a:ln w="0">
            <a:noFill/>
          </a:ln>
        </p:spPr>
      </p:pic>
      <p:pic>
        <p:nvPicPr>
          <p:cNvPr id="588" name="a-studio_i_leonid_rudenko_-_utrennyaya_zaryadka_demo зарядка.mp3" descr=""/>
          <p:cNvPicPr/>
          <p:nvPr/>
        </p:nvPicPr>
        <p:blipFill>
          <a:blip r:embed="rId2"/>
          <a:stretch/>
        </p:blipFill>
        <p:spPr>
          <a:xfrm>
            <a:off x="6729480" y="2762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 txBox="1"/>
          <p:nvPr/>
        </p:nvSpPr>
        <p:spPr>
          <a:xfrm>
            <a:off x="83808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0" name="Picture 2" descr="D:\Новая папка (2)\morninggym4_3.jpg"/>
          <p:cNvPicPr/>
          <p:nvPr/>
        </p:nvPicPr>
        <p:blipFill>
          <a:blip r:embed="rId3"/>
          <a:stretch/>
        </p:blipFill>
        <p:spPr>
          <a:xfrm>
            <a:off x="4357800" y="3643200"/>
            <a:ext cx="44053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92657" fill="hold"/>
                                        <p:tgtEl>
                                          <p:spTgt spid="5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руппа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838080" y="1905120"/>
          <a:ext cx="8007480" cy="1249200"/>
        </p:xfrm>
        <a:graphic>
          <a:graphicData uri="http://schemas.openxmlformats.org/drawingml/2006/table">
            <a:tbl>
              <a:tblPr/>
              <a:tblGrid>
                <a:gridCol w="2670120"/>
                <a:gridCol w="2667240"/>
                <a:gridCol w="2670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отность жидкост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отность вещества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онет или нет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ρ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=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ρ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ahoma"/>
              </a:rPr>
              <a:t>Проверка условий плавания тел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594" name="Picture 8" descr="шарик1"/>
          <p:cNvPicPr/>
          <p:nvPr/>
        </p:nvPicPr>
        <p:blipFill>
          <a:blip r:embed="rId1"/>
          <a:stretch/>
        </p:blipFill>
        <p:spPr>
          <a:xfrm>
            <a:off x="755640" y="2205000"/>
            <a:ext cx="957240" cy="24256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1" descr="шарик2"/>
          <p:cNvPicPr/>
          <p:nvPr/>
        </p:nvPicPr>
        <p:blipFill>
          <a:blip r:embed="rId2"/>
          <a:stretch/>
        </p:blipFill>
        <p:spPr>
          <a:xfrm>
            <a:off x="3564000" y="2205000"/>
            <a:ext cx="1079280" cy="24033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2" descr="шарик3"/>
          <p:cNvPicPr/>
          <p:nvPr/>
        </p:nvPicPr>
        <p:blipFill>
          <a:blip r:embed="rId3"/>
          <a:stretch/>
        </p:blipFill>
        <p:spPr>
          <a:xfrm>
            <a:off x="6372360" y="2276640"/>
            <a:ext cx="1079280" cy="237636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15"/>
          <p:cNvSpPr/>
          <p:nvPr/>
        </p:nvSpPr>
        <p:spPr>
          <a:xfrm>
            <a:off x="684360" y="4797360"/>
            <a:ext cx="1234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Tahoma"/>
              </a:rPr>
              <a:t>Тело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Tahoma"/>
              </a:rPr>
              <a:t>плавает,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Tahoma"/>
              </a:rPr>
              <a:t>если…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98" name="Text Box 16"/>
          <p:cNvSpPr/>
          <p:nvPr/>
        </p:nvSpPr>
        <p:spPr>
          <a:xfrm>
            <a:off x="3132000" y="4797360"/>
            <a:ext cx="1871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Тело 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находится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в равновесии,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если …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99" name="Text Box 17"/>
          <p:cNvSpPr/>
          <p:nvPr/>
        </p:nvSpPr>
        <p:spPr>
          <a:xfrm>
            <a:off x="6372360" y="4869000"/>
            <a:ext cx="11523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Тело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тонет,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если…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0" name="AutoShape 19">
            <a:hlinkClick r:id="rId4" action="ppaction://hlinksldjump"/>
          </p:cNvPr>
          <p:cNvSpPr/>
          <p:nvPr/>
        </p:nvSpPr>
        <p:spPr>
          <a:xfrm>
            <a:off x="7451640" y="59500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Tahoma"/>
              </a:rPr>
              <a:t>Группа 2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611280" y="1989000"/>
            <a:ext cx="2374920" cy="2376720"/>
          </a:xfrm>
          <a:prstGeom prst="rect">
            <a:avLst/>
          </a:prstGeom>
          <a:gradFill rotWithShape="0">
            <a:gsLst>
              <a:gs pos="0">
                <a:srgbClr val="2b5481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2124000" y="2421000"/>
            <a:ext cx="433440" cy="358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826920" y="2637000"/>
            <a:ext cx="433440" cy="35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539640" y="2708280"/>
            <a:ext cx="2519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6" name="Rectangle 14"/>
          <p:cNvSpPr/>
          <p:nvPr/>
        </p:nvSpPr>
        <p:spPr>
          <a:xfrm>
            <a:off x="5292720" y="1773360"/>
            <a:ext cx="2374920" cy="2376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7" name="Line 17"/>
          <p:cNvSpPr/>
          <p:nvPr/>
        </p:nvSpPr>
        <p:spPr>
          <a:xfrm>
            <a:off x="5292720" y="2492280"/>
            <a:ext cx="25192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5580000" y="2781360"/>
            <a:ext cx="433440" cy="35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9" name="Rectangle 21"/>
          <p:cNvSpPr/>
          <p:nvPr/>
        </p:nvSpPr>
        <p:spPr>
          <a:xfrm>
            <a:off x="6877080" y="2492280"/>
            <a:ext cx="433440" cy="358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0" name="Text Box 22"/>
          <p:cNvSpPr/>
          <p:nvPr/>
        </p:nvSpPr>
        <p:spPr>
          <a:xfrm>
            <a:off x="324000" y="4508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Вода </a:t>
            </a:r>
            <a:r>
              <a:rPr b="1" lang="el-GR" sz="2000" spc="-1" strike="noStrike">
                <a:solidFill>
                  <a:srgbClr val="996633"/>
                </a:solidFill>
                <a:latin typeface="Tahoma"/>
                <a:ea typeface="Tahoma"/>
              </a:rPr>
              <a:t>ρ</a:t>
            </a:r>
            <a:r>
              <a:rPr b="1" lang="ru-RU" sz="2000" spc="-1" strike="noStrike">
                <a:solidFill>
                  <a:srgbClr val="996633"/>
                </a:solidFill>
                <a:latin typeface="Tahoma"/>
                <a:ea typeface="Tahoma"/>
              </a:rPr>
              <a:t> = 1000 кг\м</a:t>
            </a:r>
            <a:r>
              <a:rPr b="1" lang="ru-RU" sz="2000" spc="-1" strike="noStrike" baseline="30000">
                <a:solidFill>
                  <a:srgbClr val="996633"/>
                </a:solidFill>
                <a:latin typeface="Tahoma"/>
                <a:ea typeface="Tahoma"/>
              </a:rPr>
              <a:t>3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1" name="Text Box 23"/>
          <p:cNvSpPr/>
          <p:nvPr/>
        </p:nvSpPr>
        <p:spPr>
          <a:xfrm>
            <a:off x="5076720" y="4508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ahoma"/>
              </a:rPr>
              <a:t>Масло </a:t>
            </a:r>
            <a:r>
              <a:rPr b="1" lang="el-GR" sz="2000" spc="-1" strike="noStrike">
                <a:solidFill>
                  <a:srgbClr val="996633"/>
                </a:solidFill>
                <a:latin typeface="Tahoma"/>
                <a:ea typeface="Tahoma"/>
              </a:rPr>
              <a:t>ρ</a:t>
            </a:r>
            <a:r>
              <a:rPr b="1" lang="ru-RU" sz="2000" spc="-1" strike="noStrike">
                <a:solidFill>
                  <a:srgbClr val="996633"/>
                </a:solidFill>
                <a:latin typeface="Tahoma"/>
                <a:ea typeface="Tahoma"/>
              </a:rPr>
              <a:t> =926 кг\м</a:t>
            </a:r>
            <a:r>
              <a:rPr b="1" lang="ru-RU" sz="2000" spc="-1" strike="noStrike" baseline="30000">
                <a:solidFill>
                  <a:srgbClr val="996633"/>
                </a:solidFill>
                <a:latin typeface="Tahoma"/>
                <a:ea typeface="Tahoma"/>
              </a:rPr>
              <a:t>3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2" name="Text Box 24"/>
          <p:cNvSpPr/>
          <p:nvPr/>
        </p:nvSpPr>
        <p:spPr>
          <a:xfrm>
            <a:off x="395280" y="5373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Глубина погружения тела в жидкость зависит от плотности жидкости и самого тела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10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Группа 3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&gt; F</a:t>
            </a:r>
            <a:r>
              <a:rPr b="0" lang="ru-RU" sz="3200" spc="-1" strike="noStrike" baseline="-25000">
                <a:solidFill>
                  <a:srgbClr val="0000ff"/>
                </a:solidFill>
                <a:latin typeface="Tahoma"/>
              </a:rPr>
              <a:t>т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-</a:t>
            </a:r>
            <a:r>
              <a:rPr b="0" lang="ru-RU" sz="3200" spc="-1" strike="noStrike" baseline="-25000">
                <a:solidFill>
                  <a:srgbClr val="0000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тело всплывает на поверхность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&lt; F</a:t>
            </a:r>
            <a:r>
              <a:rPr b="0" lang="ru-RU" sz="3200" spc="-1" strike="noStrike" baseline="-25000">
                <a:solidFill>
                  <a:srgbClr val="0000ff"/>
                </a:solidFill>
                <a:latin typeface="Tahoma"/>
              </a:rPr>
              <a:t>т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-</a:t>
            </a:r>
            <a:r>
              <a:rPr b="0" lang="ru-RU" sz="3200" spc="-1" strike="noStrike" baseline="-25000">
                <a:solidFill>
                  <a:srgbClr val="0000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тело тонет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F</a:t>
            </a:r>
            <a:r>
              <a:rPr b="0" lang="ru-RU" sz="3200" spc="-1" strike="noStrike" baseline="-25000">
                <a:solidFill>
                  <a:srgbClr val="0000ff"/>
                </a:solidFill>
                <a:latin typeface="Tahoma"/>
              </a:rPr>
              <a:t>т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-</a:t>
            </a:r>
            <a:r>
              <a:rPr b="0" lang="ru-RU" sz="3200" spc="-1" strike="noStrike" baseline="-25000">
                <a:solidFill>
                  <a:srgbClr val="0000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тело плавает внутри жидкости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5" name="AutoShape 4">
            <a:hlinkClick r:id="rId1" action="ppaction://hlinksldjump"/>
          </p:cNvPr>
          <p:cNvSpPr/>
          <p:nvPr/>
        </p:nvSpPr>
        <p:spPr>
          <a:xfrm rot="10800000">
            <a:off x="6877080" y="56606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 Black"/>
              </a:rPr>
              <a:t>Группа 4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136160" y="1916280"/>
            <a:ext cx="8007480" cy="29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 ли плавать картофе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- выяснить при каких условиях картофелина, находящаяся в воде, будет плав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4" descr="j0336396"/>
          <p:cNvPicPr/>
          <p:nvPr/>
        </p:nvPicPr>
        <p:blipFill>
          <a:blip r:embed="rId1"/>
          <a:stretch/>
        </p:blipFill>
        <p:spPr>
          <a:xfrm>
            <a:off x="7631280" y="1341360"/>
            <a:ext cx="1512720" cy="15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835280" y="244440"/>
            <a:ext cx="4897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ведение       эксперимен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36160" y="1915920"/>
            <a:ext cx="800748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делать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Picture 4" descr="j0295579"/>
          <p:cNvPicPr/>
          <p:nvPr/>
        </p:nvPicPr>
        <p:blipFill>
          <a:blip r:embed="rId1"/>
          <a:stretch/>
        </p:blipFill>
        <p:spPr>
          <a:xfrm>
            <a:off x="0" y="0"/>
            <a:ext cx="1727280" cy="15127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" descr="j0229791"/>
          <p:cNvPicPr/>
          <p:nvPr/>
        </p:nvPicPr>
        <p:blipFill>
          <a:blip r:embed="rId2"/>
          <a:srcRect l="20263" t="0" r="20263" b="0"/>
          <a:stretch/>
        </p:blipFill>
        <p:spPr>
          <a:xfrm>
            <a:off x="7380360" y="0"/>
            <a:ext cx="1057320" cy="1630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j0246137"/>
          <p:cNvPicPr/>
          <p:nvPr/>
        </p:nvPicPr>
        <p:blipFill>
          <a:blip r:embed="rId3"/>
          <a:srcRect l="0" t="0" r="30826" b="31201"/>
          <a:stretch/>
        </p:blipFill>
        <p:spPr>
          <a:xfrm>
            <a:off x="7997760" y="692280"/>
            <a:ext cx="1146240" cy="11890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7" descr="j0229791"/>
          <p:cNvPicPr/>
          <p:nvPr/>
        </p:nvPicPr>
        <p:blipFill>
          <a:blip r:embed="rId4"/>
          <a:srcRect l="97447" t="0" r="0" b="0"/>
          <a:stretch/>
        </p:blipFill>
        <p:spPr>
          <a:xfrm>
            <a:off x="5413320" y="2612880"/>
            <a:ext cx="46080" cy="1630440"/>
          </a:xfrm>
          <a:prstGeom prst="rect">
            <a:avLst/>
          </a:prstGeom>
          <a:ln w="0">
            <a:noFill/>
          </a:ln>
        </p:spPr>
      </p:pic>
      <p:grpSp>
        <p:nvGrpSpPr>
          <p:cNvPr id="625" name="Group 8"/>
          <p:cNvGrpSpPr/>
          <p:nvPr/>
        </p:nvGrpSpPr>
        <p:grpSpPr>
          <a:xfrm>
            <a:off x="3419640" y="2637000"/>
            <a:ext cx="3960360" cy="3817440"/>
            <a:chOff x="3419640" y="2637000"/>
            <a:chExt cx="3960360" cy="3817440"/>
          </a:xfrm>
        </p:grpSpPr>
        <p:pic>
          <p:nvPicPr>
            <p:cNvPr id="626" name="Picture 9" descr="j0312002"/>
            <p:cNvPicPr/>
            <p:nvPr/>
          </p:nvPicPr>
          <p:blipFill>
            <a:blip r:embed="rId5"/>
            <a:stretch/>
          </p:blipFill>
          <p:spPr>
            <a:xfrm>
              <a:off x="3419640" y="2637000"/>
              <a:ext cx="3960360" cy="38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10" descr="j0215376"/>
            <p:cNvPicPr/>
            <p:nvPr/>
          </p:nvPicPr>
          <p:blipFill>
            <a:blip r:embed="rId6"/>
            <a:srcRect l="0" t="0" r="29099" b="35193"/>
            <a:stretch/>
          </p:blipFill>
          <p:spPr>
            <a:xfrm>
              <a:off x="5049360" y="5187600"/>
              <a:ext cx="1162800" cy="111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Text Box 11"/>
          <p:cNvSpPr/>
          <p:nvPr/>
        </p:nvSpPr>
        <p:spPr>
          <a:xfrm>
            <a:off x="1116000" y="4149720"/>
            <a:ext cx="22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Насыплем больше соли 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помешаем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629" name="Picture 12" descr="j0250756"/>
          <p:cNvPicPr/>
          <p:nvPr/>
        </p:nvPicPr>
        <p:blipFill>
          <a:blip r:embed="rId7"/>
          <a:srcRect l="0" t="27525" r="0" b="0"/>
          <a:stretch/>
        </p:blipFill>
        <p:spPr>
          <a:xfrm rot="18918000">
            <a:off x="4788000" y="4076280"/>
            <a:ext cx="2050920" cy="41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9680" y="333360"/>
            <a:ext cx="83739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бщий результат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631" name="Picture 3" descr="j0312002"/>
          <p:cNvPicPr/>
          <p:nvPr/>
        </p:nvPicPr>
        <p:blipFill>
          <a:blip r:embed="rId1"/>
          <a:stretch/>
        </p:blipFill>
        <p:spPr>
          <a:xfrm>
            <a:off x="684360" y="1700280"/>
            <a:ext cx="2446200" cy="28083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4" descr="j0215376"/>
          <p:cNvPicPr/>
          <p:nvPr/>
        </p:nvPicPr>
        <p:blipFill>
          <a:blip r:embed="rId2"/>
          <a:srcRect l="0" t="0" r="29099" b="35193"/>
          <a:stretch/>
        </p:blipFill>
        <p:spPr>
          <a:xfrm>
            <a:off x="1547640" y="364500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j0312002"/>
          <p:cNvPicPr/>
          <p:nvPr/>
        </p:nvPicPr>
        <p:blipFill>
          <a:blip r:embed="rId3"/>
          <a:stretch/>
        </p:blipFill>
        <p:spPr>
          <a:xfrm>
            <a:off x="3419640" y="3789360"/>
            <a:ext cx="2447640" cy="26640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" descr="j0215376"/>
          <p:cNvPicPr/>
          <p:nvPr/>
        </p:nvPicPr>
        <p:blipFill>
          <a:blip r:embed="rId4"/>
          <a:srcRect l="0" t="0" r="29099" b="35193"/>
          <a:stretch/>
        </p:blipFill>
        <p:spPr>
          <a:xfrm>
            <a:off x="4356000" y="530064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7" descr="j0312002"/>
          <p:cNvPicPr/>
          <p:nvPr/>
        </p:nvPicPr>
        <p:blipFill>
          <a:blip r:embed="rId5"/>
          <a:stretch/>
        </p:blipFill>
        <p:spPr>
          <a:xfrm>
            <a:off x="6227640" y="1557360"/>
            <a:ext cx="2665440" cy="29527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8" descr="j0215376"/>
          <p:cNvPicPr/>
          <p:nvPr/>
        </p:nvPicPr>
        <p:blipFill>
          <a:blip r:embed="rId6"/>
          <a:srcRect l="0" t="0" r="29099" b="35193"/>
          <a:stretch/>
        </p:blipFill>
        <p:spPr>
          <a:xfrm>
            <a:off x="7236000" y="2637000"/>
            <a:ext cx="782640" cy="85860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9"/>
          <p:cNvSpPr/>
          <p:nvPr/>
        </p:nvSpPr>
        <p:spPr>
          <a:xfrm>
            <a:off x="1332000" y="4581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Утонула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1619280" y="595008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Поднялась в воде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6877080" y="4653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Всплыла!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640" name="Picture 12" descr="j0079101[1]"/>
          <p:cNvPicPr/>
          <p:nvPr/>
        </p:nvPicPr>
        <p:blipFill>
          <a:blip r:embed="rId7"/>
          <a:stretch/>
        </p:blipFill>
        <p:spPr>
          <a:xfrm>
            <a:off x="611280" y="333360"/>
            <a:ext cx="1280880" cy="13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169" dur="250" autoRev="1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70" dur="250" autoRev="1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250" autoRev="1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174" dur="250" autoRev="1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75" dur="250" autoRev="1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50" autoRev="1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179" dur="250" autoRev="1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80" dur="250" autoRev="1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848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411280" y="2420640"/>
            <a:ext cx="64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ртофель может плавать в воде, если раствор соли будет иметь большую  плотность, чем у картофеля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Picture 4" descr="j0233062"/>
          <p:cNvPicPr/>
          <p:nvPr/>
        </p:nvPicPr>
        <p:blipFill>
          <a:blip r:embed="rId1"/>
          <a:stretch/>
        </p:blipFill>
        <p:spPr>
          <a:xfrm>
            <a:off x="395280" y="1341360"/>
            <a:ext cx="187308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6"/>
          <p:cNvSpPr/>
          <p:nvPr/>
        </p:nvSpPr>
        <p:spPr>
          <a:xfrm>
            <a:off x="4932360" y="1916280"/>
            <a:ext cx="3240000" cy="2374560"/>
          </a:xfrm>
          <a:prstGeom prst="rect">
            <a:avLst/>
          </a:prstGeom>
          <a:solidFill>
            <a:srgbClr val="0099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684360" y="1916280"/>
            <a:ext cx="3240000" cy="23745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ahoma"/>
              </a:rPr>
              <a:t>Группа 5</a:t>
            </a: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u-RU" sz="4000" spc="-1" strike="noStrike">
                <a:solidFill>
                  <a:srgbClr val="cc3300"/>
                </a:solidFill>
                <a:latin typeface="Tahoma"/>
              </a:rPr>
              <a:t>Почему кусок </a:t>
            </a:r>
            <a:br>
              <a:rPr sz="4000"/>
            </a:br>
            <a:r>
              <a:rPr b="1" lang="ru-RU" sz="4000" spc="-1" strike="noStrike">
                <a:solidFill>
                  <a:srgbClr val="cc3300"/>
                </a:solidFill>
                <a:latin typeface="Tahoma"/>
              </a:rPr>
              <a:t>пластилина тонет в воде?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647" name="Picture 4" descr="j0290336"/>
          <p:cNvPicPr/>
          <p:nvPr/>
        </p:nvPicPr>
        <p:blipFill>
          <a:blip r:embed="rId1"/>
          <a:stretch/>
        </p:blipFill>
        <p:spPr>
          <a:xfrm>
            <a:off x="5580000" y="2492280"/>
            <a:ext cx="1827360" cy="846360"/>
          </a:xfrm>
          <a:prstGeom prst="rect">
            <a:avLst/>
          </a:prstGeom>
          <a:ln w="0">
            <a:noFill/>
          </a:ln>
        </p:spPr>
      </p:pic>
      <p:sp>
        <p:nvSpPr>
          <p:cNvPr id="648" name="Line 8"/>
          <p:cNvSpPr/>
          <p:nvPr/>
        </p:nvSpPr>
        <p:spPr>
          <a:xfrm flipV="1">
            <a:off x="755640" y="3500280"/>
            <a:ext cx="32400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49" name="Oval 7"/>
          <p:cNvSpPr/>
          <p:nvPr/>
        </p:nvSpPr>
        <p:spPr>
          <a:xfrm>
            <a:off x="1403280" y="3716280"/>
            <a:ext cx="576360" cy="57456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66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0" name="Rectangle 10"/>
          <p:cNvSpPr/>
          <p:nvPr/>
        </p:nvSpPr>
        <p:spPr>
          <a:xfrm>
            <a:off x="2627280" y="3573360"/>
            <a:ext cx="863640" cy="28728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1" name="Line 11"/>
          <p:cNvSpPr/>
          <p:nvPr/>
        </p:nvSpPr>
        <p:spPr>
          <a:xfrm flipV="1">
            <a:off x="4932360" y="2781000"/>
            <a:ext cx="10080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2" name="Line 13"/>
          <p:cNvSpPr/>
          <p:nvPr/>
        </p:nvSpPr>
        <p:spPr>
          <a:xfrm>
            <a:off x="7308720" y="2637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3" name="Text Box 14"/>
          <p:cNvSpPr/>
          <p:nvPr/>
        </p:nvSpPr>
        <p:spPr>
          <a:xfrm>
            <a:off x="324000" y="4797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ahoma"/>
              </a:rPr>
              <a:t>Чтобы заставить плавать обычно тонущие тела, можно изменить плотность жидкости или объем погруженной части тела. При этом изменяется и архимедова сила, действующая на тело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1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1021"/>
                </a:solidFill>
                <a:latin typeface="Tahoma"/>
              </a:rPr>
              <a:t>Группа 6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Плавание одной жидкости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на поверхности другой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324000" y="511812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Жидкости, как и твердые тела подчиняются условиям плавания тел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657" name="Picture 5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3784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b5481"/>
                </a:solidFill>
                <a:latin typeface="Tahoma"/>
              </a:rPr>
              <a:t>Условие плавания тел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457200" y="1981080"/>
          <a:ext cx="8229600" cy="4114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5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всплывает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лавает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тонет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лотность жидкости больше плотности тел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лотность жидкости равна плотности тел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лотность жидкости меньше плотности тел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0" name="Picture 20" descr="plav1_4"/>
          <p:cNvPicPr/>
          <p:nvPr/>
        </p:nvPicPr>
        <p:blipFill>
          <a:blip r:embed="rId1"/>
          <a:stretch/>
        </p:blipFill>
        <p:spPr>
          <a:xfrm>
            <a:off x="755640" y="249228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661" name="AutoShape 25">
            <a:hlinkClick r:id="rId2" action="ppaction://hlinksldjump"/>
          </p:cNvPr>
          <p:cNvSpPr/>
          <p:nvPr/>
        </p:nvSpPr>
        <p:spPr>
          <a:xfrm>
            <a:off x="4284720" y="6165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99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662" name="Picture 26" descr="plav2_4"/>
          <p:cNvPicPr/>
          <p:nvPr/>
        </p:nvPicPr>
        <p:blipFill>
          <a:blip r:embed="rId3"/>
          <a:stretch/>
        </p:blipFill>
        <p:spPr>
          <a:xfrm>
            <a:off x="3492360" y="249228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27" descr="plav3_4"/>
          <p:cNvPicPr/>
          <p:nvPr/>
        </p:nvPicPr>
        <p:blipFill>
          <a:blip r:embed="rId4"/>
          <a:stretch/>
        </p:blipFill>
        <p:spPr>
          <a:xfrm>
            <a:off x="6227640" y="249228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664" name="AutoShape 28">
            <a:hlinkClick r:id="rId5" action="ppaction://hlinksldjump"/>
          </p:cNvPr>
          <p:cNvSpPr/>
          <p:nvPr/>
        </p:nvSpPr>
        <p:spPr>
          <a:xfrm>
            <a:off x="7380360" y="6237360"/>
            <a:ext cx="863640" cy="4316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0099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77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Использование  плавающих тел в технике   и быту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666" name="Picture 4" descr="Viking-1970"/>
          <p:cNvPicPr/>
          <p:nvPr/>
        </p:nvPicPr>
        <p:blipFill>
          <a:blip r:embed="rId1"/>
          <a:stretch/>
        </p:blipFill>
        <p:spPr>
          <a:xfrm>
            <a:off x="250920" y="1197000"/>
            <a:ext cx="4392360" cy="32940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5" descr="124-1"/>
          <p:cNvPicPr/>
          <p:nvPr/>
        </p:nvPicPr>
        <p:blipFill>
          <a:blip r:embed="rId2"/>
          <a:srcRect l="0" t="0" r="0" b="4296"/>
          <a:stretch/>
        </p:blipFill>
        <p:spPr>
          <a:xfrm>
            <a:off x="4140360" y="2421000"/>
            <a:ext cx="4822560" cy="364500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9"/>
          <p:cNvSpPr/>
          <p:nvPr/>
        </p:nvSpPr>
        <p:spPr>
          <a:xfrm>
            <a:off x="270360" y="4556160"/>
            <a:ext cx="28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ервые гребные суда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669" name="Picture 6" descr="{BC0C61B2-BEE2-411F-AD1D-7A1A1890F79B}"/>
          <p:cNvPicPr/>
          <p:nvPr/>
        </p:nvPicPr>
        <p:blipFill>
          <a:blip r:embed="rId3"/>
          <a:stretch/>
        </p:blipFill>
        <p:spPr>
          <a:xfrm>
            <a:off x="1619280" y="3284640"/>
            <a:ext cx="5429160" cy="2962080"/>
          </a:xfrm>
          <a:prstGeom prst="rect">
            <a:avLst/>
          </a:prstGeom>
          <a:ln w="0">
            <a:noFill/>
          </a:ln>
        </p:spPr>
      </p:pic>
      <p:sp>
        <p:nvSpPr>
          <p:cNvPr id="670" name="Text Box 11"/>
          <p:cNvSpPr/>
          <p:nvPr/>
        </p:nvSpPr>
        <p:spPr>
          <a:xfrm>
            <a:off x="7236000" y="17002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липер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71" name="Text Box 12"/>
          <p:cNvSpPr/>
          <p:nvPr/>
        </p:nvSpPr>
        <p:spPr>
          <a:xfrm>
            <a:off x="2484360" y="623736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томный ледокол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ahoma"/>
              </a:rPr>
              <a:t>Переход из реки в море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673" name="Picture 4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704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Занимательная задача: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Один неглубокий сосуд пригласил в гости сразу три несмешивающиеся жидкости разной плотности и предложил им располагаться со всеми удобствами. Как расположились жидкости в гостеприимном сосуде, если это были: масло машинное, мёд и бензин?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Укажите порядок расположения жидкостей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676" name="Picture 4" descr=""/>
          <p:cNvPicPr/>
          <p:nvPr/>
        </p:nvPicPr>
        <p:blipFill>
          <a:blip r:embed="rId1"/>
          <a:stretch/>
        </p:blipFill>
        <p:spPr>
          <a:xfrm>
            <a:off x="7093080" y="4292640"/>
            <a:ext cx="1612800" cy="199404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5"/>
          <p:cNvSpPr/>
          <p:nvPr/>
        </p:nvSpPr>
        <p:spPr>
          <a:xfrm>
            <a:off x="4284720" y="48690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21021"/>
                </a:solidFill>
                <a:latin typeface="Tahoma"/>
              </a:rPr>
              <a:t>МЁД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4140360" y="5300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21021"/>
                </a:solidFill>
                <a:latin typeface="Tahoma"/>
              </a:rPr>
              <a:t>МАШИННОЕ МАСЛО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4211640" y="57340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21021"/>
                </a:solidFill>
                <a:latin typeface="Tahoma"/>
              </a:rPr>
              <a:t>БЕНЗИН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52-читать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§ 52-отвечать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27 (1,4,6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задание на стр. 154 (сделать поплавок Декарта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Какая сила возникает при погружении тела в жидкость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Куда направлена эта сила?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От чего зависит Архимедова сила?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А если тело не полностью погружено в жидкость, то как определить Архимедову силу?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Какими способами можно на опыте определить Архимедову силу?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60" name="WordArt 4"/>
          <p:cNvSpPr txBox="1"/>
          <p:nvPr/>
        </p:nvSpPr>
        <p:spPr>
          <a:xfrm>
            <a:off x="2000160" y="500040"/>
            <a:ext cx="504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просы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1" name="AutoShape 5">
            <a:hlinkClick r:id="rId1" action="ppaction://hlinksldjump"/>
          </p:cNvPr>
          <p:cNvSpPr/>
          <p:nvPr/>
        </p:nvSpPr>
        <p:spPr>
          <a:xfrm>
            <a:off x="7093080" y="6237360"/>
            <a:ext cx="720720" cy="431640"/>
          </a:xfrm>
          <a:prstGeom prst="rightArrow">
            <a:avLst>
              <a:gd name="adj1" fmla="val 50000"/>
              <a:gd name="adj2" fmla="val 41743"/>
            </a:avLst>
          </a:prstGeom>
          <a:solidFill>
            <a:srgbClr val="0099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На тело, погруженное в жидкость, действует выталкивающая сила, направленная вверх и равная по модулю весу жидкости, которую вытесняет данное тело.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563" name="Picture 8" descr=""/>
          <p:cNvPicPr/>
          <p:nvPr/>
        </p:nvPicPr>
        <p:blipFill>
          <a:blip r:embed="rId1"/>
          <a:srcRect l="6336" t="14781" r="7128" b="14383"/>
          <a:stretch/>
        </p:blipFill>
        <p:spPr>
          <a:xfrm>
            <a:off x="611280" y="5130720"/>
            <a:ext cx="2950920" cy="17272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9" descr="Сила Архимеда"/>
          <p:cNvPicPr/>
          <p:nvPr/>
        </p:nvPicPr>
        <p:blipFill>
          <a:blip r:embed="rId2"/>
          <a:stretch/>
        </p:blipFill>
        <p:spPr>
          <a:xfrm>
            <a:off x="4211640" y="1989000"/>
            <a:ext cx="4535640" cy="29480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0" descr=""/>
          <p:cNvPicPr/>
          <p:nvPr/>
        </p:nvPicPr>
        <p:blipFill>
          <a:blip r:embed="rId3"/>
          <a:stretch/>
        </p:blipFill>
        <p:spPr>
          <a:xfrm>
            <a:off x="755640" y="1989000"/>
            <a:ext cx="3076560" cy="172404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11"/>
          <p:cNvSpPr/>
          <p:nvPr/>
        </p:nvSpPr>
        <p:spPr>
          <a:xfrm>
            <a:off x="179280" y="3789360"/>
            <a:ext cx="360072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ри полном погружении тела объемом </a:t>
            </a:r>
            <a:r>
              <a:rPr b="1" lang="en-US" sz="1800" spc="-1" strike="noStrike">
                <a:solidFill>
                  <a:srgbClr val="3366ff"/>
                </a:solidFill>
                <a:latin typeface="Tahoma"/>
              </a:rPr>
              <a:t>V</a:t>
            </a:r>
            <a:r>
              <a:rPr b="1" lang="ru-RU" sz="1800" spc="-1" strike="noStrike" baseline="-25000">
                <a:solidFill>
                  <a:srgbClr val="3366ff"/>
                </a:solidFill>
                <a:latin typeface="Tahoma"/>
              </a:rPr>
              <a:t>т</a:t>
            </a: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 и плотностью </a:t>
            </a:r>
            <a:r>
              <a:rPr b="1" lang="el-GR" sz="1800" spc="-1" strike="noStrike">
                <a:solidFill>
                  <a:srgbClr val="3366ff"/>
                </a:solidFill>
                <a:latin typeface="Tahoma"/>
                <a:ea typeface="Tahoma"/>
              </a:rPr>
              <a:t>ρ</a:t>
            </a:r>
            <a:r>
              <a:rPr b="1" lang="ru-RU" sz="1800" spc="-1" strike="noStrike" baseline="-25000">
                <a:solidFill>
                  <a:srgbClr val="3366ff"/>
                </a:solidFill>
                <a:latin typeface="Tahoma"/>
                <a:ea typeface="Tahoma"/>
              </a:rPr>
              <a:t>ж</a:t>
            </a:r>
            <a:r>
              <a:rPr b="1" lang="ru-RU" sz="1800" spc="-1" strike="noStrike">
                <a:solidFill>
                  <a:srgbClr val="3366ff"/>
                </a:solidFill>
                <a:latin typeface="Tahoma"/>
                <a:ea typeface="Tahoma"/>
              </a:rPr>
              <a:t>, архимедова сила </a:t>
            </a:r>
            <a:r>
              <a:rPr b="1" lang="en-US" sz="1800" spc="-1" strike="noStrike">
                <a:solidFill>
                  <a:srgbClr val="3366ff"/>
                </a:solidFill>
                <a:latin typeface="Tahoma"/>
                <a:ea typeface="Tahoma"/>
              </a:rPr>
              <a:t>F</a:t>
            </a:r>
            <a:r>
              <a:rPr b="1" lang="ru-RU" sz="1800" spc="-1" strike="noStrike" baseline="-25000">
                <a:solidFill>
                  <a:srgbClr val="3366ff"/>
                </a:solidFill>
                <a:latin typeface="Tahoma"/>
                <a:ea typeface="Tahoma"/>
              </a:rPr>
              <a:t>А </a:t>
            </a:r>
            <a:r>
              <a:rPr b="1" lang="ru-RU" sz="1800" spc="-1" strike="noStrike">
                <a:solidFill>
                  <a:srgbClr val="3366ff"/>
                </a:solidFill>
                <a:latin typeface="Tahoma"/>
                <a:ea typeface="Tahoma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67" name="AutoShape 12"/>
          <p:cNvSpPr/>
          <p:nvPr/>
        </p:nvSpPr>
        <p:spPr>
          <a:xfrm rot="20169600">
            <a:off x="3522600" y="3958920"/>
            <a:ext cx="893880" cy="288720"/>
          </a:xfrm>
          <a:prstGeom prst="rightArrow">
            <a:avLst>
              <a:gd name="adj1" fmla="val 50000"/>
              <a:gd name="adj2" fmla="val 77400"/>
            </a:avLst>
          </a:prstGeom>
          <a:solidFill>
            <a:srgbClr val="0099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68" name="Text Box 13"/>
          <p:cNvSpPr/>
          <p:nvPr/>
        </p:nvSpPr>
        <p:spPr>
          <a:xfrm>
            <a:off x="4067280" y="5373720"/>
            <a:ext cx="4681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ри плавании на поверхности, объем погружённой части тела </a:t>
            </a:r>
            <a:r>
              <a:rPr b="1" lang="en-US" sz="1800" spc="-1" strike="noStrike">
                <a:solidFill>
                  <a:srgbClr val="3366ff"/>
                </a:solidFill>
                <a:latin typeface="Tahoma"/>
              </a:rPr>
              <a:t>V&lt;V</a:t>
            </a:r>
            <a:r>
              <a:rPr b="1" lang="ru-RU" sz="1800" spc="-1" strike="noStrike" baseline="-25000">
                <a:solidFill>
                  <a:srgbClr val="3366ff"/>
                </a:solidFill>
                <a:latin typeface="Tahoma"/>
              </a:rPr>
              <a:t>т</a:t>
            </a: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9933"/>
                </a:solidFill>
                <a:latin typeface="Centaur"/>
              </a:rPr>
              <a:t>О каком плавающем теле идёт речь?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Сегодня над морем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Большая жара;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А в море плывёт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Ледяная гора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Плывёт и, наверное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Считает: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Она и в жару не растает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1" name="PubOvalCallout"/>
          <p:cNvSpPr/>
          <p:nvPr/>
        </p:nvSpPr>
        <p:spPr>
          <a:xfrm>
            <a:off x="5219640" y="3213000"/>
            <a:ext cx="2305080" cy="2448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А если в океане керосин?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572" name="Picture 4" descr="j0336396"/>
          <p:cNvPicPr/>
          <p:nvPr/>
        </p:nvPicPr>
        <p:blipFill>
          <a:blip r:embed="rId1"/>
          <a:stretch/>
        </p:blipFill>
        <p:spPr>
          <a:xfrm>
            <a:off x="6084720" y="5300640"/>
            <a:ext cx="1171800" cy="12254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7" descr="Айсберг"/>
          <p:cNvPicPr/>
          <p:nvPr/>
        </p:nvPicPr>
        <p:blipFill>
          <a:blip r:embed="rId2"/>
          <a:stretch/>
        </p:blipFill>
        <p:spPr>
          <a:xfrm>
            <a:off x="5435640" y="1052640"/>
            <a:ext cx="3203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Rectangle 2" descr=""/>
          <p:cNvPicPr/>
          <p:nvPr/>
        </p:nvPicPr>
        <p:blipFill>
          <a:blip r:embed="rId1"/>
          <a:stretch/>
        </p:blipFill>
        <p:spPr>
          <a:xfrm>
            <a:off x="103320" y="1620720"/>
            <a:ext cx="8547120" cy="18907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j0290336"/>
          <p:cNvPicPr/>
          <p:nvPr/>
        </p:nvPicPr>
        <p:blipFill>
          <a:blip r:embed="rId2"/>
          <a:stretch/>
        </p:blipFill>
        <p:spPr>
          <a:xfrm>
            <a:off x="179280" y="333360"/>
            <a:ext cx="2644920" cy="12254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j0199841"/>
          <p:cNvPicPr/>
          <p:nvPr/>
        </p:nvPicPr>
        <p:blipFill>
          <a:blip r:embed="rId3"/>
          <a:stretch/>
        </p:blipFill>
        <p:spPr>
          <a:xfrm>
            <a:off x="7380360" y="5084640"/>
            <a:ext cx="132408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WordArt 5"/>
          <p:cNvSpPr txBox="1"/>
          <p:nvPr/>
        </p:nvSpPr>
        <p:spPr>
          <a:xfrm>
            <a:off x="755640" y="907920"/>
            <a:ext cx="6769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вы условия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авания тел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жидкости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8" name="Picture 8" descr="j0232155"/>
          <p:cNvPicPr/>
          <p:nvPr/>
        </p:nvPicPr>
        <p:blipFill>
          <a:blip r:embed="rId1"/>
          <a:stretch/>
        </p:blipFill>
        <p:spPr>
          <a:xfrm>
            <a:off x="7236000" y="2781360"/>
            <a:ext cx="153324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Экспериментальные задания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353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Задание группе 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1. Пронаблюдайте, какие из предложенных тел тонут, и какие плавают в воде. </a:t>
            </a:r>
            <a:endParaRPr b="0" lang="en-US" sz="23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2. Найдите в  предложенной для вас таблице плотности, соответствующих веществ и сравните с плотностью воды. </a:t>
            </a:r>
            <a:endParaRPr b="0" lang="en-US" sz="23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3. Результаты оформите в виде таблицы.</a:t>
            </a:r>
            <a:endParaRPr b="0" lang="en-US" sz="23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Оборудование: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осуд с водой и набор тел: стальной гвоздь, фарфоровый ролик, сосновый брусок, пробка, минерал – пемза, пенопласт, брусок из алюминия, резиновая пробка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1042920" y="3429000"/>
          <a:ext cx="6697800" cy="1166760"/>
        </p:xfrm>
        <a:graphic>
          <a:graphicData uri="http://schemas.openxmlformats.org/drawingml/2006/table">
            <a:tbl>
              <a:tblPr/>
              <a:tblGrid>
                <a:gridCol w="2233800"/>
                <a:gridCol w="2230200"/>
                <a:gridCol w="2233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отность жидкост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отность веществ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нет или нет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Задание группе 2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Сравните глубину погружения в воде деревянного и пенопластового кубиков одинаковых размеров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Выясните, отличается ли глубина погружения деревянного кубика в жидкости разной плотности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ультат опыта представить на рисунке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Оборудование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два сосуда (с водой и с маслом), деревянный и пенопластовый кубики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826920" y="3645000"/>
            <a:ext cx="813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Задание группе 3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Сравните архимедову силу, действующую на каждую из пробирок, с силой тяжести каждой пробирки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Сделайте выводы на основании результатов опытов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Оборудование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ензурка, динамометр, две пробирки с песком (пробирки с песком должны плавать в воде, погрузившись на разную глубину)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5:57:14Z</dcterms:created>
  <dc:creator>Glav</dc:creator>
  <dc:description/>
  <dc:language>en-US</dc:language>
  <cp:lastModifiedBy>user</cp:lastModifiedBy>
  <dcterms:modified xsi:type="dcterms:W3CDTF">2015-03-15T15:03:41Z</dcterms:modified>
  <cp:revision>43</cp:revision>
  <dc:subject/>
  <dc:title>Урок -  исследование  «Выяснение условий плавания тел»</dc:title>
</cp:coreProperties>
</file>