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181-526A-4748-A8C6-90CAECA1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888-7422-4679-89C0-7C7359C3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428-5788-418C-99F9-F81E31E4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E53-563B-42EA-9BC8-5497137D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9F8-1B9A-40BC-9C6F-59E848C5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8DE-8936-4E64-8001-5307D2A6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3BE-327D-4BC4-AC9A-34423681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74C-36E5-408B-A14B-694A0C29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DE3-00C9-4286-8F44-2656FD63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F98-6430-44CC-A281-95377EAC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DE5-6003-46FF-BB3F-385FAB1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BA0-95C0-49C0-9816-1782EF0F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F032-2FF0-4A82-8017-D5D401257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,7·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 ­ (2,5·y + 12,4) = 1,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71680" y="2714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,5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 ­ (2,3·x + 3,8) = 4,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714240"/>
            <a:ext cx="85870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огда и кем были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ново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зобретены десятичные дроб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399960" y="2797200"/>
            <a:ext cx="1357560" cy="19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1828800" y="2797200"/>
            <a:ext cx="1357200" cy="19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3257640" y="2797200"/>
            <a:ext cx="1357200" cy="19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686480" y="2797200"/>
            <a:ext cx="1357200" cy="19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6114960" y="2797200"/>
            <a:ext cx="1357560" cy="19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7543800" y="2797200"/>
            <a:ext cx="1357200" cy="19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714240"/>
            <a:ext cx="85870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то изложил в России учение о десятичных дробя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3143160"/>
            <a:ext cx="1000080" cy="13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1071720" y="3143160"/>
            <a:ext cx="928440" cy="13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2071800" y="3143160"/>
            <a:ext cx="928440" cy="13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071880" y="3143160"/>
            <a:ext cx="928800" cy="13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071960" y="3143160"/>
            <a:ext cx="928800" cy="13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5072040" y="3143160"/>
            <a:ext cx="928800" cy="13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6072120" y="3143160"/>
            <a:ext cx="928800" cy="13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7072200" y="3143160"/>
            <a:ext cx="928800" cy="13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8072280" y="3143160"/>
            <a:ext cx="928800" cy="133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ак называется прибор, выполнявший все четыре арифметических действия, который был создан в 1673г. немецким математиком Лейбнице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485784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928800" y="485784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1857240" y="4857840"/>
            <a:ext cx="85752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786040" y="485784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3714840" y="485784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643280" y="4857840"/>
            <a:ext cx="85752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5572080" y="485784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6500880" y="485784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7429680" y="485784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8358120" y="4857840"/>
            <a:ext cx="78588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Что означает в переводе с греческого слово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еометрия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928800" y="400068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857240" y="4000680"/>
            <a:ext cx="85752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2786040" y="400068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3714840" y="400068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643280" y="4000680"/>
            <a:ext cx="85752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5572080" y="400068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500880" y="400068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7429680" y="400068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8358120" y="4000680"/>
            <a:ext cx="78588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0" y="4000680"/>
            <a:ext cx="857160" cy="13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35:32Z</dcterms:created>
  <dc:creator>Oleg</dc:creator>
  <dc:description/>
  <dc:language>en-US</dc:language>
  <cp:lastModifiedBy>Oleg</cp:lastModifiedBy>
  <dcterms:modified xsi:type="dcterms:W3CDTF">2010-12-01T19:04:55Z</dcterms:modified>
  <cp:revision>9</cp:revision>
  <dc:subject/>
  <dc:title>4,7·y ­ (2,5·y + 12,4) = 1,9</dc:title>
</cp:coreProperties>
</file>