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220-198E-4A57-8378-113D4EE3B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ка  методических пособ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BF94-4D65-4694-A2C8-FF28C8AAD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ка  методических пособ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4A21-7827-4F01-8EA2-4E9E17CA1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е на методической неделе воспита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8AC-2B00-404A-B61A-E02FA0E83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C96-A69C-4DE3-8AA3-A97754CA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FD4-A3AD-4686-BC9C-C8D84DB0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579-DA54-4415-BFC8-42E68DE6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A95-2634-40B1-A217-B9693299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014-5BD5-433C-BE53-9F84951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646-E356-4571-B349-815E8E17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D70-E456-4AD8-9545-53AC8145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202-E2B3-4666-BB12-888EA0A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2E9-44D2-45D8-9954-366336C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68B-3483-47E0-A7C5-47F4A5B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E17-CDC5-42D2-B646-8A43B04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89D-1CE5-408A-B0DE-1E60E90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>
                <a:alpha val="74117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270E-E789-4846-9ED0-BCC64C77B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692280" y="428760"/>
            <a:ext cx="75596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одическое объеди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тел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357120" y="1714680"/>
            <a:ext cx="6786720" cy="2288520"/>
          </a:xfrm>
          <a:prstGeom prst="rect">
            <a:avLst/>
          </a:prstGeom>
          <a:solidFill>
            <a:srgbClr val="f07f09"/>
          </a:solidFill>
          <a:ln w="38160">
            <a:solidFill>
              <a:srgbClr val="4ea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тодическая 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руппы № 3 отделения социальной реабили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теля Бижановой А.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fb121ce78ae"/>
          <p:cNvPicPr/>
          <p:nvPr/>
        </p:nvPicPr>
        <p:blipFill>
          <a:blip r:embed="rId1"/>
          <a:stretch/>
        </p:blipFill>
        <p:spPr>
          <a:xfrm>
            <a:off x="6357960" y="3929040"/>
            <a:ext cx="2289240" cy="2482920"/>
          </a:xfrm>
          <a:prstGeom prst="rect">
            <a:avLst/>
          </a:prstGeom>
          <a:ln w="127080">
            <a:solidFill>
              <a:srgbClr val="0070c0"/>
            </a:solidFill>
            <a:miter/>
          </a:ln>
        </p:spPr>
      </p:pic>
    </p:spTree>
  </p:cSld>
  <p:transition spd="med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:\Documents\Люся\Работа\Социал. работа\Методическая работа\МН гр. 3\IMG_2095.JPG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:\Documents\Люся\Работа\Социал. работа\Методическая работа\МН гр. 3\IMG_2096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8 фото\DSC01811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5285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ижанова А.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руппы №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Documents\Люся\Работа\Социал. работа\Методическая работа\МН гр. 3\SDC10668.JPG"/>
          <p:cNvPicPr/>
          <p:nvPr/>
        </p:nvPicPr>
        <p:blipFill>
          <a:blip r:embed="rId1"/>
          <a:stretch/>
        </p:blipFill>
        <p:spPr>
          <a:xfrm>
            <a:off x="1214280" y="285840"/>
            <a:ext cx="7000920" cy="4857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0104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50141b"/>
                </a:solidFill>
                <a:latin typeface="Calibri"/>
              </a:rPr>
              <a:t>Выставка </a:t>
            </a:r>
            <a:br>
              <a:rPr sz="3800"/>
            </a:br>
            <a:r>
              <a:rPr b="1" i="1" lang="ru-RU" sz="3800" spc="-1" strike="noStrike">
                <a:solidFill>
                  <a:srgbClr val="50141b"/>
                </a:solidFill>
                <a:latin typeface="Calibri"/>
              </a:rPr>
              <a:t>методического, дидактического, </a:t>
            </a:r>
            <a:br>
              <a:rPr sz="3800"/>
            </a:br>
            <a:r>
              <a:rPr b="1" i="1" lang="ru-RU" sz="3800" spc="-1" strike="noStrike">
                <a:solidFill>
                  <a:srgbClr val="50141b"/>
                </a:solidFill>
                <a:latin typeface="Calibri"/>
              </a:rPr>
              <a:t>наглядного материала </a:t>
            </a:r>
            <a:br>
              <a:rPr sz="3800"/>
            </a:br>
            <a:r>
              <a:rPr b="1" i="1" lang="ru-RU" sz="3800" spc="-1" strike="noStrike">
                <a:solidFill>
                  <a:srgbClr val="50141b"/>
                </a:solidFill>
                <a:latin typeface="Calibri"/>
              </a:rPr>
              <a:t>«Педагогическая копилка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ocuments\Люся\Работа\Социал. работа\Методическая работа\МН гр. 3\SDC10777.JPG"/>
          <p:cNvPicPr/>
          <p:nvPr/>
        </p:nvPicPr>
        <p:blipFill>
          <a:blip r:embed="rId1"/>
          <a:stretch/>
        </p:blipFill>
        <p:spPr>
          <a:xfrm>
            <a:off x="1714680" y="3000240"/>
            <a:ext cx="5518080" cy="3571920"/>
          </a:xfrm>
          <a:prstGeom prst="rect">
            <a:avLst/>
          </a:prstGeom>
          <a:ln w="50760">
            <a:solidFill>
              <a:srgbClr val="783f04"/>
            </a:solidFill>
            <a:miter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Documents\Люся\Работа\Социал. работа\Методическая работа\МН гр. 3\SDC10758.JPG"/>
          <p:cNvPicPr/>
          <p:nvPr/>
        </p:nvPicPr>
        <p:blipFill>
          <a:blip r:embed="rId1"/>
          <a:stretch/>
        </p:blipFill>
        <p:spPr>
          <a:xfrm>
            <a:off x="357120" y="339840"/>
            <a:ext cx="8501040" cy="60894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E:\Documents\Люся\Работа\Социал. работа\Методическая работа\МН гр. 3\SDC10759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E:\Documents\Люся\Работа\Социал. работа\Методическая работа\МН гр. 3\IMG_2084.JPG"/>
          <p:cNvPicPr/>
          <p:nvPr/>
        </p:nvPicPr>
        <p:blipFill>
          <a:blip r:embed="rId1"/>
          <a:stretch/>
        </p:blipFill>
        <p:spPr>
          <a:xfrm>
            <a:off x="500040" y="422280"/>
            <a:ext cx="8215200" cy="5792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Documents\Люся\Работа\Социал. работа\Методическая работа\МН гр. 3\IMG_2088.JPG"/>
          <p:cNvPicPr/>
          <p:nvPr/>
        </p:nvPicPr>
        <p:blipFill>
          <a:blip r:embed="rId1"/>
          <a:stretch/>
        </p:blipFill>
        <p:spPr>
          <a:xfrm>
            <a:off x="285840" y="231840"/>
            <a:ext cx="8572320" cy="6269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Documents\Люся\Работа\Социал. работа\Методическая работа\МН гр. 3\IMG_2089.JPG"/>
          <p:cNvPicPr/>
          <p:nvPr/>
        </p:nvPicPr>
        <p:blipFill>
          <a:blip r:embed="rId1"/>
          <a:stretch/>
        </p:blipFill>
        <p:spPr>
          <a:xfrm>
            <a:off x="285840" y="303120"/>
            <a:ext cx="8572320" cy="6197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E:\Documents\Люся\Работа\Социал. работа\Методическая работа\МН гр. 3\IMG_2091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143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йжан</cp:lastModifiedBy>
  <dcterms:modified xsi:type="dcterms:W3CDTF">2015-03-15T07:18:46Z</dcterms:modified>
  <cp:revision>43</cp:revision>
  <dc:subject/>
  <dc:title>Слайд 1</dc:title>
</cp:coreProperties>
</file>