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B882-8DEC-4E61-9ED7-7B64A377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A5B2-FB0E-4C7A-BCBB-9B5EB4EB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8121-B881-40F2-9601-06226FE1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DCC7-791A-4AE9-A649-255B4B06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8C50-C13B-4299-A52C-BE9A7BEA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B079-FC96-4227-B83E-D6D02F43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6540-11BE-42B2-9EDC-EBA94698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CFD8-AA6A-4CC0-84BB-5DCCB865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C94E-39DB-438C-AE2F-5E71317C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342B-AAB7-4D97-8D5E-538236BB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3EAB-1EC1-461C-9688-06F93268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F74E-022A-4A9A-BC2A-A80065A5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45B9-03E8-46D5-8800-0F4615B35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15:27:20Z</dcterms:created>
  <dc:creator>лена</dc:creator>
  <dc:description/>
  <dc:language>en-US</dc:language>
  <cp:lastModifiedBy>Лена</cp:lastModifiedBy>
  <dcterms:modified xsi:type="dcterms:W3CDTF">2015-03-15T15:31:1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