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3A8D-B40D-4DD5-892E-91A88D19FB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0D92-1084-4A26-8787-7A1E84EE470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84E8-FFBF-495A-A143-426560AC3A3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D544-1AB5-42B4-AD18-F626557F2AA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3C39-5B4F-44E5-93D0-56F72761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0A95-7950-4E52-ABF8-6B78FB1F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994-2038-4078-A74A-DF4E063C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F843-FE3D-45D5-A707-EDAC2254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1F8D-030D-4E2A-B7F6-00DC5F99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1195-7715-4D5A-920E-DC8AD9C3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E482-023E-4807-B06F-6BCA027C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15F0-F7EF-4B2B-9662-366405E6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EA91-16B5-4CEC-9C82-E7818F4D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1FA4-822C-47B9-AB61-150DEDFA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5DE8-B6B5-4397-8D1E-8DF9405C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D088-F346-451C-8207-09836EC6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277D-1EDB-4850-A90B-1C5023B3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B38E-915D-4DF0-A13F-9B5E5ADB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CC68-7C89-4D87-AF29-706B1DF0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2A11-ECA0-4E3E-80E4-A8E3E4BC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95CA-BA6A-4236-98BA-3CC75A5B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53AE2-8C83-4DC5-ACEF-230644AD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3C585-3BC7-4B0B-A92A-2B50675C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88B89-9328-4B77-9360-FE1464AC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6BC60-7ECB-4508-BB2A-FF2062CE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F35DD-2E26-4D1E-B1E2-B7D1B50F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9757-5DFA-4A8E-B9BB-9D3C87E8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5B635-4197-4369-A07D-CCA338B8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9520D-2F0F-4419-BB0B-2C5AE561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F9373-8819-43F3-AEF0-6C9EB52B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A9C5E-B764-4F0A-9761-FDE65D40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84E79-F62C-4DF8-A23E-17E9D153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CFD53-CD4C-4410-BE20-59F7E726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C5CA0-865F-4274-9FBF-74CF7206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939B5-E7F1-49F6-8B82-0B64075D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3CDAC-3998-4DE5-8A96-37633830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4210A-4279-4308-BE1E-C7C50EED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6C10-1987-4AF8-B150-27E29CB2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1A6F2-8B9C-4939-91C0-DA72C212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AEA94-D38F-4046-936B-84BB1853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C64EE-85D2-43C7-B174-704F6E84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C241A-369F-498A-8C3B-F548F6AE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05C28-60C7-4AAF-BAC8-0A563130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C3581-1044-4D6A-8F5F-352EFBDE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9C15D-1AB4-4F76-8AC1-53D25C49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54146-FFC8-41F1-92E1-0FD93279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DC124-729D-4A44-B211-B39F77A2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E4D77-A8E0-4317-B883-B4227AA1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DAAB-931C-4BC6-9DF7-63F6EFAE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0057D-91EC-4EF8-955A-2A4AC68B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85618-C6F9-402A-BA7E-08F34B22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927D2-5B9D-4570-B39F-529D15AA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B3229-1B69-4772-BBCB-20848A82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1AA60-13EB-433B-9917-B680F8FA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AE809-C9A2-4CBE-B026-C684A299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A4AA1-6C6F-45F5-8E24-31F76087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6B6D6-DC68-4EB3-8162-3A741D86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31757-2A71-4A44-A0EC-987C3514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73455-4BD6-4023-B2D6-77DF654E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83A6-7D2D-4635-BC3A-9CA481C5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B3ACF-B1A3-4F37-9976-618AF621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622A1-C242-4DB4-95F3-DF7366DC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AB79D-39C7-492B-BF6A-2548FE9A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F06C7-B56F-45C9-8EA2-8F2E5EF7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EDF26-90E4-49FD-BF76-E16D13F1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9D043-2E17-41D3-BF27-069D91A3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E65AE-A0E6-478A-A8E8-3A7E0CA9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9D0C5-B451-4B13-9212-52608C96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C69AF-8B29-4B1E-925C-75E83AD6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F034A-8E6A-4E92-9E8F-02DDD0F7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5D3-647A-4484-B7A2-8257D624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9525D-EC7B-4084-B0CF-93A250B5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F23A0-D2C8-40E2-BE9F-3F20078B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C5C95-B353-4431-BF73-8E7A098E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42EAC-11E9-491D-8C37-F72BD193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2E95A-F013-4CDE-BD04-B8089E1D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3035A-4A56-4480-BC9F-3BB1D4C4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21625-C705-4DD4-A3DF-311F0C56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49BD9-4CD8-408A-A344-536B2A7E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256A2-B413-4CF9-8453-938FB71E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C7ECF-AA75-452F-A798-CBAA4858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E04-08CD-422E-95AF-228E6B19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833EE-AB70-42AE-81FE-6FF7E6B7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3A345-359C-4815-8500-7902307F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27927-0B0B-4CA7-838C-11A34BA1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6183A-6AD6-453C-BCE7-F9AD010D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29497-84AE-4D90-8CD0-CA2162C3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C4360-B3E6-44CD-83DE-FEB050EE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672EE-B425-4C48-B15A-2EE85872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219D6-7482-4510-90D2-6ED38D80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D1D2A-9FF2-4683-8F80-E3AF3831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AB44D-A91F-4C2D-932B-C23FA27F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9B1B-00D1-417F-9B38-B2787CF3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778F0-63A5-4AB8-A1D4-72461A73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BAD85-71A4-4A70-88AC-CA5320AA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3515C-70EF-44EC-ABF0-2ADCB428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163AE-7930-4342-B725-7CE8E80F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5854C-13F9-408C-842F-D5A29C77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E9CA6-F370-4026-A655-7DA63DCA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5E24E-706B-4864-A5A8-E5FF3AA7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3836-B411-4595-9982-F66528FE722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CBC9-F813-47A1-BDFF-F21C089BA6F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961E-D1F3-4300-A0F5-E14C747B64F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68AD-A1DE-4B4D-BD6E-B6EDD959F2F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5F57-19EA-442C-B5DE-8B47361FE0C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998E-F28C-4CC4-8595-C9C80FB29BF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1C5F-1496-41A9-8FAA-60432D5D10C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A81F-F29A-4B02-9C12-EF2F6734A28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999720" y="4714560"/>
            <a:ext cx="6286680" cy="14292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Unicode MS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1280" y="1413000"/>
            <a:ext cx="7273800" cy="22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.Н. Толстой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водный урок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 роману "Война и мир"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012000" y="443700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готовила: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апкаева Н.С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-468360" y="-316080"/>
            <a:ext cx="10296720" cy="75614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 flipH="1" flipV="1">
            <a:off x="-720" y="2205000"/>
            <a:ext cx="5003640" cy="4176720"/>
          </a:xfrm>
          <a:prstGeom prst="vertic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4284720" y="189000"/>
            <a:ext cx="4859280" cy="3887640"/>
          </a:xfrm>
          <a:prstGeom prst="vertic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611280" y="2276640"/>
            <a:ext cx="3673440" cy="35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comic"/>
              </a:rPr>
              <a:t>РЪ – </a:t>
            </a: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вселенная, весь свет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все люди; крестьянская общи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5435640" y="692280"/>
            <a:ext cx="302400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МИРЪ – </a:t>
            </a: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отсутствие войны, согласие, тишина, покой</a:t>
            </a: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260280"/>
            <a:ext cx="43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nformal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Informal Roman"/>
              </a:rPr>
              <a:t>противостояние войны и мира (антитеза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4716360" y="4221000"/>
            <a:ext cx="39610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d6ec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comic"/>
              </a:rPr>
              <a:t>война вторгается в жизнь ми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buClr>
                <a:srgbClr val="d6ec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comic"/>
              </a:rPr>
              <a:t>участие в войне крестьянского ми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4500720" y="260280"/>
            <a:ext cx="1511280" cy="287280"/>
          </a:xfrm>
          <a:prstGeom prst="leftArrow">
            <a:avLst>
              <a:gd name="adj1" fmla="val 50000"/>
              <a:gd name="adj2" fmla="val 131516"/>
            </a:avLst>
          </a:prstGeom>
          <a:solidFill>
            <a:srgbClr val="4e5b6f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1979640" y="5950080"/>
            <a:ext cx="1511280" cy="287280"/>
          </a:xfrm>
          <a:prstGeom prst="leftArrow">
            <a:avLst>
              <a:gd name="adj1" fmla="val 50000"/>
              <a:gd name="adj2" fmla="val 131516"/>
            </a:avLst>
          </a:prstGeom>
          <a:solidFill>
            <a:srgbClr val="4e5b6f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olas"/>
              </a:rPr>
              <a:t>Война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onsolas"/>
              </a:rPr>
              <a:t>Важнейшие действия враждующих армий.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onsolas"/>
              </a:rPr>
              <a:t>Воинственная враждебность людей, разделенных социальными и нравственными барьерами.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onsolas"/>
              </a:rPr>
              <a:t>Зло, насилие, кровопролитие.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onsolas"/>
              </a:rPr>
              <a:t>Разъединение людей, непонимание, эгоизм.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onsolas"/>
              </a:rPr>
              <a:t>Конфликт человека с самим собой.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onsolas"/>
              </a:rPr>
              <a:t>Все, что разрушает гармонию.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onsolas"/>
              </a:rPr>
              <a:t>Это смерть.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259920"/>
            <a:ext cx="698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13840"/>
            <a:ext cx="74674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йна             Мир -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ъ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0" y="1285560"/>
            <a:ext cx="41148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«неприязнь, борьба, ссора, дуэль, насильственная смерть»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Неверность супругов (дуэль Пьера и Долохова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Судьба Наташи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Конфликт поколений (Марья и старик Болконский, Николай Ростов - отец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785840" y="1285560"/>
            <a:ext cx="40006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«быт» людей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Быт на войне гусар, смотры, советы, плен, смерть отца Болконского, жены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общество, община людей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а образов романа «Война и мир»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28760" y="1071720"/>
            <a:ext cx="7858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2376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"/>
              <a:tabLst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Принцип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титезы</a:t>
            </a: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 – основа композиции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0880" indent="-2376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"/>
              <a:tabLst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принцип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раллелизма</a:t>
            </a: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 – основа системы образов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0880" indent="-237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0880" indent="-2376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"/>
              <a:tabLst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Французский император – русский император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0880" indent="-2376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"/>
              <a:tabLst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Отношение русских солдат к Аустерлицкому сражению противопоставлено их отношению к Бородинской битве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0880" indent="-2376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"/>
              <a:tabLst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Метание Пьера в поисках идеала – рассуждения Андрея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0880" indent="-237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0880" indent="-237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рои романа – эпопеи делятся на 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0880" indent="-237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0880" indent="-2376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Семьи «любимые» и «нелюбимые»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0880" indent="-2376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Противопоставлены друг другу патриоты и карьеристы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0880" indent="-2376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естественность  поведения – искусственность поведения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0880" indent="-2376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0880" indent="-2376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     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Два противн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4" name="Picture 5" descr="C:\Users\User\Desktop\Иллюстрации к роману Война и мир. 10 кл\Наполеон в императорской мантии.jpeg"/>
          <p:cNvPicPr/>
          <p:nvPr/>
        </p:nvPicPr>
        <p:blipFill>
          <a:blip r:embed="rId1"/>
          <a:stretch/>
        </p:blipFill>
        <p:spPr>
          <a:xfrm>
            <a:off x="755640" y="1413000"/>
            <a:ext cx="3456000" cy="43923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4932360" y="1484280"/>
            <a:ext cx="3456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жанр романа «Война и мир»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0" y="999720"/>
            <a:ext cx="51436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 том – 1805 г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II </a:t>
            </a: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том – 1806-1811 гг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III </a:t>
            </a: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том – 1812 г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IV </a:t>
            </a: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том – 1812-1813 гг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Эпилог – 1820 г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Роман-эпопе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Начало публикации</a:t>
            </a:r>
            <a:r>
              <a:rPr b="0" lang="ru-RU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 – 1865 г. «1805 год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Критика за неумелое обращение с историческими фактами, несоответствие жанровому канону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68" name="Picture 2" descr="C:\Documents and Settings\АННА\Мои документы\Мои рисунки\Толстой\ebe8268d1a6dd2e7c66121419d7b.jpg"/>
          <p:cNvPicPr/>
          <p:nvPr/>
        </p:nvPicPr>
        <p:blipFill>
          <a:blip r:embed="rId1"/>
          <a:stretch/>
        </p:blipFill>
        <p:spPr>
          <a:xfrm>
            <a:off x="5214960" y="1071720"/>
            <a:ext cx="378612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   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 жанра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00080" y="1071360"/>
            <a:ext cx="742968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ман-эпопея</a:t>
            </a: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 – картины истории (Шенграбенское, Аустерлицкое сражения, Тильзитский мир, война 1812 г, пожар Москвы, партизанское движение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Хронология роман 15 лет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Общественно-политическая жизнь: масонство, деятельность Сперанского, общества декабристов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Отношение помещиков и крестьян: преобразования Пьера, Андрея, бунт в Богучарове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Показ различных слоев населения: поместное, московское, петербургское дворянство, чиновники, армия, крестьяне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Широкая панорама дворянской жизни: балы, приемы, обеды, охота, театр.  600  действующих лиц и характеров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Широкий охват географического пространства: Петербург, Москва, Отрадное, Лысые Горы, Австрия, Смоленск, Бородино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</a:t>
            </a:r>
            <a:br>
              <a:rPr sz="40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чала века                   середины века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57120" y="1285560"/>
            <a:ext cx="37576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Главная проблема – судьба народа, основа нравственных и моральных устоев общества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Роль дворянства, его влияние на жизнь общества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Истинный и ложный патриотизм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Назначение женщины – сохранение семьи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071960" y="1356840"/>
            <a:ext cx="49291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Судьба народа – реформы 60-ых</a:t>
            </a:r>
            <a:r>
              <a:rPr b="0" lang="en-US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гг., отмена крепостного прав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Начало разночинского движ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Вопрос о патриотизме, поражение в Крымской войн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Женская эмансипац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романа.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75" name="Picture 2" descr="C:\Documents and Settings\АННА\Мои документы\Мои рисунки\Толстой\58815----.jpg"/>
          <p:cNvPicPr/>
          <p:nvPr/>
        </p:nvPicPr>
        <p:blipFill>
          <a:blip r:embed="rId1"/>
          <a:stretch/>
        </p:blipFill>
        <p:spPr>
          <a:xfrm>
            <a:off x="0" y="1143000"/>
            <a:ext cx="3786120" cy="55720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4000680" y="1071720"/>
            <a:ext cx="5000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Роль личности и народа в истори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Тема опасности для общества сильной исторической личности, стоящей над народом и диктующей свою волю миллиона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Жизненный путь лучших представителей нации, поставивших своею целью служение Отечеству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Сплочение народа в дни  сложных испытаний, раскрытие духовной красота и велич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2560" y="428760"/>
            <a:ext cx="87152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Домашнее зада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2123640" y="1341360"/>
            <a:ext cx="48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Выучить записи , сделанные в ходе урока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Прочитать 1 том романа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         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бы жить честно 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29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143240" cy="528624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286160" y="1285920"/>
            <a:ext cx="4857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детстве много пережил, перечувствовал, перечитал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…к жизни нужно относится очень серьезно»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л писателем, публицистом, педагогом, художником, иллюстратором, музыковедом, лесоводом, шахматистом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необыкновенный гений»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что назначено, непременно исполнить», «заставь ум свой постоянно работать», «ищи в других людях только хорошее»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Делай то, что должно, и все на благо другим»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b8803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     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План урока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Краткий биографический экскурс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Творческая история роман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Смысл названия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Система образо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Жанровое своеобрази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Проблематика роман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Особенности композиц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746748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2a5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44 - 1851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856800" y="1356840"/>
            <a:ext cx="79297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Казанский университет – филологический -  юридический факультет, исключили за нерадение, неуспеваемость по истории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«История – собрание басен и бесполезных мелочей, которые никак не помогают улучшить судьбу человека» - эта позиция отражена в романе «Война и мир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Увлечен философией Ж.-Ж. Руссо – исправить мир можно только через самосовершенствование: ведет дневники, хочет изучить 11 языков, основы лесоводства, музыку, иллюстраци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Попытка сблизиться и помочь крестьянам. Его считают чудаком («Утро помещика»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51-1855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7" name="Picture 3" descr="C:\Documents and Settings\АННА\Мои документы\Мои рисунки\Толстой\7699739.jpg"/>
          <p:cNvPicPr/>
          <p:nvPr/>
        </p:nvPicPr>
        <p:blipFill>
          <a:blip r:embed="rId1"/>
          <a:stretch/>
        </p:blipFill>
        <p:spPr>
          <a:xfrm>
            <a:off x="142920" y="1214280"/>
            <a:ext cx="3567240" cy="51436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857400" y="1143000"/>
            <a:ext cx="50720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вказ</a:t>
            </a:r>
            <a:r>
              <a:rPr b="0" lang="en-US" sz="2400" spc="-1" strike="noStrike">
                <a:solidFill>
                  <a:srgbClr val="0082a5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– изучает горские языки, быт, культуру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етство. Отрочество. Юность», «Казаки»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«Учеником в литературе не был, сразу - великим»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Новатор в раскрытии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иалектики души» </a:t>
            </a:r>
            <a:r>
              <a:rPr b="0" lang="en-US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- особого психологизма, как развивается человеческое сознание. «Люди как реки»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Участвует в обороне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вастополя</a:t>
            </a:r>
            <a:r>
              <a:rPr b="0" lang="en-US" sz="24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, награжден именным оружием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изненное кредо Толстого</a:t>
            </a:r>
            <a:br>
              <a:rPr sz="4800"/>
            </a:br>
            <a:r>
              <a:rPr b="0" lang="en-US" sz="40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Чтобы жить честно, </a:t>
            </a:r>
            <a:br>
              <a:rPr sz="4000"/>
            </a:br>
            <a:r>
              <a:rPr b="0" lang="en-US" sz="40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надо рваться, путаться, биться, ошибаться, начинать и бросать,                    и опять начинать, и опять бросать. </a:t>
            </a:r>
            <a:br>
              <a:rPr sz="4000"/>
            </a:br>
            <a:r>
              <a:rPr b="0" lang="en-US" sz="40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И вечно бороться, и лишаться. </a:t>
            </a:r>
            <a:br>
              <a:rPr sz="4000"/>
            </a:br>
            <a:r>
              <a:rPr b="0" lang="en-US" sz="40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А спокойствие – душевная подлость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произведения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63 </a:t>
            </a:r>
            <a:r>
              <a:rPr b="0" lang="ru-RU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– начало работы над романом «Война и мир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73 -77 гг</a:t>
            </a:r>
            <a:r>
              <a:rPr b="0" lang="ru-RU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.– работа над романом «Анна Каренина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79-82</a:t>
            </a:r>
            <a:r>
              <a:rPr b="0" lang="ru-RU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 – «Исповедь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84-86</a:t>
            </a:r>
            <a:r>
              <a:rPr b="0" lang="ru-RU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 – «Смерть Ивана Ильича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87 </a:t>
            </a:r>
            <a:r>
              <a:rPr b="0" lang="ru-RU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– «Крейцерова соната»,  пьеса «Власть тьмы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89</a:t>
            </a:r>
            <a:r>
              <a:rPr b="0" lang="ru-RU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 – печатается роман «Воскресенье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026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ойна и мир». Творческая история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9528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56 г.</a:t>
            </a:r>
            <a:r>
              <a:rPr b="0" lang="ru-RU" sz="2800" spc="-1" strike="noStrike">
                <a:solidFill>
                  <a:srgbClr val="0082a5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– начало замысла повест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екабристы»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Образ человека, через 30 лет оказавшегося в городе юности, где все переменилось, а он - прежни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25</a:t>
            </a:r>
            <a:r>
              <a:rPr b="0" lang="ru-RU" sz="2800" spc="-1" strike="noStrike">
                <a:solidFill>
                  <a:srgbClr val="0082a5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– восстание декабристов – «эпоха заблуждений и несчастий моего героя». Увидев мир без рабства, офицеры устыдились происходящего в России и почувствовали долг перед угнетенным народом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ри поры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12 год – </a:t>
            </a:r>
            <a:r>
              <a:rPr b="0" lang="ru-RU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«Чтобы понять его, мне нужно было перенестись в его молодость, которая совпала со славой Русского оружия – 1812 г.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05-1807 гг. </a:t>
            </a:r>
            <a:r>
              <a:rPr b="0" lang="ru-RU" sz="2800" spc="-1" strike="noStrike">
                <a:solidFill>
                  <a:srgbClr val="fed46c"/>
                </a:solidFill>
                <a:latin typeface="Times New Roman"/>
                <a:ea typeface="Times New Roman"/>
              </a:rPr>
              <a:t>– заграничные походы русской армии – «неудачи и срам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8803"/>
                </a:solidFill>
                <a:latin typeface="Consolas"/>
              </a:rPr>
              <a:t>     </a:t>
            </a:r>
            <a:r>
              <a:rPr b="1" lang="en-US" sz="4000" spc="-1" strike="noStrike">
                <a:solidFill>
                  <a:srgbClr val="eb8803"/>
                </a:solidFill>
                <a:latin typeface="Consolas"/>
              </a:rPr>
              <a:t>ВАРИАНТЫ ЗАГЛАВ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8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8803"/>
                </a:solidFill>
                <a:latin typeface="Corbel"/>
              </a:rPr>
              <a:t>«Три поры»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8803"/>
                </a:solidFill>
                <a:latin typeface="Corbel"/>
              </a:rPr>
              <a:t>«1805 год»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8803"/>
                </a:solidFill>
                <a:latin typeface="Corbel"/>
              </a:rPr>
              <a:t>«Все хорошо, что хорошо кончается»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5748480" y="1197000"/>
            <a:ext cx="33955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5:36:38Z</dcterms:created>
  <dc:creator>Юрий</dc:creator>
  <dc:description/>
  <dc:language>en-US</dc:language>
  <cp:lastModifiedBy>User</cp:lastModifiedBy>
  <dcterms:modified xsi:type="dcterms:W3CDTF">2015-02-15T13:04:10Z</dcterms:modified>
  <cp:revision>47</cp:revision>
  <dc:subject/>
  <dc:title>Слайд 1</dc:title>
</cp:coreProperties>
</file>