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DDA-9E3D-4EA5-8EBF-AA592D4C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D55-9DD4-4AC4-88EF-BDBD95C8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28F-7AAE-4D38-9684-5399F313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68A-CF53-4043-9620-DD449E11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EBD-FE48-407B-BC8D-C7B92220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858-2BF8-46E1-A732-5B045BC1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E24-41EB-4856-A8FA-9CBD5BAC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278-B561-431D-A0FD-576DF14B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D87-F9D9-42DB-AF91-0DE46616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7C7-5FCF-49E0-9861-13728E24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F91-F2A5-4F36-B96E-E9E5D478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4C6-57D3-4F1C-AAF1-47183D7A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A3B3-6454-4D22-875E-F7A7BBCE44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17083"/>
          <p:cNvPicPr/>
          <p:nvPr/>
        </p:nvPicPr>
        <p:blipFill>
          <a:blip r:embed="rId1"/>
          <a:stretch/>
        </p:blipFill>
        <p:spPr>
          <a:xfrm>
            <a:off x="-541440" y="20520"/>
            <a:ext cx="1022688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sp>
        <p:nvSpPr>
          <p:cNvPr id="72" name="Line 3"/>
          <p:cNvSpPr/>
          <p:nvPr/>
        </p:nvSpPr>
        <p:spPr>
          <a:xfrm>
            <a:off x="4572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4572000" y="5589720"/>
            <a:ext cx="120600" cy="14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4721400" y="4691160"/>
                <a:ext cx="6364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sp>
        <p:nvSpPr>
          <p:cNvPr id="76" name="Line 3"/>
          <p:cNvSpPr/>
          <p:nvPr/>
        </p:nvSpPr>
        <p:spPr>
          <a:xfrm>
            <a:off x="4572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2484360" y="2276640"/>
            <a:ext cx="120600" cy="14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1731960" y="1442880"/>
                <a:ext cx="5936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sp>
        <p:nvSpPr>
          <p:cNvPr id="80" name="Line 5"/>
          <p:cNvSpPr/>
          <p:nvPr/>
        </p:nvSpPr>
        <p:spPr>
          <a:xfrm>
            <a:off x="1042920" y="2205000"/>
            <a:ext cx="7489800" cy="0"/>
          </a:xfrm>
          <a:prstGeom prst="line">
            <a:avLst/>
          </a:prstGeom>
          <a:ln w="442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sp>
        <p:nvSpPr>
          <p:cNvPr id="82" name="Line 3"/>
          <p:cNvSpPr/>
          <p:nvPr/>
        </p:nvSpPr>
        <p:spPr>
          <a:xfrm>
            <a:off x="4572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3606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995640" y="38934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380360" y="285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23"/>
          <p:cNvSpPr/>
          <p:nvPr/>
        </p:nvSpPr>
        <p:spPr>
          <a:xfrm>
            <a:off x="4211640" y="2595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34"/>
          <p:cNvSpPr/>
          <p:nvPr/>
        </p:nvSpPr>
        <p:spPr>
          <a:xfrm>
            <a:off x="539640" y="2133720"/>
            <a:ext cx="8064720" cy="0"/>
          </a:xfrm>
          <a:prstGeom prst="line">
            <a:avLst/>
          </a:prstGeom>
          <a:ln w="442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6"/>
              <p:cNvSpPr txBox="1"/>
              <p:nvPr/>
            </p:nvSpPr>
            <p:spPr>
              <a:xfrm>
                <a:off x="7667640" y="1341360"/>
                <a:ext cx="652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Line 41"/>
          <p:cNvSpPr/>
          <p:nvPr/>
        </p:nvSpPr>
        <p:spPr>
          <a:xfrm flipV="1">
            <a:off x="4643280" y="2133720"/>
            <a:ext cx="2016360" cy="1224000"/>
          </a:xfrm>
          <a:prstGeom prst="line">
            <a:avLst/>
          </a:prstGeom>
          <a:ln w="442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2"/>
          <p:cNvSpPr/>
          <p:nvPr/>
        </p:nvSpPr>
        <p:spPr>
          <a:xfrm>
            <a:off x="6659640" y="1484280"/>
            <a:ext cx="28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4"/>
          <p:cNvSpPr/>
          <p:nvPr/>
        </p:nvSpPr>
        <p:spPr>
          <a:xfrm>
            <a:off x="4353840" y="2721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5"/>
          <p:cNvSpPr/>
          <p:nvPr/>
        </p:nvSpPr>
        <p:spPr>
          <a:xfrm>
            <a:off x="4353840" y="3874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360" y="-10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6"/>
              <p:cNvSpPr txBox="1"/>
              <p:nvPr/>
            </p:nvSpPr>
            <p:spPr>
              <a:xfrm>
                <a:off x="6732720" y="1341360"/>
                <a:ext cx="2854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0"/>
              <p:cNvSpPr txBox="1"/>
              <p:nvPr/>
            </p:nvSpPr>
            <p:spPr>
              <a:xfrm>
                <a:off x="2124000" y="1341360"/>
                <a:ext cx="443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sp>
        <p:nvSpPr>
          <p:cNvPr id="98" name="Line 3"/>
          <p:cNvSpPr/>
          <p:nvPr/>
        </p:nvSpPr>
        <p:spPr>
          <a:xfrm>
            <a:off x="4572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4643280" y="1989000"/>
            <a:ext cx="1873440" cy="13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6516720" y="2060640"/>
            <a:ext cx="0" cy="1297080"/>
          </a:xfrm>
          <a:prstGeom prst="line">
            <a:avLst/>
          </a:prstGeom>
          <a:ln w="442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 flipH="1">
            <a:off x="4643280" y="1989000"/>
            <a:ext cx="1873440" cy="0"/>
          </a:xfrm>
          <a:prstGeom prst="line">
            <a:avLst/>
          </a:prstGeom>
          <a:ln w="442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753360" y="1870560"/>
            <a:ext cx="8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sin 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6156360" y="3500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6661080" y="35002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66"/>
                </a:solidFill>
                <a:latin typeface="Arial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365440" y="285264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66"/>
                </a:solidFill>
                <a:latin typeface="Arial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rc 11"/>
          <p:cNvSpPr/>
          <p:nvPr/>
        </p:nvSpPr>
        <p:spPr>
          <a:xfrm>
            <a:off x="5148360" y="2997360"/>
            <a:ext cx="144360" cy="287280"/>
          </a:xfrm>
          <a:custGeom>
            <a:avLst/>
            <a:gdLst>
              <a:gd name="textAreaLeft" fmla="*/ 0 w 144360"/>
              <a:gd name="textAreaRight" fmla="*/ 144360 w 14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7020000" y="335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590160" y="155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4643280" y="1989000"/>
            <a:ext cx="1873440" cy="1368720"/>
          </a:xfrm>
          <a:prstGeom prst="line">
            <a:avLst/>
          </a:prstGeom>
          <a:ln w="442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sp>
        <p:nvSpPr>
          <p:cNvPr id="111" name="Line 3"/>
          <p:cNvSpPr/>
          <p:nvPr/>
        </p:nvSpPr>
        <p:spPr>
          <a:xfrm>
            <a:off x="4572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120600" cy="14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2968560" y="404640"/>
                <a:ext cx="5288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sp>
        <p:nvSpPr>
          <p:cNvPr id="117" name="Line 3"/>
          <p:cNvSpPr/>
          <p:nvPr/>
        </p:nvSpPr>
        <p:spPr>
          <a:xfrm>
            <a:off x="4572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2195640" y="3284640"/>
            <a:ext cx="120600" cy="144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2411280" y="2852640"/>
                <a:ext cx="39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sp>
        <p:nvSpPr>
          <p:cNvPr id="123" name="Line 3"/>
          <p:cNvSpPr/>
          <p:nvPr/>
        </p:nvSpPr>
        <p:spPr>
          <a:xfrm>
            <a:off x="4572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6300720" y="4869000"/>
            <a:ext cx="120600" cy="14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6589800" y="4838760"/>
                <a:ext cx="5331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sp>
        <p:nvSpPr>
          <p:cNvPr id="127" name="Line 3"/>
          <p:cNvSpPr/>
          <p:nvPr/>
        </p:nvSpPr>
        <p:spPr>
          <a:xfrm>
            <a:off x="4572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5724360" y="5300640"/>
            <a:ext cx="120960" cy="14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5651640" y="5516640"/>
                <a:ext cx="6141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039051B"/>
          <p:cNvPicPr/>
          <p:nvPr/>
        </p:nvPicPr>
        <p:blipFill>
          <a:blip r:embed="rId1"/>
          <a:stretch/>
        </p:blipFill>
        <p:spPr>
          <a:xfrm>
            <a:off x="2252520" y="-28440"/>
            <a:ext cx="463896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sp>
        <p:nvSpPr>
          <p:cNvPr id="131" name="Line 3"/>
          <p:cNvSpPr/>
          <p:nvPr/>
        </p:nvSpPr>
        <p:spPr>
          <a:xfrm>
            <a:off x="4572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120600" cy="144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2359080" y="646200"/>
                <a:ext cx="5364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4572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sp>
        <p:nvSpPr>
          <p:cNvPr id="46" name="Line 3"/>
          <p:cNvSpPr/>
          <p:nvPr/>
        </p:nvSpPr>
        <p:spPr>
          <a:xfrm>
            <a:off x="4572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6300720" y="1700280"/>
            <a:ext cx="120600" cy="144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5"/>
          <p:cNvSpPr/>
          <p:nvPr/>
        </p:nvSpPr>
        <p:spPr>
          <a:xfrm>
            <a:off x="4457160" y="29502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4456800" y="3646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18"/>
              <p:cNvSpPr txBox="1"/>
              <p:nvPr/>
            </p:nvSpPr>
            <p:spPr>
              <a:xfrm>
                <a:off x="6516720" y="836640"/>
                <a:ext cx="40464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120600" cy="14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4067280" y="0"/>
                <a:ext cx="40464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sp>
        <p:nvSpPr>
          <p:cNvPr id="56" name="Line 3"/>
          <p:cNvSpPr/>
          <p:nvPr/>
        </p:nvSpPr>
        <p:spPr>
          <a:xfrm>
            <a:off x="4572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6659640" y="4365720"/>
            <a:ext cx="120600" cy="14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6740640" y="4260960"/>
                <a:ext cx="6350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sp>
        <p:nvSpPr>
          <p:cNvPr id="60" name="Line 3"/>
          <p:cNvSpPr/>
          <p:nvPr/>
        </p:nvSpPr>
        <p:spPr>
          <a:xfrm>
            <a:off x="4572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2916360" y="4941720"/>
            <a:ext cx="120600" cy="144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2181240" y="4984920"/>
                <a:ext cx="6573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sp>
        <p:nvSpPr>
          <p:cNvPr id="64" name="Line 3"/>
          <p:cNvSpPr/>
          <p:nvPr/>
        </p:nvSpPr>
        <p:spPr>
          <a:xfrm>
            <a:off x="4572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120600" cy="14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6888240" y="1442880"/>
                <a:ext cx="37764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672240"/>
          </a:xfrm>
          <a:prstGeom prst="rect">
            <a:avLst/>
          </a:prstGeom>
          <a:ln w="0">
            <a:noFill/>
          </a:ln>
        </p:spPr>
      </p:pic>
      <p:sp>
        <p:nvSpPr>
          <p:cNvPr id="68" name="Line 3"/>
          <p:cNvSpPr/>
          <p:nvPr/>
        </p:nvSpPr>
        <p:spPr>
          <a:xfrm>
            <a:off x="4572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6877080" y="3284640"/>
            <a:ext cx="120600" cy="14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6589800" y="2817720"/>
                <a:ext cx="323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05:22:50Z</dcterms:created>
  <dc:creator>Comp</dc:creator>
  <dc:description/>
  <dc:language>en-US</dc:language>
  <cp:lastModifiedBy>user</cp:lastModifiedBy>
  <dcterms:modified xsi:type="dcterms:W3CDTF">2015-03-15T17:21:03Z</dcterms:modified>
  <cp:revision>21</cp:revision>
  <dc:subject/>
  <dc:title>Слайд 1</dc:title>
</cp:coreProperties>
</file>