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EEA-7335-41F0-9F3D-02C2AB5E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CB1-349C-45BC-B78F-BFB3EDDE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996-FE41-4C1D-B844-C6B04720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021-8EA8-4B16-8AC9-EEC6570F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DFB7-FE3E-4A88-B6C6-398448C4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9146-C798-4FAF-AB56-592A24C5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586-72F3-4FE4-94CD-352D6EB3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5AC7-D6B2-4A66-A1AA-4DD54BF0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FD39-5C6E-4D9E-B93D-F09E9F2F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3581-F763-466E-9327-61318756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4C68-11FE-43D7-91DB-7E65EEE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B9A-54F1-4E58-BF51-B4E0865E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C47-573E-4F4A-A6B2-F70F373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A36B-852C-48B5-8AD6-117816C7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B245-A230-4B29-95A0-E5F52DC1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B1D9-FD76-4D77-9897-73E1A673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543F-8DB4-44C7-A46E-A2FC863F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D0CE-539B-4046-BF7A-CAE76B1B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F037-1C32-4945-846B-1C43C437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4581-FB89-479B-B0EA-0065227F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97E0-0B2A-42F6-8C06-F5A75812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1C0E-076F-4F17-8CB0-504048DD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107-7A99-482A-A81D-4BA1E372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DABF-4F9C-4332-9AB0-920B74FF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F7D7-081D-4C13-8111-5B7A4E4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0492-C3F7-4032-A51E-7EA97D5D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644C-AA81-443F-BA07-3142067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DDE3-4F91-4A7B-A66E-9A516B39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7E91-7E36-494E-8191-BBE2FFB9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8022-319C-40AB-BF59-D1AC1FBA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B1ED-E15B-4477-8A6F-2F425FD7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81D3-E1E9-44A1-9F8C-A5A44E75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855C-92A2-4648-BA5C-E619885E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800-3F86-45A7-AE18-08A3477F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D2FA-41D6-46D9-A093-6A256C22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615C-E631-4F41-B6B9-11D92BD7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67D44-3537-4A74-A17D-9E38FED9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9462-8FA1-4D6A-915D-C3759F2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D0532-B37E-47C3-8724-7982C920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40FC-C3EF-45C7-8D5C-83AB2DA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22BA5-E978-4C80-91BE-9730E6C1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8BE14-CDB6-493C-93AF-F8E0A0A7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E4FD1-E31E-4A60-BBD0-4967F0A4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ACEC-87C6-4566-AE7E-DADB3BD6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D25-2CE1-4961-B843-F1E26B6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41C1-45FE-45AF-B17D-3626EBA5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C0B6-A190-4A92-8826-3EB42548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6D4F3-8E8F-4346-B0C1-2F7D8316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5C926-CF58-4AA1-A32A-623145F9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0CAC-A9C2-40C3-B340-312AD122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CD38-757C-46B4-8994-88C64B73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B36E-80DB-4F02-A307-7A3C7B94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9CEB3-31B9-4658-93EE-3AD269B8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5644-D723-4D4D-9C64-BDDDAC0F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6DD9-B4AB-4248-AAE3-6EC18354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BFF-C22C-4B78-A850-13852586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A79F-F42A-4AEA-A010-B6A3C360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7148-F832-4B8B-94D1-DBBF1C39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AF8B1-6C9F-4D88-931E-AD478529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BBAAB-EE42-4A16-9391-5EB873B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CEB5C-06EA-4FA6-88A8-EB9E6597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D056E-7A7C-4EE8-B468-BBB198C0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1CB5-86A6-4E9D-951D-40B345A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37441-5D55-46E9-89B8-3B12EEC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1A2B-BFA5-4C56-B0E0-0CB542B4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F7595-EEB4-4B5F-8ED9-242E523E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82E-321F-4C43-BCDB-983FD26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E95A1-CB92-428D-8C5F-399CA53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7CE4D-5067-401E-AEFC-9DBBCFA7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8DA2-0EDE-4F91-87C9-DE15EC34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FD707-8838-4CA8-A546-1E7FC16D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51C3-72FC-46C7-A2FA-044EA1D4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24B0A-3BF6-41F9-BF0F-80B2BCF1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61827-4291-4437-8C30-9967B48B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242B7-113D-42D6-9600-8D61E50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7E3B9-43C2-4F43-B131-9704586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A5CB4-9847-4C33-AF59-D5A0862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F87-1949-4588-A4A2-D65C78DF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191E1-C1AA-46D8-A85C-D405422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D3856-A4EF-42EF-AB21-4ED82DFC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1F65C-A192-4226-BFCA-4A734F88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0048C-A9BB-4B5A-8B6E-39F1D5FE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3CF5-6E9F-44A1-B213-6352D709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F7C-D1A2-4F56-ADF8-3CE20C5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A9BC-F973-497D-9AE6-3ABE935EE630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F153-6566-4E5D-AED3-5A87714775CE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1378-30A7-4C6E-B93B-9B39F6B236DB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D4EF-2363-4348-8C97-DCC4F4EC45AD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C005-BC5E-4EAB-9B90-9F7E2C9EBFEA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39C3-F6B1-47C2-ACEC-3CEA945CF77E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949B-3A94-484E-B7DF-85A24AE24F80}" type="slidenum">
              <a:rPr b="0" lang="ru-RU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ndara"/>
              </a:rPr>
              <a:t>Глаго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ndara"/>
              </a:rPr>
              <a:t>Урок русского язы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ndara"/>
              </a:rPr>
              <a:t>в 5 класс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втор: Свечкова А.Н.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БОУ СОШ № 10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лыб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612680" y="9525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лыб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ик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у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4612680" y="9525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лыб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ик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у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</a:t>
            </a:r>
            <a:r>
              <a:rPr b="0" lang="ru-RU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612680" y="9525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лыб</a:t>
            </a: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ик</a:t>
            </a:r>
            <a:r>
              <a:rPr b="0" lang="ru-RU" sz="3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у</a:t>
            </a: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ь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</a:t>
            </a:r>
            <a:r>
              <a:rPr b="0" lang="ru-RU" sz="3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ь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меять</a:t>
            </a:r>
            <a:r>
              <a:rPr b="0" lang="ru-RU" sz="37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я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612680" y="9525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кус блюду придаё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орошее настроение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этому перед подаче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люда на стол не забудьте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 повар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4" descr="j0250807"/>
          <p:cNvPicPr/>
          <p:nvPr/>
        </p:nvPicPr>
        <p:blipFill>
          <a:blip r:embed="rId1"/>
          <a:stretch/>
        </p:blipFill>
        <p:spPr>
          <a:xfrm>
            <a:off x="7236000" y="4255920"/>
            <a:ext cx="1630080" cy="1860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rcRect l="0" t="14883" r="13287" b="15050"/>
          <a:stretch/>
        </p:blipFill>
        <p:spPr>
          <a:xfrm>
            <a:off x="3165480" y="4616280"/>
            <a:ext cx="26337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628640"/>
            <a:ext cx="822960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удинг – запечённое блюдо из крупы, яиц с овощами или фруктами.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«Толковый словарь» С.И. Ожегов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динг из овоще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6" descr="j0250604"/>
          <p:cNvPicPr/>
          <p:nvPr/>
        </p:nvPicPr>
        <p:blipFill>
          <a:blip r:embed="rId1"/>
          <a:stretch/>
        </p:blipFill>
        <p:spPr>
          <a:xfrm>
            <a:off x="6372360" y="3968640"/>
            <a:ext cx="223200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Candara"/>
              </a:rPr>
              <a:t>    </a:t>
            </a:r>
            <a:r>
              <a:rPr b="0" i="1" lang="ru-RU" sz="1900" spc="-1" strike="noStrike">
                <a:solidFill>
                  <a:srgbClr val="404040"/>
                </a:solidFill>
                <a:latin typeface="Candara"/>
              </a:rPr>
              <a:t>Задание: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ndara"/>
              </a:rPr>
              <a:t>прочитайте рецепт;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ndara"/>
              </a:rPr>
              <a:t>вставьте пропущенные буквы;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404040"/>
                </a:solidFill>
                <a:latin typeface="Candara"/>
              </a:rPr>
              <a:t>обозначьте и объясните орфограммы, встретившиеся в словах на месте пропуско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ndara"/>
              </a:rPr>
              <a:t>Овощи  отварива..м. Отдельно раст..раем масло с желтками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ndara"/>
              </a:rPr>
              <a:t>(Не) торопитесь, ждите, когда овощная масса остудит(?)ся !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andara"/>
              </a:rPr>
              <a:t>Добавляем масло, желтки и зелёный горошек. После нужно  выложить овощи в форму и запеч.. в духовке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  <a:ea typeface="Trebuchet MS"/>
              </a:rPr>
              <a:t>Пудинг из овощей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4" descr="j0250604"/>
          <p:cNvPicPr/>
          <p:nvPr/>
        </p:nvPicPr>
        <p:blipFill>
          <a:blip r:embed="rId1"/>
          <a:stretch/>
        </p:blipFill>
        <p:spPr>
          <a:xfrm>
            <a:off x="790560" y="330120"/>
            <a:ext cx="16192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вощи  отварива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. Отдельно раст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ем масло с желтками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Не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ропитесь, ждите, когда овощная масса остуди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тс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!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бавляем масло, желтки и зелёный горошек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 нужно выложить овощи в форму и запеч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духовк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динг из овощей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8" descr="j0250604"/>
          <p:cNvPicPr/>
          <p:nvPr/>
        </p:nvPicPr>
        <p:blipFill>
          <a:blip r:embed="rId1"/>
          <a:stretch/>
        </p:blipFill>
        <p:spPr>
          <a:xfrm>
            <a:off x="971640" y="446040"/>
            <a:ext cx="16192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серт – фрукты, конфеты или сладкое блюдо, подаваемое в конце обеда.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«Толковый словарь» С.И. Ожегов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дание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рисуйте блюдо, которое вы приготовите на десерт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пишите пять глаголов, которы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сскажут, что вы дела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ерт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Picture 8" descr="j0290203"/>
          <p:cNvPicPr/>
          <p:nvPr/>
        </p:nvPicPr>
        <p:blipFill>
          <a:blip r:embed="rId1"/>
          <a:stretch/>
        </p:blipFill>
        <p:spPr>
          <a:xfrm>
            <a:off x="6372360" y="4724280"/>
            <a:ext cx="17636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638440" y="1797120"/>
            <a:ext cx="4167000" cy="37767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971640" y="-17136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999360" y="-171360"/>
            <a:ext cx="44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2679840" y="1355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679840" y="-44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0" y="-184320"/>
            <a:ext cx="93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 «Фантазёры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9800" y="-171360"/>
            <a:ext cx="7116480" cy="31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Trebuchet MS"/>
              </a:rPr>
              <a:t>Школа волшебных повар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771640" y="3428640"/>
            <a:ext cx="54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04040"/>
                </a:solidFill>
                <a:latin typeface="Candara"/>
              </a:rPr>
              <a:t>«Готовим     праздничный обед»</a:t>
            </a:r>
            <a:endParaRPr b="0" lang="en-US" sz="3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8" name="Picture 4" descr="j0361652"/>
          <p:cNvPicPr/>
          <p:nvPr/>
        </p:nvPicPr>
        <p:blipFill>
          <a:blip r:embed="rId1"/>
          <a:stretch/>
        </p:blipFill>
        <p:spPr>
          <a:xfrm>
            <a:off x="971640" y="3429000"/>
            <a:ext cx="1800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486160" y="1509840"/>
            <a:ext cx="4171680" cy="383832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971640" y="-171360"/>
            <a:ext cx="720072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 «Фантазёры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481120" y="1319040"/>
            <a:ext cx="4181760" cy="42199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971640" y="-44928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 «Фантазёры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j0215789"/>
          <p:cNvPicPr/>
          <p:nvPr/>
        </p:nvPicPr>
        <p:blipFill>
          <a:blip r:embed="rId1"/>
          <a:stretch/>
        </p:blipFill>
        <p:spPr>
          <a:xfrm>
            <a:off x="971640" y="3176640"/>
            <a:ext cx="3055680" cy="264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j0290203"/>
          <p:cNvPicPr/>
          <p:nvPr/>
        </p:nvPicPr>
        <p:blipFill>
          <a:blip r:embed="rId2"/>
          <a:stretch/>
        </p:blipFill>
        <p:spPr>
          <a:xfrm>
            <a:off x="6372360" y="3429000"/>
            <a:ext cx="2387520" cy="2352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j0250604"/>
          <p:cNvPicPr/>
          <p:nvPr/>
        </p:nvPicPr>
        <p:blipFill>
          <a:blip r:embed="rId3"/>
          <a:stretch/>
        </p:blipFill>
        <p:spPr>
          <a:xfrm>
            <a:off x="3633840" y="1628640"/>
            <a:ext cx="2914560" cy="2222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7"/>
          <p:cNvSpPr/>
          <p:nvPr/>
        </p:nvSpPr>
        <p:spPr>
          <a:xfrm>
            <a:off x="971640" y="-17136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879480" y="-1713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879480" y="13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879480" y="-171360"/>
            <a:ext cx="729288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товим  праздничный обед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гол обозначает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йствие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ывает предме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7" name="Picture 4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j0230674"/>
          <p:cNvPicPr/>
          <p:nvPr/>
        </p:nvPicPr>
        <p:blipFill>
          <a:blip r:embed="rId2"/>
          <a:stretch/>
        </p:blipFill>
        <p:spPr>
          <a:xfrm rot="16200000">
            <a:off x="2044440" y="4678200"/>
            <a:ext cx="10368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голы совершенного вида отвечают на вопрос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делать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сделать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1" name="Picture 4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j0230674"/>
          <p:cNvPicPr/>
          <p:nvPr/>
        </p:nvPicPr>
        <p:blipFill>
          <a:blip r:embed="rId2"/>
          <a:stretch/>
        </p:blipFill>
        <p:spPr>
          <a:xfrm rot="16395600">
            <a:off x="2654280" y="4671360"/>
            <a:ext cx="1036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д определяют у глаголо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стоящего времен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шедшег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емен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5" name="Picture 5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j0230674"/>
          <p:cNvPicPr/>
          <p:nvPr/>
        </p:nvPicPr>
        <p:blipFill>
          <a:blip r:embed="rId2"/>
          <a:stretch/>
        </p:blipFill>
        <p:spPr>
          <a:xfrm rot="16200000">
            <a:off x="2658960" y="4371840"/>
            <a:ext cx="10368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 глаголами пишетс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дельно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итно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9" name="Picture 4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j0230674"/>
          <p:cNvPicPr/>
          <p:nvPr/>
        </p:nvPicPr>
        <p:blipFill>
          <a:blip r:embed="rId2"/>
          <a:stretch/>
        </p:blipFill>
        <p:spPr>
          <a:xfrm rot="16200000">
            <a:off x="2658960" y="4371840"/>
            <a:ext cx="10368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п вы будете кушать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ожкой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лкой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вопро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3" name="Picture 4" descr="j0232167"/>
          <p:cNvPicPr/>
          <p:nvPr/>
        </p:nvPicPr>
        <p:blipFill>
          <a:blip r:embed="rId1"/>
          <a:stretch/>
        </p:blipFill>
        <p:spPr>
          <a:xfrm>
            <a:off x="2771640" y="3429000"/>
            <a:ext cx="922320" cy="1082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j0230674"/>
          <p:cNvPicPr/>
          <p:nvPr/>
        </p:nvPicPr>
        <p:blipFill>
          <a:blip r:embed="rId2"/>
          <a:stretch/>
        </p:blipFill>
        <p:spPr>
          <a:xfrm rot="16200000">
            <a:off x="2658960" y="4371840"/>
            <a:ext cx="10368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9800" y="162864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а волшебных повар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771640" y="3428640"/>
            <a:ext cx="54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Готовим     праздничный обед»</a:t>
            </a:r>
            <a:endParaRPr b="0" lang="en-US" sz="3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7" name="Picture 4" descr="j0361652"/>
          <p:cNvPicPr/>
          <p:nvPr/>
        </p:nvPicPr>
        <p:blipFill>
          <a:blip r:embed="rId1"/>
          <a:stretch/>
        </p:blipFill>
        <p:spPr>
          <a:xfrm>
            <a:off x="971640" y="3429000"/>
            <a:ext cx="1800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чных знаний!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ятного аппетита!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9" name="Picture 3" descr="j0361652"/>
          <p:cNvPicPr/>
          <p:nvPr/>
        </p:nvPicPr>
        <p:blipFill>
          <a:blip r:embed="rId1"/>
          <a:stretch/>
        </p:blipFill>
        <p:spPr>
          <a:xfrm>
            <a:off x="971640" y="3429000"/>
            <a:ext cx="1800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09800" y="1177920"/>
            <a:ext cx="7124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Цель: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вторить сведения о глаголе;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знать рецепты приготовления нескольких праздничных блюд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971280" y="1628280"/>
            <a:ext cx="7715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andara"/>
              </a:rPr>
              <a:t>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ndara"/>
              </a:rPr>
              <a:t>одеть?                         надеть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еть –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покрыть одеждой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гол употребляется с одушевлёнными существительными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имер: одеть (кого?) малыш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деть -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укрепить что-либо на чём-либо». Глагол употребляется с неодушевлёнными существительны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имер: надеть (что?) браслет, плащ, шапку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Trebuchet MS"/>
              </a:rPr>
              <a:t>Важное правил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j0223784"/>
          <p:cNvPicPr/>
          <p:nvPr/>
        </p:nvPicPr>
        <p:blipFill>
          <a:blip r:embed="rId1"/>
          <a:stretch/>
        </p:blipFill>
        <p:spPr>
          <a:xfrm>
            <a:off x="3900600" y="1628640"/>
            <a:ext cx="13428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628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дание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читайте рецепт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йдите  все глаголы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дчеркните глаголы как члены предлож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тварите мясо вместе с кореньями. В бульон нужно влить смесь муки с маслом, сметаной и желтками. Когда почувствуете, что суп почти сварился, то следите, чтобы смесь не булькала. Хорошо было бы добавить в суп ломтики лимона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 с лимоно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4" descr="j0215789"/>
          <p:cNvPicPr/>
          <p:nvPr/>
        </p:nvPicPr>
        <p:blipFill>
          <a:blip r:embed="rId1"/>
          <a:stretch/>
        </p:blipFill>
        <p:spPr>
          <a:xfrm>
            <a:off x="971640" y="154080"/>
            <a:ext cx="14824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71640" y="1628640"/>
            <a:ext cx="716256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варите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ясо вместе с кореньями. В бульон нужно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лить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месь муки с маслом, сметаной и желтками. Когда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чувствуете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что суп почти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варился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то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ледите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чтобы смесь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булькала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Хорошо 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было бы положить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 суп ломтики лимона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 с лимоно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4" descr="j0215789"/>
          <p:cNvPicPr/>
          <p:nvPr/>
        </p:nvPicPr>
        <p:blipFill>
          <a:blip r:embed="rId1"/>
          <a:stretch/>
        </p:blipFill>
        <p:spPr>
          <a:xfrm>
            <a:off x="6372360" y="4906800"/>
            <a:ext cx="1962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971640" y="633240"/>
          <a:ext cx="7715160" cy="591048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1250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мматические признаки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ершенный – несовер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(-ать, -ять,-уть) –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(-ить, 7 на -еть, 4 на -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ъявительное, сослагательное, повел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стоящее, прошедшее, буду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динственное – множе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лицо, 2 лицо, 3 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 ( в прош. времен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жской, женский, 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кус блюду придаёт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рошее настроение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этому перед подачей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юда на стол не забудьте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???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.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 повар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4" descr="j0250807"/>
          <p:cNvPicPr/>
          <p:nvPr/>
        </p:nvPicPr>
        <p:blipFill>
          <a:blip r:embed="rId1"/>
          <a:stretch/>
        </p:blipFill>
        <p:spPr>
          <a:xfrm>
            <a:off x="7236000" y="4255920"/>
            <a:ext cx="16300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-171720"/>
            <a:ext cx="82296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ыбка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икну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верка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меятьс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0:35:45Z</dcterms:created>
  <dc:creator>Comp7</dc:creator>
  <dc:description/>
  <dc:language>en-US</dc:language>
  <cp:lastModifiedBy>Учитель</cp:lastModifiedBy>
  <dcterms:modified xsi:type="dcterms:W3CDTF">2015-03-15T17:44:23Z</dcterms:modified>
  <cp:revision>29</cp:revision>
  <dc:subject/>
  <dc:title>Школа волшебных поваров </dc:title>
</cp:coreProperties>
</file>