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ACF-5A85-4798-A81E-5B4AF20B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344-8BD0-4114-BA5F-485A1A7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F73-26D9-4886-9C1D-356C776D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C1E-1D9B-487F-AD3D-70B0AAB3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3CDF-085C-496B-AC30-438708F8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5CA-82F1-4141-9A5D-2B7F894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CD79-8234-4612-8319-1CABB82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BB3B-A330-4779-88CC-8C9207B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13A-64AD-4F90-9BC6-5683AFA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ACC-8791-427E-82BE-B5AE0341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56AD-ECC7-4ED6-AA8A-4077ADC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E2F-26C7-4726-BCBC-B969EE2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2AB-1098-41A8-AD41-056046D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7889-FFAA-4EB3-8F04-5BD576D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4FD1-BD8B-4DE9-8168-E238FE2A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1A6-9AA3-44C5-9575-81309E0F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C856-DAC0-4E59-9B0C-A1D0F822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AE5C-8925-4001-B091-0A14D658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E93F-9694-4F61-81F0-3D61DC6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F425-76A9-4315-B655-C89EBDC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CEFF-3BD4-4C82-86CC-39A5829B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3755-EC11-4B86-9E1F-DFA1B19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F19-202B-4D66-9027-E29C6EA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5729-E4E8-4FFC-B97F-AFCCDC3B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9137-3431-4BEA-8966-7B1AD75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442F-199F-4318-BEA1-88A9281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9C53-AF9F-4078-995D-9976547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1567-6194-4131-B859-F0B11BE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7420-C8FA-4ABD-ABF4-27C3243A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4705-6FE2-4FBE-9692-1447D202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661C-40F2-492B-9B9A-33FE01D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5D52-4FD4-4770-9A7F-9EE5D24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0FBF-3A95-4572-93D0-CD21D700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A9A-9D8B-45AA-8F27-CEE439AD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36A1-614C-42D0-879F-154FA64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682E-9C6C-4249-9E6C-A3314FC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DA7E-A00E-452A-8CF4-3E95A2B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0E58-4584-43C2-87D7-6B04E39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4591-F58F-4120-80E9-7691C9A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CD40-C5EA-432D-8277-0C14372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AF76-2C0D-4365-B21C-30B7E2ED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6DC7-8DF9-4779-931E-0FFEFEFC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7B0A-5D4E-429D-87BE-E438983F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F1A0-B993-45A4-A6FE-CB4F3BB5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383-B5E1-45EC-9C2A-E29B2AEB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F3C7-01A5-4EB4-AFA2-C5044A61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33254-26B5-4818-9B5A-215C76AC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B10B-B9A4-4B2B-9EE7-4396BEA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1BEC-823F-4220-9FE5-D10B9F2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640B-4B5D-41CC-8CC9-E3920D53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F7F0-00DF-4D65-8E5A-6C5A237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D616-AB78-49C3-9B33-1CE0C96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63DE-4AE8-4C71-87ED-AE6D376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7237-8B20-4F8C-A833-12E0834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9E9D-D431-49ED-8087-1C677675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FB5-4EBB-4B56-A26D-CD0FC34F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4D6D-C23B-4E10-B337-51C5EE35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97EF-2AD0-44E3-81BA-305BAAA1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547D-1E7E-4D0B-A28B-4353A53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9D906-790A-4C0F-82FD-D6680F2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7E9D-4869-4C11-9A38-A67DF657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6A55-45C7-42CC-B5B1-29ADEDF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7480-9EEC-4C57-ABFF-16838598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0262-6B20-46E6-8854-DC43A99C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2BB0-210F-43BB-BCC9-F7795E6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E361-051F-407F-851E-181EAC3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C3B-3BB6-4F9D-818B-59C00D1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540D-3F5F-49FE-83FA-D56AC730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C252-DD0F-4917-8D2E-E3EC26B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BA89-3D81-41A8-8713-14530E3F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3BE9-3D12-41A8-9BFC-9FB9EB71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D783-31ED-4039-9D85-304E625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3D52-4958-44A4-9E4F-4BAE7DB9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7182-FF7E-4804-AF8E-93697F0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C77E1-5436-444B-B315-9E616FD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8524C-4ABD-4744-85C6-F160ACFD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CD57-7FEB-491F-BAC1-22C2702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616-0876-4BF6-A367-8CADC51D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1ECB-DDCC-4946-81B1-C42B0A4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71A0-24EA-412F-8A7E-ED282C3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6BE9-2422-4241-A3FE-526A07B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19EB-D2C3-402D-B3EB-E6DEE83E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BEB5-23CA-4C16-9D7D-3C16C31E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75E-6BBA-49A0-8FB8-A3AECDD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C3B-9CD1-47C7-A33C-2AABCDAC91C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40F-3287-4316-A756-FE62C9BDA009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430-3BC4-46F7-A045-CE4BFEEAA0E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2CB-5C11-48ED-934A-DFD06EC83A9C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87F-FF5D-4763-9203-46A9B0A15B1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6043-637E-411B-ABAB-29EC5EB049F1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A9B-D451-4656-B501-44D5A818E9B8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Урок русского язы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в 5 класс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: Свечкова А.Н.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БОУ СОШ № 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меять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я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кус блюду придаё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орошее настроение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этому перед подач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люда на стол не забудьте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 пова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4" descr="j0250807"/>
          <p:cNvPicPr/>
          <p:nvPr/>
        </p:nvPicPr>
        <p:blipFill>
          <a:blip r:embed="rId1"/>
          <a:stretch/>
        </p:blipFill>
        <p:spPr>
          <a:xfrm>
            <a:off x="7236000" y="4255920"/>
            <a:ext cx="1630080" cy="186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rcRect l="0" t="14883" r="13287" b="15050"/>
          <a:stretch/>
        </p:blipFill>
        <p:spPr>
          <a:xfrm>
            <a:off x="3165480" y="4616280"/>
            <a:ext cx="26337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62864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динг – запечённое блюдо из крупы, яиц с овощами или фруктами.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«Толковый словарь» С.И. Ожег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динг из овоще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6" descr="j0250604"/>
          <p:cNvPicPr/>
          <p:nvPr/>
        </p:nvPicPr>
        <p:blipFill>
          <a:blip r:embed="rId1"/>
          <a:stretch/>
        </p:blipFill>
        <p:spPr>
          <a:xfrm>
            <a:off x="6372360" y="3968640"/>
            <a:ext cx="22320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ndara"/>
              </a:rPr>
              <a:t>    </a:t>
            </a: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Задание: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прочитайте рецепт;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вставьте пропущенные буквы;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обозначьте и объясните орфограммы, встретившиеся в словах на месте пропуск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Овощи  отварива..м. Отдельно раст..раем масло с желтками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(Не) торопитесь, ждите, когда овощная масса остудит(?)ся !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Добавляем масло, желтки и зелёный горошек. После нужно  выложить овощи в форму и запеч.. в духовке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  <a:ea typeface="Trebuchet MS"/>
              </a:rPr>
              <a:t>Пудинг из овощей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4" descr="j0250604"/>
          <p:cNvPicPr/>
          <p:nvPr/>
        </p:nvPicPr>
        <p:blipFill>
          <a:blip r:embed="rId1"/>
          <a:stretch/>
        </p:blipFill>
        <p:spPr>
          <a:xfrm>
            <a:off x="790560" y="330120"/>
            <a:ext cx="16192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вощи  отварива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. Отдельно раст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ем масло с желтками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Не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ропитесь, ждите, когда овощная масса остуди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с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!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бавляем масло, желтки и зелёный горошек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нужно выложить овощи в форму и запеч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духов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динг из овощей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8" descr="j0250604"/>
          <p:cNvPicPr/>
          <p:nvPr/>
        </p:nvPicPr>
        <p:blipFill>
          <a:blip r:embed="rId1"/>
          <a:stretch/>
        </p:blipFill>
        <p:spPr>
          <a:xfrm>
            <a:off x="971640" y="446040"/>
            <a:ext cx="16192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серт – фрукты, конфеты или сладкое блюдо, подаваемое в конце обеда.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«Толковый словарь» С.И. Ожег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исуйте блюдо, которое вы приготовите на десерт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пишите пять глаголов, которы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скажут, что вы дела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ерт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8" descr="j0290203"/>
          <p:cNvPicPr/>
          <p:nvPr/>
        </p:nvPicPr>
        <p:blipFill>
          <a:blip r:embed="rId1"/>
          <a:stretch/>
        </p:blipFill>
        <p:spPr>
          <a:xfrm>
            <a:off x="6372360" y="4724280"/>
            <a:ext cx="17636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638440" y="1797120"/>
            <a:ext cx="4167000" cy="37767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971640" y="-1713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999360" y="-171360"/>
            <a:ext cx="44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679840" y="135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679840" y="-44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0" y="-184320"/>
            <a:ext cx="93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-171360"/>
            <a:ext cx="7116480" cy="31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rebuchet MS"/>
              </a:rPr>
              <a:t>Школа волшебных повар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71640" y="3428640"/>
            <a:ext cx="54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04040"/>
                </a:solidFill>
                <a:latin typeface="Candara"/>
              </a:rPr>
              <a:t>«Готовим     праздничный обед»</a:t>
            </a:r>
            <a:endParaRPr b="0" lang="en-US" sz="3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8" name="Picture 4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486160" y="1509840"/>
            <a:ext cx="4171680" cy="38383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971640" y="-171360"/>
            <a:ext cx="720072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481120" y="1319040"/>
            <a:ext cx="4181760" cy="42199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971640" y="-44928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j0215789"/>
          <p:cNvPicPr/>
          <p:nvPr/>
        </p:nvPicPr>
        <p:blipFill>
          <a:blip r:embed="rId1"/>
          <a:stretch/>
        </p:blipFill>
        <p:spPr>
          <a:xfrm>
            <a:off x="971640" y="3176640"/>
            <a:ext cx="3055680" cy="264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j0290203"/>
          <p:cNvPicPr/>
          <p:nvPr/>
        </p:nvPicPr>
        <p:blipFill>
          <a:blip r:embed="rId2"/>
          <a:stretch/>
        </p:blipFill>
        <p:spPr>
          <a:xfrm>
            <a:off x="6372360" y="3429000"/>
            <a:ext cx="2387520" cy="2352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j0250604"/>
          <p:cNvPicPr/>
          <p:nvPr/>
        </p:nvPicPr>
        <p:blipFill>
          <a:blip r:embed="rId3"/>
          <a:stretch/>
        </p:blipFill>
        <p:spPr>
          <a:xfrm>
            <a:off x="3633840" y="1628640"/>
            <a:ext cx="2914560" cy="2222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971640" y="-1713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879480" y="-1713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879480" y="13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879480" y="-171360"/>
            <a:ext cx="72928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товим  праздничный обед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 обозначае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йствие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ывает предме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j0230674"/>
          <p:cNvPicPr/>
          <p:nvPr/>
        </p:nvPicPr>
        <p:blipFill>
          <a:blip r:embed="rId2"/>
          <a:stretch/>
        </p:blipFill>
        <p:spPr>
          <a:xfrm rot="16200000">
            <a:off x="2044440" y="4678200"/>
            <a:ext cx="10368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ы совершенного вида отвечают на вопрос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елать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сделать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1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j0230674"/>
          <p:cNvPicPr/>
          <p:nvPr/>
        </p:nvPicPr>
        <p:blipFill>
          <a:blip r:embed="rId2"/>
          <a:stretch/>
        </p:blipFill>
        <p:spPr>
          <a:xfrm rot="16395600">
            <a:off x="2654280" y="4671360"/>
            <a:ext cx="1036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д определяют у глагол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тоящего време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шедшег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еме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5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глаголами пишетс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дельн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итно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п вы будете куша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ожкой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лкой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3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9800" y="162864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волшебных повар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771640" y="3428640"/>
            <a:ext cx="54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отовим     праздничный обед»</a:t>
            </a:r>
            <a:endParaRPr b="0" lang="en-US" sz="3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7" name="Picture 4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чных знаний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ятного аппетита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9" name="Picture 3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9800" y="117792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: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торить сведения о глаголе;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нать рецепты приготовления нескольких праздничных блюд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71280" y="1628280"/>
            <a:ext cx="7715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andara"/>
              </a:rPr>
              <a:t>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ndara"/>
              </a:rPr>
              <a:t>одеть?                         надеть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еть –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покрыть одеждой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 употребляется с одушевлёнными существительным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имер: одеть (кого?) малыш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деть -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укрепить что-либо на чём-либо». Глагол употребляется с неодушевлёнными существительны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имер: надеть (что?) браслет, плащ, шапку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rebuchet MS"/>
              </a:rPr>
              <a:t>Важное правил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j0223784"/>
          <p:cNvPicPr/>
          <p:nvPr/>
        </p:nvPicPr>
        <p:blipFill>
          <a:blip r:embed="rId1"/>
          <a:stretch/>
        </p:blipFill>
        <p:spPr>
          <a:xfrm>
            <a:off x="3900600" y="1628640"/>
            <a:ext cx="1342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628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читайте рецепт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йдите  все глагол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черкните глаголы как члены предлож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варите мясо вместе с кореньями. В бульон нужно влить смесь муки с маслом, сметаной и желтками. Когда почувствуете, что суп почти сварился, то следите, чтобы смесь не булькала. Хорошо было бы добавить в суп ломтики лимон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 с лимоно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4" descr="j0215789"/>
          <p:cNvPicPr/>
          <p:nvPr/>
        </p:nvPicPr>
        <p:blipFill>
          <a:blip r:embed="rId1"/>
          <a:stretch/>
        </p:blipFill>
        <p:spPr>
          <a:xfrm>
            <a:off x="971640" y="154080"/>
            <a:ext cx="14824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71640" y="1628640"/>
            <a:ext cx="71625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вари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ясо вместе с кореньями. В бульон нужн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лить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месь муки с маслом, сметаной и желтками. Когда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чувствуе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что суп почти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варился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т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леди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чтобы смесь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булькала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Хорош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было бы положить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суп ломтики лимона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 с лимоно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4" descr="j0215789"/>
          <p:cNvPicPr/>
          <p:nvPr/>
        </p:nvPicPr>
        <p:blipFill>
          <a:blip r:embed="rId1"/>
          <a:stretch/>
        </p:blipFill>
        <p:spPr>
          <a:xfrm>
            <a:off x="6372360" y="4906800"/>
            <a:ext cx="1962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971640" y="633240"/>
          <a:ext cx="7715160" cy="591048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1250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мматические признак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ершенный – несовер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(-ать, -ять,-уть)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(-ить, 7 на -еть, 4 на -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ъявительное, сослагательное, пове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тоящее, прошедшее,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инственное – множе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лицо, 2 лицо, 3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 ( в прош. времен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, женский, 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кус блюду придаё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рошее настроение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этому перед подачей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юда на стол не забудьте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 пова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4" descr="j0250807"/>
          <p:cNvPicPr/>
          <p:nvPr/>
        </p:nvPicPr>
        <p:blipFill>
          <a:blip r:embed="rId1"/>
          <a:stretch/>
        </p:blipFill>
        <p:spPr>
          <a:xfrm>
            <a:off x="7236000" y="4255920"/>
            <a:ext cx="16300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ыб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икну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верка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меятьс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35:45Z</dcterms:created>
  <dc:creator>Comp7</dc:creator>
  <dc:description/>
  <dc:language>en-US</dc:language>
  <cp:lastModifiedBy>Учитель</cp:lastModifiedBy>
  <dcterms:modified xsi:type="dcterms:W3CDTF">2015-03-15T17:44:23Z</dcterms:modified>
  <cp:revision>29</cp:revision>
  <dc:subject/>
  <dc:title>Школа волшебных поваров </dc:title>
</cp:coreProperties>
</file>